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1.jpeg" ContentType="image/jpeg"/>
  <Override PartName="/ppt/media/image6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B571-E3DA-443C-AEFB-8682C61EA8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5BC3-5C1A-4923-9C53-9CF6D4F63E49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DA5-C98F-41A9-8EAC-B05E9C04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068-43AD-424F-8A77-438D034C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BF2-1DD6-44DB-905D-63A66B1C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F2B-FE88-4AA9-87C2-F903D171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003-5580-4372-AE7C-008DC0C9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9CC-3DA5-439F-B978-2B713B7B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CA4-30B1-4283-B04E-B61448D9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B9B-F07A-4821-9C35-D6FBF6AB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786-602A-44D5-9CB5-E5677057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149-639A-4FD4-87EB-C6397B8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A79-8455-41CD-AC99-82DFAFAC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0C8-75A5-4C66-BA43-2EEC46B0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48BE-4B89-4310-9FE2-5B3D956EC8B4}" type="slidenum"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765000"/>
            <a:ext cx="6249960" cy="587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80808"/>
                </a:solidFill>
                <a:latin typeface="Times New Roman"/>
              </a:rPr>
              <a:t>Проектная деятельность на уроках физики</a:t>
            </a:r>
            <a:br>
              <a:rPr sz="6600"/>
            </a:br>
            <a:br>
              <a:rPr sz="6600"/>
            </a:br>
            <a:r>
              <a:rPr b="1" i="1" lang="ru-RU" sz="2000" spc="-1" strike="noStrike">
                <a:solidFill>
                  <a:srgbClr val="080808"/>
                </a:solidFill>
                <a:latin typeface="Times New Roman"/>
              </a:rPr>
              <a:t>Масалкова Е. В. </a:t>
            </a:r>
            <a:br>
              <a:rPr sz="2000"/>
            </a:br>
            <a:r>
              <a:rPr b="1" i="1" lang="ru-RU" sz="2000" spc="-1" strike="noStrike">
                <a:solidFill>
                  <a:srgbClr val="080808"/>
                </a:solidFill>
                <a:latin typeface="Times New Roman"/>
              </a:rPr>
              <a:t>2014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459280" y="1769760"/>
            <a:ext cx="730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Анкета «Ты и музыка»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361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Считаешь ли ты, что некоторые жанры музыки могут отрицательно влиять на организм человека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77" name="Object 7"/>
          <p:cNvGraphicFramePr/>
          <p:nvPr/>
        </p:nvGraphicFramePr>
        <p:xfrm>
          <a:off x="4975200" y="1770120"/>
          <a:ext cx="40719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5200" y="1770120"/>
                    <a:ext cx="4071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Результаты исследования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Очень низкие частоты неблагоприятно влияют на организм человека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Музыка может оказывать на человека как положительное так и отрицательное влияние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В опросе принимали участие 20 учеников 9Б класса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76320"/>
            <a:ext cx="8582040" cy="27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Фрагменты презентации проекта Хорошилова Анатолия и Брылёва Дмитрия</a:t>
            </a:r>
            <a:br>
              <a:rPr sz="4000"/>
            </a:b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«Энергосберегающие технологии в быту»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2" name="Picture 7" descr="P1020430"/>
          <p:cNvPicPr/>
          <p:nvPr/>
        </p:nvPicPr>
        <p:blipFill>
          <a:blip r:embed="rId1"/>
          <a:stretch/>
        </p:blipFill>
        <p:spPr>
          <a:xfrm>
            <a:off x="1763640" y="3645000"/>
            <a:ext cx="3667320" cy="2589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P1020511"/>
          <p:cNvPicPr/>
          <p:nvPr/>
        </p:nvPicPr>
        <p:blipFill>
          <a:blip r:embed="rId2"/>
          <a:stretch/>
        </p:blipFill>
        <p:spPr>
          <a:xfrm>
            <a:off x="6156360" y="3213000"/>
            <a:ext cx="2519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222"/>
          <p:cNvPicPr/>
          <p:nvPr/>
        </p:nvPicPr>
        <p:blipFill>
          <a:blip r:embed="rId1"/>
          <a:stretch/>
        </p:blipFill>
        <p:spPr>
          <a:xfrm>
            <a:off x="1647720" y="76320"/>
            <a:ext cx="714384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75960"/>
            <a:ext cx="8510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Недостатки ламп накаливания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5832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Низкая световая отдача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Малый срок службы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Представляют пожарную опасность (через 30 мин. работы её температура 330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°</a:t>
            </a: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С)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В световую энергию переходит только 4% электроэнергии.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7" name="Picture 7" descr="light-bulb-glowing-filament-light-blue-uncropped-3-AHD"/>
          <p:cNvPicPr/>
          <p:nvPr/>
        </p:nvPicPr>
        <p:blipFill>
          <a:blip r:embed="rId1"/>
          <a:stretch/>
        </p:blipFill>
        <p:spPr>
          <a:xfrm>
            <a:off x="5940360" y="1773360"/>
            <a:ext cx="294804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26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Фрагмент презентации проекта Дмитриева Владимира</a:t>
            </a:r>
            <a:br>
              <a:rPr sz="4000"/>
            </a:b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«Рост кристаллов».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9" name="Picture 6" descr="P6230956"/>
          <p:cNvPicPr/>
          <p:nvPr/>
        </p:nvPicPr>
        <p:blipFill>
          <a:blip r:embed="rId1"/>
          <a:stretch/>
        </p:blipFill>
        <p:spPr>
          <a:xfrm>
            <a:off x="3059280" y="2133720"/>
            <a:ext cx="31636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72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Рост кристаллов медного купороса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Picture 13" descr="Химический стакан с насыщенным раствором медного купороса"/>
          <p:cNvPicPr/>
          <p:nvPr/>
        </p:nvPicPr>
        <p:blipFill>
          <a:blip r:embed="rId1"/>
          <a:stretch/>
        </p:blipFill>
        <p:spPr>
          <a:xfrm>
            <a:off x="826920" y="1268280"/>
            <a:ext cx="2079720" cy="287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кристаллическая затравка на нитке"/>
          <p:cNvPicPr/>
          <p:nvPr/>
        </p:nvPicPr>
        <p:blipFill>
          <a:blip r:embed="rId2"/>
          <a:stretch/>
        </p:blipFill>
        <p:spPr>
          <a:xfrm>
            <a:off x="4643280" y="1197000"/>
            <a:ext cx="1357560" cy="2874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кристалл медногокупороса (через трое суток после начала опыта)"/>
          <p:cNvPicPr/>
          <p:nvPr/>
        </p:nvPicPr>
        <p:blipFill>
          <a:blip r:embed="rId3"/>
          <a:stretch/>
        </p:blipFill>
        <p:spPr>
          <a:xfrm>
            <a:off x="3132000" y="3284640"/>
            <a:ext cx="1204920" cy="287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cuso4"/>
          <p:cNvPicPr/>
          <p:nvPr/>
        </p:nvPicPr>
        <p:blipFill>
          <a:blip r:embed="rId4"/>
          <a:stretch/>
        </p:blipFill>
        <p:spPr>
          <a:xfrm>
            <a:off x="6227640" y="3284640"/>
            <a:ext cx="246564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75960"/>
            <a:ext cx="8510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Times New Roman"/>
              </a:rPr>
              <a:t>Лучшие друзья девушек – бриллианты.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6" name="Picture 6" descr="9"/>
          <p:cNvPicPr/>
          <p:nvPr/>
        </p:nvPicPr>
        <p:blipFill>
          <a:blip r:embed="rId1"/>
          <a:stretch/>
        </p:blipFill>
        <p:spPr>
          <a:xfrm>
            <a:off x="1187280" y="1413000"/>
            <a:ext cx="77695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80808"/>
                </a:solidFill>
                <a:latin typeface="Times New Roman"/>
              </a:rPr>
              <a:t>Знание – это то, что остаётся, когда всё, чему тебя учили, забудется.</a:t>
            </a:r>
            <a:endParaRPr b="0" lang="en-US" sz="6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«Скажи мне – я забуду.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Покажи мне – я смогу запомнить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Позволь мне сделать это самому – и это станет моим навсегда»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23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Слово «проект» в буквальном переводе с латинского – брошенный вперед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2565000"/>
            <a:ext cx="36198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38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d0389"/>
                </a:solidFill>
                <a:latin typeface="Tahoma"/>
              </a:rPr>
              <a:t>Применительно к школе образовательный проект рассматривается как совместная учебно-познавательная, творческая или игровая деятельность учащихся,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38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d0389"/>
                </a:solidFill>
                <a:latin typeface="Tahoma"/>
              </a:rPr>
              <a:t>имеющая общую цель, согласованные методы и способы деятельности, направленные на достижение общего результата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4" name="Picture 7" descr="j0300840"/>
          <p:cNvPicPr/>
          <p:nvPr/>
        </p:nvPicPr>
        <p:blipFill>
          <a:blip r:embed="rId1"/>
          <a:stretch/>
        </p:blipFill>
        <p:spPr>
          <a:xfrm>
            <a:off x="5148360" y="2637000"/>
            <a:ext cx="383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73821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Достоинства метода проектов</a:t>
            </a:r>
            <a:r>
              <a:rPr b="1" i="1" lang="en-US" sz="4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76360" y="1268280"/>
            <a:ext cx="48960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учащиеся видят перед собой конечный результат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выявляются и развиваются творческие и деловые способности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учитываются индивидуальные особенности учеников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7" name="Picture 7" descr="j0229913"/>
          <p:cNvPicPr/>
          <p:nvPr/>
        </p:nvPicPr>
        <p:blipFill>
          <a:blip r:embed="rId1"/>
          <a:stretch/>
        </p:blipFill>
        <p:spPr>
          <a:xfrm>
            <a:off x="6516720" y="3033720"/>
            <a:ext cx="26272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-313560"/>
            <a:ext cx="738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268280"/>
            <a:ext cx="412776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Метод проектов помогает ученикам превращать информацию в знания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60" name="Picture 7" descr="j0299171"/>
          <p:cNvPicPr/>
          <p:nvPr/>
        </p:nvPicPr>
        <p:blipFill>
          <a:blip r:embed="rId1"/>
          <a:stretch/>
        </p:blipFill>
        <p:spPr>
          <a:xfrm>
            <a:off x="5867280" y="1268280"/>
            <a:ext cx="30258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Темы проектов по физике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1125000"/>
            <a:ext cx="52801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Проектирование и создание модели фонтана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Проектирование и изготовление калейдоскопа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Наблюдение за ростом кристаллов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Энергосберегающие лампы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:</a:t>
            </a: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 за и против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Водород - топливо будущего</a:t>
            </a:r>
            <a:r>
              <a:rPr b="1" i="1" lang="ru-RU" sz="24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63" name="Picture 8" descr="7248387"/>
          <p:cNvPicPr/>
          <p:nvPr/>
        </p:nvPicPr>
        <p:blipFill>
          <a:blip r:embed="rId1"/>
          <a:stretch/>
        </p:blipFill>
        <p:spPr>
          <a:xfrm>
            <a:off x="6516720" y="2133720"/>
            <a:ext cx="23954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260280"/>
            <a:ext cx="362448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Фрагмент презентации проекта Анастасии Курышевой «Влияние музыки разных жанров на организм человека с точки зрения физики»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66" name="Picture 7" descr="P1010499"/>
          <p:cNvPicPr/>
          <p:nvPr/>
        </p:nvPicPr>
        <p:blipFill>
          <a:blip r:embed="rId1"/>
          <a:stretch/>
        </p:blipFill>
        <p:spPr>
          <a:xfrm>
            <a:off x="5292720" y="1125360"/>
            <a:ext cx="36194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Анкета «Ты и музыка»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484280"/>
            <a:ext cx="72961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Какую музыку ты предпочитаешь слушать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69" name="Object 8"/>
          <p:cNvGraphicFramePr/>
          <p:nvPr/>
        </p:nvGraphicFramePr>
        <p:xfrm>
          <a:off x="2700360" y="3284640"/>
          <a:ext cx="6211800" cy="31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284640"/>
                    <a:ext cx="621180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0808"/>
                </a:solidFill>
                <a:latin typeface="Times New Roman"/>
              </a:rPr>
              <a:t>Анкета «Ты и музыка»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483920"/>
            <a:ext cx="72961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0808"/>
                </a:solidFill>
                <a:latin typeface="Times New Roman"/>
              </a:rPr>
              <a:t>Слушаешь ли ты музыку во время выполнения домашнего задания</a:t>
            </a:r>
            <a:r>
              <a:rPr b="1" i="1" lang="en-US" sz="3600" spc="-1" strike="noStrike">
                <a:solidFill>
                  <a:srgbClr val="08080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3059280" y="2781360"/>
          <a:ext cx="40845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781360"/>
                    <a:ext cx="40845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7:44:25Z</dcterms:created>
  <dc:creator>elena</dc:creator>
  <dc:description/>
  <cp:keywords/>
  <dc:language>en-US</dc:language>
  <cp:lastModifiedBy>Elena</cp:lastModifiedBy>
  <dcterms:modified xsi:type="dcterms:W3CDTF">2017-09-16T09:00:20Z</dcterms:modified>
  <cp:revision>33</cp:revision>
  <dc:subject/>
  <dc:title>Проектная деятельность на уроках физ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9</vt:lpwstr>
  </property>
</Properties>
</file>