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57ED-888D-476A-BF04-5C38F7FE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0039-E592-4057-ADBE-DF6923B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E796-8526-4CFD-BC71-0F7FEAD5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F98-07DB-4829-86FE-DEEF2E9D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45A-32CD-47DD-BFFA-6D820A5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FC28-4F30-4D98-BC71-92A839D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708C-25D6-41AF-8CEE-C877B486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D96-AF4B-4F8B-8A0A-EAB4A5AB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DDF-850A-4B6C-8167-3B284E5B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6B0-562E-4F10-AE76-1DDEF20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87F-9FF2-4CB5-86A5-27D986D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E59F-3E3C-4BE2-9C54-62CD504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0703-03ED-417A-A175-24F9DD0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0F7C-D3D3-4945-BB95-3498A45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9A6-5EC3-4A6F-AE5B-718C282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8FE6-54F1-4467-983B-59D64AF6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FD60-9715-4013-B761-AD4660F8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B38A-80FE-48AF-A0A4-4568F74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80DA-C164-4CB7-AF36-1C6E9BE7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4788-192F-42DF-88A8-5CEB79F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9DAC-6692-4559-86E6-FF6D7F4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1361-D834-4EF7-95C4-A7638D5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14FA-FF6A-4566-A840-4A7F8FF6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4F66-3904-45EF-80B6-52843C4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6E8-B1AE-40D8-857F-F6390EB05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0CD7-84E4-4827-B43A-7AA4DFD05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электрического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химическ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63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середины 19 века химическое действие тока используется для нанесения тонких слоев серебра на более дешевую основ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908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гнитн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ное дей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ка связано с т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вокруг люб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одника с то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ется магни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, которо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которые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05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магнитн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2098800" cy="2913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663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магниты – основная составная часть электромагнитных подъемных кранов, магнитных замков, электрических звонков, динамиков громкоговорителей и телеф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5416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ческое действие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ое действие тока связано с тем, что на виток с током, помещенный в магнитное поле, действует сила, вызывающая поворот витка. Этот принцип лежит в основе работы всех электродвиг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809640" y="161928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5207040" y="160020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механическ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двигатели находят самое широкое применение в быту, промышленности, транспо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43624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581280" cy="56498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2789280" cy="3054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2094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28880" cy="2896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427640" y="692280"/>
            <a:ext cx="4348080" cy="2912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2843280" cy="2911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882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ное действие тока лежит в основе работы электроизмерительных приборов (амперметров и вольтметр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267000" cy="32338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252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лаем успехов в дальнейшем изучении физик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ческий ток – это направл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заряженных частиц. В метал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и частицами являются элект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311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электронов по проводам у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озможно, поэтому о наличии тока в   проводнике можно судить только по его       действиям на окружающи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333600" y="3943440"/>
            <a:ext cx="2475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йствия электрического ток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пловое и светов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имическ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гнит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чес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лов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405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ловое действие  тока основано на том, что любой проводник ,по которому течет ток, нагревается и отдает свое тепло окружающей среде. Этот принцип лежит в основе работы любого электронагревательного при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305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теплового действия тока в бы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1567080" cy="2190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1116000" y="4437000"/>
            <a:ext cx="2738520" cy="2190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2550960" cy="255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2724120" cy="2587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550960" cy="2551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4648320" y="3943080"/>
            <a:ext cx="4038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ов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26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овое действие тока связано с тепловым. Если металлическое тело нагреть до определенной температуры, то оно начнет светиться. Этот принцип лежит в основе работы электрической лампы н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2998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ое действие  связано с тем, что ток, проходя через растворы и расплавы веществ, может вызвать реакцию. В результате реакции на  одном из электродов будет выделяться чистый мет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270240" cy="21909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29001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9:15:34Z</dcterms:created>
  <dc:creator>elena</dc:creator>
  <dc:description/>
  <dc:language>en-US</dc:language>
  <cp:lastModifiedBy>elena</cp:lastModifiedBy>
  <dcterms:modified xsi:type="dcterms:W3CDTF">2010-02-13T12:29:08Z</dcterms:modified>
  <cp:revision>38</cp:revision>
  <dc:subject/>
  <dc:title>    Действия электрического  т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