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5A8A-C7A6-4B74-A2BE-C25DB595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4B90-FF4C-4D56-9A84-27CB658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9000-EEA1-4E3F-9698-547DA1E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B0C-7605-425C-9A28-245B3C5A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F74-A117-4D84-AFF3-FBFF3CF4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688-F588-4D97-B743-8E0130A4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655-104B-4CC0-AA9F-72FB6DE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616-C7B6-4072-9A70-05E7B14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D26-D5CC-42C3-9305-B108F9F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4E83-C27D-44F0-9195-CE25AED7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CC1-BD57-44FE-8EA7-50443DC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9068-1AD6-4E88-A759-87EDB3BD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D327-8EF0-402E-8554-BF999BB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C67-A6D3-4064-A75B-0E722B8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B929-9B87-41A8-ADD7-71FAD80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993-D3EC-4EBA-9680-9535FD52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A142-0B30-4E41-8CA6-F3A3E72D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BEF6-C7B8-48CB-A45E-E71FE6A6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8C89-B490-434B-B446-5346991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128E-B5E1-48B8-9B50-16BA0A1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0C81-8F76-4638-B18A-3C6D8E06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8D40-2111-4B40-9A86-858440E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CD99-CC41-4DFA-B7BA-C75BE66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AC5F-476B-481F-B9C4-187B9BB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35F-E4FE-4660-B3F7-442D879501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F56-B238-493A-AABE-CB710DAA52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электрического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химическ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63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середины 19 века химическое действие тока используется для нанесения тонких слоев серебра на более дешевую основ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908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гнитн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ное дей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ка связано с т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вокруг люб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одника с то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ется магни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, которо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азывать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которые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05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магнитн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2098800" cy="2913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6630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магниты – основная составная часть электромагнитных подъемных кранов, магнитных замков, электрических звонков, динамиков громкоговорителей и телеф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5416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ческое действие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ое действие тока связано с тем, что на виток с током, помещенный в магнитное поле, действует сила, вызывающая поворот витка. Этот принцип лежит в основе работы всех электродвиг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809640" y="161928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5207040" y="160020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механического действия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двигатели находят самое широкое применение в быту, промышленности, транспо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43624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581280" cy="56498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2789280" cy="3054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2094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28880" cy="2896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427640" y="692280"/>
            <a:ext cx="4348080" cy="2912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2843280" cy="2911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882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ное действие тока лежит в основе работы электроизмерительных приборов (амперметров и вольтметр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267000" cy="32338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252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лаем успехов в дальнейшем изучении физик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ческий ток – это направл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заряженных частиц. В метал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и частицами являются элект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311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электронов по проводам у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озможно, поэтому о наличии тока в   проводнике можно судить только по его       действиям на окружающи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333600" y="3943440"/>
            <a:ext cx="2475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йствия электрического ток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пловое и светов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имическ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гнит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чес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лов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405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ловое действие  тока основано на том, что любой проводник ,по которому течет ток, нагревается и отдает свое тепло окружающей среде. Этот принцип лежит в основе работы любого электронагревательного при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305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теплового действия тока в бы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1567080" cy="2190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1116000" y="4437000"/>
            <a:ext cx="2738520" cy="2190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2550960" cy="255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2724120" cy="2587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550960" cy="2551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4648320" y="3943080"/>
            <a:ext cx="4038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ов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26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овое действие тока связано с тепловым. Если металлическое тело нагреть до определенной температуры, то оно начнет светиться. Этот принцип лежит в основе работы электрической лампы н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2998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ое действие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ое действие  связано с тем, что ток, проходя через растворы и расплавы веществ, может вызвать реакцию. В результате реакции на  одном из электродов будет выделяться чистый мет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270240" cy="21909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29001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9:15:34Z</dcterms:created>
  <dc:creator>elena</dc:creator>
  <dc:description/>
  <dc:language>en-US</dc:language>
  <cp:lastModifiedBy>elena</cp:lastModifiedBy>
  <dcterms:modified xsi:type="dcterms:W3CDTF">2010-02-13T12:29:08Z</dcterms:modified>
  <cp:revision>38</cp:revision>
  <dc:subject/>
  <dc:title>    Действия электрического  т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