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D357-5657-471E-8F94-145DFE946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5C15-639D-4F07-832B-6A2A9D05B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9CA8-28AB-4CA7-98C4-06C0DA2ED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E9B6-4828-41C0-812F-CCFDEBC9D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08F3A-5443-4D89-A01D-128A1E6D6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4A474-9CDB-4F44-A2AE-536B04D0D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1B816-5AC7-459E-B8C3-1FFE65BD8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43CDA-32BB-43C8-90C0-F1145F8BF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84629-C80F-4423-B939-F286035C8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6AA79-EC5F-49BE-AF53-2AD6736F5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62F80-335E-43D9-A03B-5CA9EEF6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8E59-A435-4F04-B973-85DEBFE01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36BD1-0388-416C-BE35-D6EDA50ED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46255-2E4B-4A5D-839C-610C3D543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F5459-DCEB-4564-A046-8304B4195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94120-7205-48EA-A1FD-7E702C1E7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46130-ED9D-4DB0-85BF-BE547383E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054D-AA77-442C-A78E-FBAFDBFA8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7188-115E-4DD3-A1C7-E95DCD7DF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52AF-AC5E-40F2-9486-CC9CAAC46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A4F1-606B-4D39-AE6C-DA7E93875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642C-42B3-4E32-8F0D-03F768664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381F-00A1-417F-A31C-C4183BE31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EAE3-0A0B-43A2-B3B4-ED94E67D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d6dae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d6dae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97190-0E28-4E21-9B5C-B3AD1FF6635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3333cc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88F70-9B41-43AE-AFB4-2B059BFCEE1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71360"/>
            <a:ext cx="70866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99"/>
                </a:solidFill>
                <a:latin typeface="AR DECODE"/>
              </a:rPr>
              <a:t>Энергосберегающая лампа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4292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Огородова Валер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8 класс «Б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71320" y="4643280"/>
            <a:ext cx="814356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Энергосберегающая лампа — электрическая лампа, обладающая существенно большим соотношением между световым потоком и потребляемой мощностью по сравнению лампами накаливания. Благодаря этому их применение способствует экономии электроэнерги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Picture 4" descr="Arrangement_of_bulbs"/>
          <p:cNvPicPr/>
          <p:nvPr/>
        </p:nvPicPr>
        <p:blipFill>
          <a:blip r:embed="rId1"/>
          <a:stretch/>
        </p:blipFill>
        <p:spPr>
          <a:xfrm>
            <a:off x="1643040" y="285840"/>
            <a:ext cx="6161040" cy="42861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4256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99"/>
                </a:solidFill>
                <a:latin typeface="Tahoma"/>
              </a:rPr>
              <a:t>Виды энергосберегающих ламп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99640" y="1844640"/>
            <a:ext cx="4442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юминесцентные лампы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ветодиодные ламп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Picture 6" descr="6a00d83452c82f69e200e54f2636a28834-800wi"/>
          <p:cNvPicPr/>
          <p:nvPr/>
        </p:nvPicPr>
        <p:blipFill>
          <a:blip r:embed="rId1"/>
          <a:stretch/>
        </p:blipFill>
        <p:spPr>
          <a:xfrm>
            <a:off x="5219640" y="1844640"/>
            <a:ext cx="3780000" cy="36226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img3"/>
          <p:cNvPicPr/>
          <p:nvPr/>
        </p:nvPicPr>
        <p:blipFill>
          <a:blip r:embed="rId2"/>
          <a:stretch/>
        </p:blipFill>
        <p:spPr>
          <a:xfrm rot="774600">
            <a:off x="4284360" y="4149720"/>
            <a:ext cx="2592360" cy="24829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99"/>
                </a:solidFill>
                <a:latin typeface="Tahoma"/>
              </a:rPr>
              <a:t>Люминесцентная лампа</a:t>
            </a:r>
            <a:br>
              <a:rPr sz="4400"/>
            </a:b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57160" y="1257120"/>
            <a:ext cx="3888000" cy="56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Люминесцентная лампа— газоразрядный источник света. Состоит из трубки с нанесённым тонким слоем кристаллического порошка — люминофора. Трубка заполнена инертным газом или их смесью. Внутрь вводится дозированное количество ртути, которая при работе лампы переходит в парообразное состояние. Трубка герметически запаяна. На концах лампы имеются цоколи с контактными штырьками для подключения лампы в цепь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Picture 4" descr="i2hdeu0fq5"/>
          <p:cNvPicPr/>
          <p:nvPr/>
        </p:nvPicPr>
        <p:blipFill>
          <a:blip r:embed="rId1"/>
          <a:stretch/>
        </p:blipFill>
        <p:spPr>
          <a:xfrm>
            <a:off x="4788000" y="2276640"/>
            <a:ext cx="4176720" cy="32731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5840" y="304560"/>
            <a:ext cx="885816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99"/>
                </a:solidFill>
                <a:latin typeface="Tahoma"/>
              </a:rPr>
              <a:t>Виды люминесцентных ламп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21" name="Picture 4" descr="mos_4_d"/>
          <p:cNvPicPr/>
          <p:nvPr/>
        </p:nvPicPr>
        <p:blipFill>
          <a:blip r:embed="rId1"/>
          <a:stretch/>
        </p:blipFill>
        <p:spPr>
          <a:xfrm>
            <a:off x="900000" y="1844640"/>
            <a:ext cx="3241800" cy="3888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lampa"/>
          <p:cNvPicPr/>
          <p:nvPr/>
        </p:nvPicPr>
        <p:blipFill>
          <a:blip r:embed="rId2"/>
          <a:stretch/>
        </p:blipFill>
        <p:spPr>
          <a:xfrm>
            <a:off x="4284720" y="2708280"/>
            <a:ext cx="4575240" cy="301932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10"/>
          <p:cNvSpPr/>
          <p:nvPr/>
        </p:nvSpPr>
        <p:spPr>
          <a:xfrm>
            <a:off x="755640" y="5734080"/>
            <a:ext cx="33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Компактная люминесцентная ламп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Rectangle 11"/>
          <p:cNvSpPr/>
          <p:nvPr/>
        </p:nvSpPr>
        <p:spPr>
          <a:xfrm>
            <a:off x="4563360" y="5805360"/>
            <a:ext cx="401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Линейная люминесцентная лампа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104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99"/>
                </a:solidFill>
                <a:latin typeface="Tahoma"/>
              </a:rPr>
              <a:t>Светодиодные лампы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44360" y="1844280"/>
            <a:ext cx="363060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Светодиодные лампы в качестве источника света используют светодиоды. Светодиод— полупроводниковый прибор, создающий свет при пропускании через него электрического ток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Picture 6" descr="E27_with_38_LCD"/>
          <p:cNvPicPr/>
          <p:nvPr/>
        </p:nvPicPr>
        <p:blipFill>
          <a:blip r:embed="rId1"/>
          <a:stretch/>
        </p:blipFill>
        <p:spPr>
          <a:xfrm>
            <a:off x="4643280" y="1844640"/>
            <a:ext cx="4356360" cy="34862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4256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99"/>
                </a:solidFill>
                <a:latin typeface="Tahoma"/>
              </a:rPr>
              <a:t>Основные плюсы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42560" y="1989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Экономия электроэнерги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Слабое нагрева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Большой срок служб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Гарантия на энергосберегающие ламп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4256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99"/>
                </a:solidFill>
                <a:latin typeface="Tahoma"/>
              </a:rPr>
              <a:t>Основные минусы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42560" y="1989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Высокая стоимость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Энергосберегающие лампы содержат пары ртути (люминесцентная лампа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Свет такой лампы может привести к усталости глаз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Не устойчивы к электромагнитному импульс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1T13:36:55Z</dcterms:created>
  <dc:creator>user</dc:creator>
  <dc:description/>
  <dc:language>en-US</dc:language>
  <cp:lastModifiedBy>fiz</cp:lastModifiedBy>
  <dcterms:modified xsi:type="dcterms:W3CDTF">2012-03-11T07:13:19Z</dcterms:modified>
  <cp:revision>12</cp:revision>
  <dc:subject/>
  <dc:title>Энергосберегающая лампа</dc:title>
</cp:coreProperties>
</file>