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827-FB77-4C76-AE59-6383C1B5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727-E15A-49FD-94A2-D0AEA9FF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34D-3DA2-4DAA-B0C0-BE6F5518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92F-DC0F-40CE-B8E3-C4245E9A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7511-86ED-4E6C-BDDF-EC6E3111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9FA7-B52B-4FC8-A1DE-C825BBB7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B636-F8F0-4169-BE72-DC85BBA9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5C3E-045F-45EC-BD78-FB2991C1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5B3F-4824-4E32-B361-CAB897D2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4AC1-DC0B-48F0-9B62-4652751D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01BD-11D9-419C-9F3F-3181E2C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101-1829-40B4-96AF-EDDA5AE6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9734-8B3A-44E6-AAB8-BE73531A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576E-E190-491A-BC3B-F758364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75A3-F293-4AFC-A906-73E91B3E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3B4B-4D90-4A66-BE88-4AF85531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0D6E-F995-42E7-9B37-4400C1E2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D7A-F97A-4EE1-AC3D-A49097D4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528-2E6E-41BD-BF8B-26B7AB3F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D0E-FC0C-453E-AAF1-A9B6BE39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9D8-7E17-477E-89D3-54DC6E54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71A-7B42-4A1C-98A6-FC16C82D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A4B-6944-42E7-96B4-1787CFF1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382-4692-405F-B704-9BFF55F1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187E-AC6B-4F37-9BF7-E3B7F5C781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BB91-E2F7-49DD-B8CB-E54982EB7B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71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AR DECODE"/>
              </a:rPr>
              <a:t>Энергосберегающая ламп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городова Валер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8 класс «Б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71320" y="4643280"/>
            <a:ext cx="81435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нергосберегающая лампа — электрическая лампа, обладающая существенно большим соотношением между световым потоком и потребляемой мощностью по сравнению лампами накаливания. Благодаря этому их применение способствует экономии электроэнерг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Arrangement_of_bulbs"/>
          <p:cNvPicPr/>
          <p:nvPr/>
        </p:nvPicPr>
        <p:blipFill>
          <a:blip r:embed="rId1"/>
          <a:stretch/>
        </p:blipFill>
        <p:spPr>
          <a:xfrm>
            <a:off x="1643040" y="285840"/>
            <a:ext cx="616104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Виды энергосберегающих ламп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444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минесцентные ламп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етодиодные лам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6a00d83452c82f69e200e54f2636a28834-800wi"/>
          <p:cNvPicPr/>
          <p:nvPr/>
        </p:nvPicPr>
        <p:blipFill>
          <a:blip r:embed="rId1"/>
          <a:stretch/>
        </p:blipFill>
        <p:spPr>
          <a:xfrm>
            <a:off x="5219640" y="1844640"/>
            <a:ext cx="3780000" cy="3622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mg3"/>
          <p:cNvPicPr/>
          <p:nvPr/>
        </p:nvPicPr>
        <p:blipFill>
          <a:blip r:embed="rId2"/>
          <a:stretch/>
        </p:blipFill>
        <p:spPr>
          <a:xfrm rot="774600">
            <a:off x="4284360" y="4149720"/>
            <a:ext cx="2592360" cy="2482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Люминесцентная лампа</a:t>
            </a:r>
            <a:br>
              <a:rPr sz="4400"/>
            </a:b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57160" y="1257120"/>
            <a:ext cx="388800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Люминесцентная лампа— газоразрядный источник света. Состоит из трубки с нанесённым тонким слоем кристаллического порошка — люминофора. Трубка заполнена инертным газом или их смесью. Внутрь вводится дозированное количество ртути, которая при работе лампы переходит в парообразное состояние. Трубка герметически запаяна. На концах лампы имеются цоколи с контактными штырьками для подключения лампы в цеп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i2hdeu0fq5"/>
          <p:cNvPicPr/>
          <p:nvPr/>
        </p:nvPicPr>
        <p:blipFill>
          <a:blip r:embed="rId1"/>
          <a:stretch/>
        </p:blipFill>
        <p:spPr>
          <a:xfrm>
            <a:off x="4788000" y="2276640"/>
            <a:ext cx="4176720" cy="327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858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Виды люминесцентных ламп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1" name="Picture 4" descr="mos_4_d"/>
          <p:cNvPicPr/>
          <p:nvPr/>
        </p:nvPicPr>
        <p:blipFill>
          <a:blip r:embed="rId1"/>
          <a:stretch/>
        </p:blipFill>
        <p:spPr>
          <a:xfrm>
            <a:off x="900000" y="1844640"/>
            <a:ext cx="3241800" cy="388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lampa"/>
          <p:cNvPicPr/>
          <p:nvPr/>
        </p:nvPicPr>
        <p:blipFill>
          <a:blip r:embed="rId2"/>
          <a:stretch/>
        </p:blipFill>
        <p:spPr>
          <a:xfrm>
            <a:off x="4284720" y="2708280"/>
            <a:ext cx="457524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755640" y="57340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омпактная люминесцентная ламп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563360" y="580536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Линейная люминесцентная ламп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10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Светодиодные ламп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4360" y="1844280"/>
            <a:ext cx="3630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ветодиодные лампы в качестве источника света используют светодиоды. Светодиод— полупроводниковый прибор, создающий свет при пропускании через него электрического то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E27_with_38_LCD"/>
          <p:cNvPicPr/>
          <p:nvPr/>
        </p:nvPicPr>
        <p:blipFill>
          <a:blip r:embed="rId1"/>
          <a:stretch/>
        </p:blipFill>
        <p:spPr>
          <a:xfrm>
            <a:off x="4643280" y="1844640"/>
            <a:ext cx="4356360" cy="3486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Основные плюс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Экономия электроэнер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лабое нагре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ольшой срок служ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Гарантия на энергосберегающие лам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Основные минус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ысокая стоим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Энергосберегающие лампы содержат пары ртути (люминесцентная ламп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вет такой лампы может привести к усталости гла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 устойчивы к электромагнитному импульс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3:36:55Z</dcterms:created>
  <dc:creator>user</dc:creator>
  <dc:description/>
  <dc:language>en-US</dc:language>
  <cp:lastModifiedBy>fiz</cp:lastModifiedBy>
  <dcterms:modified xsi:type="dcterms:W3CDTF">2012-03-11T07:13:19Z</dcterms:modified>
  <cp:revision>12</cp:revision>
  <dc:subject/>
  <dc:title>Энергосберегающая лампа</dc:title>
</cp:coreProperties>
</file>