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255-D3AB-479B-9522-0B277103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D43-5D32-4F1B-9877-0F4A85D9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AF1-6F1A-41A6-A619-FCD6AC5F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DD7-B20F-4530-88CA-E116A95E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0E5B-1E0F-4ABD-A8F1-83D280B4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DA6B-4807-4355-BE04-95FEE9A3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50D1-2A42-40BF-B808-8AEF76F7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2D1D-4EA9-419E-A189-62BE7F8E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0885-3A11-4DFC-A02D-1DCE2C01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5A60-1935-4576-A26D-4030CCDD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8D4D-9CDF-4852-92C9-FA8432BB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F07-FCD1-4137-9C2C-EE2A81BE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CEE1-861D-47E5-84F3-7085FF5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2792-4CFB-4815-9DEC-C03C37D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4129-F12C-4B9C-845B-E9607105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B3A4-4BD3-4413-AB15-3615DD87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F3DE-8509-4836-B5BD-6903EDE4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2C10-15A7-4B7A-839A-A0037751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3CAA3-5AE2-4C9D-BD3F-8DE24939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8EC5F-3484-440F-823F-54BBCC75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9222-0409-4E31-B96B-C8DEAC6C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A134-983B-4C4D-9DA0-C8FBD1EE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C07-0CF0-4644-B36A-76C80E51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15E8B-57B6-435A-B94A-DB23040D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DC59-0316-4A57-A7B6-31BE063F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1BDF8-2178-41BF-A8FA-DBB1D2C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6F45-DD98-42D4-9B0A-37C12C38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B46E-CDB5-4E60-B968-D13AB10B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BFA2-7084-43F2-8FC2-322BFDF2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2685-3182-43C5-9024-61AED123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2B472-34D2-46DB-A424-451DDDF0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7E5F7-1657-4A09-BAAE-50B92FA2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CBB17-DE27-4775-B4D7-091038DC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98C-94AB-49AA-8119-85E32496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EF643-EDAD-4335-9478-D3D64920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2A487-26EB-4137-8AC4-272D3D63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9217D-BF6D-42A8-B557-FBDB6B49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1E026-B027-40DD-8117-C60A9703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94C46-1588-4153-81CC-82E35DC4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DA80F-DE07-4A30-B647-C1105187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6D982-9F70-42CD-A271-86BFB60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6C8F-5918-4DAB-BC42-4FCB5456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54D1B-2E14-471A-BC98-3D8987A5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E91E-1572-4FA1-B543-CD9833E0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F34-D40A-4C67-AF36-D98E9866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800CC-B28C-494D-805D-81936B21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B3221-1217-42CA-B8B6-4B1815B3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2C70B-3743-4821-87FB-E80E760F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E2F3C-C244-4B92-820C-D5311FC2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84EFF-E569-4D0D-8EEC-926ACDCD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67ED-8E2B-43DA-A34C-F264327F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2F5F1-7F68-4A7D-98E2-77592669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48176-B3EC-47B8-A297-F34A3BA2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78251-F6D7-40B9-8D0B-41ECD8F6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793A9-B5A5-4C86-9B25-6E3CFB49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D6E-BEF9-4F9D-BF58-47B46090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BE4A7-27AF-4FEA-8979-64EF0E61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358D4-D01B-4BD1-812B-85B9E35A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6E1B9-AA8D-466E-8CC8-44DF0721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3FB3A-8BD7-4FDE-B53D-F3A11588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C8015-206D-4B72-ACA4-2C1FDFB6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D7403-0457-4D01-9067-F17FA14A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DC145-3EAB-4A5E-86DA-369DF5EE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6DE56-9C66-4478-B61C-B8B16968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74089-357D-44F1-98F5-119B12CB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CDF65-ABCD-4CFE-8EC6-161AA49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B91-D143-4C73-8CA8-38F386B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59500-3E2E-4ABF-A445-ACC71B20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8D59-74D2-4F11-8239-6C8C95EC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C0D2A-2023-4EAE-B7D8-9E3B4A7A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8BFBD-8AEB-449D-9684-860E230A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02753-AE22-489C-AC5B-4302F279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2716-BFF2-4653-B216-6B1F7495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AC31-ACDE-422F-887D-D0B04AC9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00AC6-8F3C-4B79-BB1B-176F81A9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D89E1-09AC-47BD-AD5C-F2BF9DD5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22D2-22DF-4806-9BC2-E7BE1F4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106-C2A5-442E-92A8-0F83043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D77C3-59C1-4826-B766-B1C7118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6B77A-53D6-466E-874B-6B8B7FCA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D9D79-8158-41F0-ADA9-F2D50B04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EDA07-F0D4-440B-858C-AB18F108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902F0-321E-4171-881C-4F40CE84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CA3-965D-41AD-87C1-B551B2FB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3b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30E3-A58E-49BB-A248-DA303D6B2594}" type="slidenum">
              <a:rPr b="0" lang="ru-RU" sz="1100" spc="-1" strike="noStrike">
                <a:solidFill>
                  <a:srgbClr val="4e3b3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F93E-82D6-417E-BC77-B077E9B02BC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3b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2725-0D20-4A7E-A19A-8A9ABDB4329D}" type="slidenum">
              <a:rPr b="0" lang="ru-RU" sz="1100" spc="-1" strike="noStrike">
                <a:solidFill>
                  <a:srgbClr val="4e3b3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eec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C393-408B-4A62-BA32-96C90DC19B1F}" type="slidenum">
              <a:rPr b="0" lang="ru-RU" sz="1100" spc="-1" strike="noStrike">
                <a:solidFill>
                  <a:srgbClr val="fbeec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3b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A2BA-B313-432B-8570-88300CA7DEF5}" type="slidenum">
              <a:rPr b="0" lang="ru-RU" sz="1100" spc="-1" strike="noStrike">
                <a:solidFill>
                  <a:srgbClr val="4e3b3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3b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8C21-78FC-47C9-918A-93B1666CC7C3}" type="slidenum">
              <a:rPr b="0" lang="ru-RU" sz="1100" spc="-1" strike="noStrike">
                <a:solidFill>
                  <a:srgbClr val="4e3b3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98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7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c398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c398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c398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3b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96A8-C7D6-4B02-BA00-8C37445118AE}" type="slidenum">
              <a:rPr b="0" lang="ru-RU" sz="1100" spc="-1" strike="noStrike">
                <a:solidFill>
                  <a:srgbClr val="4e3b3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819520" y="3540240"/>
            <a:ext cx="63244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(По материалам Э.М. Браверман,  редактора отдела журнала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«Физика в школе»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флексию можно провести устно в виде устного ответа на вопрос «Что ты делал и что получил?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жно предложить заполнить таблиц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3733920"/>
          <a:ext cx="8229600" cy="287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8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ло легко? 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ло самым трудны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понимания в цел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195120" y="-566640"/>
            <a:ext cx="8498160" cy="19936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ыстраивание горизонтальной цепоч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09480" y="2362320"/>
          <a:ext cx="7696440" cy="3001680"/>
        </p:xfrm>
        <a:graphic>
          <a:graphicData uri="http://schemas.openxmlformats.org/drawingml/2006/table">
            <a:tbl>
              <a:tblPr/>
              <a:tblGrid>
                <a:gridCol w="1924200"/>
                <a:gridCol w="1924200"/>
                <a:gridCol w="1923840"/>
                <a:gridCol w="1924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уче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нимание – это направленность сознания на определенный объект или вид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нимание зависит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от наличия осознанной человеком цел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от характера работ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от особенностей личности (темперамент, наличие волевых качеств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от физического и психического состоя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8380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4400" spc="-1" strike="noStrike">
                <a:solidFill>
                  <a:srgbClr val="ffc42f"/>
                </a:solidFill>
                <a:latin typeface="Trebuchet MS"/>
              </a:rPr>
              <a:t>Виды внимания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извольное внимание связано с поставленной целью и волевыми усилиями; объект внимания выбирают осознанно (активное внимание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произвольное внимание связано с появлением сильного внешнего раздражителя - громкий звук, яркий свет, призыв (пассивное внимание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493040" cy="1303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ъем внимания: 12-14 связанных объектов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сли объекты не связаны, то их число 3-5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к распределению: способность выполнять 2 и более действий (развивается с возрастом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стойчивость: умение сосредоточиться на одной задаче длительное врем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твлекаемость: непроизвольное изменение объекта внима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195120" y="85680"/>
            <a:ext cx="7534440" cy="1382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извольное внимание улучшает четкость организации деятельности, осмысленный подход к делу, понимание важности результат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произвольное внимание зависит от интереса и эмоций. Старайтесь заниматься делом, которое вас привлекает, в душевной, радостной обстанов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бегайте однообразия, утомления, чрезмерно трудных задач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арайтесь чередовать умственную и практическую работ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пражняйтесь в сосредоточении на одном объекте, пытаясь выяснить как можно больше его свойст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Физика в школе», №1,2010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.М.Браверан. «Учимся и учим мыслить и понимать» Советы изучающим п преподающим физику… и не тольк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ACADEMIA, 20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.М.Браверман. Учимся и учим действовать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CADEMIA, 200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95120" y="-566640"/>
            <a:ext cx="8498160" cy="199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-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объясн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возник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-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195120" y="42840"/>
            <a:ext cx="8637840" cy="13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457200" y="1600200"/>
          <a:ext cx="8381880" cy="4525920"/>
        </p:xfrm>
        <a:graphic>
          <a:graphicData uri="http://schemas.openxmlformats.org/drawingml/2006/table">
            <a:tbl>
              <a:tblPr/>
              <a:tblGrid>
                <a:gridCol w="1176480"/>
                <a:gridCol w="1761840"/>
                <a:gridCol w="1175040"/>
                <a:gridCol w="1089000"/>
                <a:gridCol w="1261800"/>
                <a:gridCol w="191772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ор для изм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-ла для расч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зучение нового материала, его отработка и углубление происходят в процессе личной деятельности ученико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итель организует деятельность учеников по следующей структуре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требность – Мотив - Цель и задачи –Действия – Операции – Результат -Корректировка результата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742160" cy="1236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. Начальны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здание потребности в познании (показать значимость данных знаний и умений)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тив к познанию (желание изучать материал)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Основно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зучение материала силами самих учащихс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Итоговы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ведение воедино новой информаци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.Заключительны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ение знаний для решения важных для практики задач. Рефлекс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здание потребности в знаниях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мер (8 класс, тема «Кипение»). Диалог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Мы были в походе, здорово, только медсестра не разрешала пить воду из ручейков, заставляла ее кипятит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А я ухаживал за братом, больным ангиной. Приходилось кипятить его тарелки и чашку после ед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Так что же такое кипячение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тив – направленность на позна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обходимо сделать так, чтобы ученику захотелось работать на уроке, захотелось изучать новый материа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р (8 класс, тема «Кипение»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жно ли вскипятить воду холодом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монстрация: в круглодонную колбу налить горячую воду, нагреть до начала кипения и плотно закрыть резиновой пробкой. Поместить колбу вверх дном в кольцо штатива и полить дно холодной водой. Вода вскипи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8052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элементный анализ 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ваемый 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мые компетен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олбец 1.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ыписываем элементы содержания, которые должны узнать учени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олбец 2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Каждый элемент знаний «переводим» в вопрос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олбец 3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Решаем, что должны сделать учащиеся для ответа на каждый поставленный вопрос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олбец 4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Отмечаем, какие компетенции ученик будет развивать при выполнении каждого намеченного действ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актические компетенции -ПрК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ыслительные компетенции -МК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чевые компетенции -РК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Информационные компетенции -ИК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оммуникативные компетенции -КК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493040" cy="1303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3b3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стный вариант подведения ито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 на вопрос «Что мы узнали сегодня на уроке?»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ают последовательно ученики, добавляя друг дру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сьменный вариант подведения ито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ащиеся очень кратко, схематично отражают то, что изуче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17-09-16T09:10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