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916-9BFB-421E-93C9-A30BFBF2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363-A967-42D8-AEA6-C861099C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3D1-79A6-44F0-BE29-942D5C75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7C3-3B35-46F9-B4E9-10E2835E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7FDB-998B-4BBC-BF1B-AFBA4E14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D97-3D61-4418-B724-BF81511A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FFC2-6639-49B7-8B74-BE14780E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9764-6584-4068-9274-4126A6D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1C4A-F349-41C9-83B5-A32CAFE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08A1-947E-430E-A842-04BD487A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728A-A527-4149-9552-8F706191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6EF-C56D-4C5D-80A8-546A838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03AE-506F-4747-B37A-0F8CC24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F6E9-D637-42D9-9137-B03FD115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D2E3-0BDD-42A8-830A-464CD215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30F9-3E07-4173-8699-E33405EA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9D77-28D1-45DB-802E-42F0ACFE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20E5-F497-4CC1-AB73-61314376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2473-18B1-4086-9F5B-23ABE01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90BA-2AC9-4B7B-A46F-57AFED64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9D87-E1E2-4FF4-8CE2-94728B1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E454-21CD-499E-92B6-7C9B0B3D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584-ADB7-4B18-8DB2-E83EBB48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D81D-1F0C-456B-93B6-79CE54FB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16CC-D5FF-4ED8-8FED-E76E4D5D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9372-0BA1-4F74-BC2D-0077B7C9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098B-6513-4459-836F-9BE1A2D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399D-4288-474F-879B-20BDFF4E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341B-F85A-4706-A539-3B80FDD6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5CA5-602E-489C-9370-A3D2B494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C32F8-1E1E-43AE-8088-58C892A6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AA68-4CFF-4585-8B19-04B0AC9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C174-F974-41D5-8C38-E7CAE7FB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828-AA2F-46D3-BFDD-6D849316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58CB-144B-4218-A240-8684E283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8F98-D3DB-4B46-9899-9C567C48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AF6F-7619-4788-99F0-364548E1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26F9-9566-4964-89DE-16DFEFF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B5764-D43A-4B23-817E-FD1FF07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FD8A-3E97-4F50-9721-B14E0B8E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C262-FB6B-4811-861A-A7391939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B46C-4A5C-41C1-89ED-17EE15C3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B529-95BE-4E2B-81CA-B27CF7D7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CBDC-A24C-49A0-83A6-B688AB8E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594-018A-4544-9BFD-15DC382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E7C92-85A5-4068-9E1B-AF190567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CC046-52A3-4D02-A306-7563F327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859D-51E4-48BE-B66C-1491FB9A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7E0B8-F7C3-4467-B3E0-978DDCD9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4266-029B-4D40-B431-ACD025CF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80B9-48D0-46C2-BE2C-F67E36F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53D1-3067-40F3-8F23-1CE7103E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FAB62-773E-4668-867A-9F14B730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9AF9-26DF-44B8-B78B-F98835F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09E6-EAD6-4169-A2E2-12B06D21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540-4561-4A45-9AB3-C268996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D9116-C9D0-4F46-925E-348C001E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FA8E-515A-42C3-978A-ECB51A8F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21EA7-733F-4F10-89A8-40975511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0758-02F9-4810-8B68-3F5DFA0F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0169E-A4EA-4D16-9BDD-71487C8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6FA1-FE74-4027-B798-E9D50CF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CBDE-9009-42F4-849E-2B0DE9F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3AC0-E4D4-445E-84CF-FCAB125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2441-25EF-42D7-B72B-61A20DD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44DA9-0DD2-4669-9862-745446B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EC3-8F3C-4A0B-8EC9-4B4C05B7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F3123-8E73-4292-8DB8-653DB275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3E29-9F7F-47AA-9319-CB7CCF02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41C1C-D43C-4A25-9522-2DB46F87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2836-AFC8-4F02-AC6D-8161C3C5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C1572-6AED-4A2A-B810-08996F25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40D4D-2FD4-4351-AC18-E8CE5C8C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7F34-3311-48DC-BE8A-344761A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ABB5-942A-4700-9192-06E1A24D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F8AD5-E8D6-4ED5-8616-A037C982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6DBEF-790C-42E8-A9FC-B5B6F9E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830-8C18-4C4D-9134-9393DBC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A9ACC-D261-4A14-95C8-473CF81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A27FE-0294-4EBD-974B-3F36217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6459-A86E-4FBB-B850-38D06DCA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3731-A1FB-4360-891B-F348CD71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84C49-5D5A-4ADA-9184-BBC072AD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57A-847B-48B7-936A-537596A8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D34F-B006-4ED5-B24D-4F7BAB0DB04F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636A-441D-47EB-A36A-7C29AC312A2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91B-3799-4054-98F3-16899FD72521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eec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E913-FB22-4C49-BD56-4109C5D53FFB}" type="slidenum">
              <a:rPr b="0" lang="ru-RU" sz="11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FC46-D24B-44FC-9787-924F0E154EEE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653D-6269-47E4-82A3-88521386F313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6F69-F139-48E9-8681-B11BCF4B7803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819520" y="3540240"/>
            <a:ext cx="63244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(По материалам Э.М. Браверман,  редактора отдела журнала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«Физика в школе»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флексию можно провести устно в виде устного ответа на вопрос «Что ты делал и что получил?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но предложить заполнить таблиц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3733920"/>
          <a:ext cx="8229600" cy="287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ло легко?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ло самым трудны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понимания в цел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95120" y="-566640"/>
            <a:ext cx="8498160" cy="19936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страивание горизонтальной цепоч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9480" y="2362320"/>
          <a:ext cx="7696440" cy="300168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е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нимание – это направленность сознания на определенный объект или вид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нимание зависит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наличия осознанной человеком цел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характера работ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особенностей личности (темперамент, наличие волевых качеств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физического и психического состоя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8380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4400" spc="-1" strike="noStrike">
                <a:solidFill>
                  <a:srgbClr val="ffc42f"/>
                </a:solidFill>
                <a:latin typeface="Trebuchet MS"/>
              </a:rPr>
              <a:t>Виды внимания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извольное внимание связано с поставленной целью и волевыми усилиями; объект внимания выбирают осознанно (активное внимание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произвольное внимание связано с появлением сильного внешнего раздражителя - громкий звук, яркий свет, призыв (пассивное внимание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ъем внимания: 12-14 связанных объект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объекты не связаны, то их число 3-5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к распределению: способность выполнять 2 и более действий (развивается с возрастом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стойчивость: умение сосредоточиться на одной задаче длительное врем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твлекаемость: непроизвольное изменение объекта внима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195120" y="85680"/>
            <a:ext cx="7534440" cy="1382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извольное внимание улучшает четкость организации деятельности, осмысленный подход к делу, понимание важности результат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произвольное внимание зависит от интереса и эмоций. Старайтесь заниматься делом, которое вас привлекает, в душевной, радостной обстанов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бегайте однообразия, утомления, чрезмерно трудных задач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арайтесь чередовать умственную и практическую работ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пражняйтесь в сосредоточении на одном объекте, пытаясь выяснить как можно больше его свой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Физика в школе», №1,2010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.М.Браверан. «Учимся и учим мыслить и понимать» Советы изучающим п преподающим физику… и не тольк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ACADEMIA, 20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.М.Браверман. Учимся и учим действовать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ADEMIA, 200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95120" y="-566640"/>
            <a:ext cx="8498160" cy="19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-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объясн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озник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-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195120" y="42840"/>
            <a:ext cx="863784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457200" y="1600200"/>
          <a:ext cx="8381880" cy="4525920"/>
        </p:xfrm>
        <a:graphic>
          <a:graphicData uri="http://schemas.openxmlformats.org/drawingml/2006/table">
            <a:tbl>
              <a:tblPr/>
              <a:tblGrid>
                <a:gridCol w="1176480"/>
                <a:gridCol w="1761840"/>
                <a:gridCol w="1175040"/>
                <a:gridCol w="1089000"/>
                <a:gridCol w="1261800"/>
                <a:gridCol w="191772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ор для изм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-ла для рас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учение нового материала, его отработка и углубление происходят в процессе личной деятельности ученико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итель организует деятельность учеников по следующей структуре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требность – Мотив - Цель и задачи –Действия – Операции – Результат -Корректировка результата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742160" cy="1236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 Начальны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здание потребности в познании (показать значимость данных знаний и умений)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тив к познанию (желание изучать материал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Основно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учение материала силами самих учащихс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Итоговы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ведение воедино новой информац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Заключительны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ение знаний для решения важных для практики задач. Рефлекс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потребности в знаниях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мер (8 класс, тема «Кипение»). Диалог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Мы были в походе, здорово, только медсестра не разрешала пить воду из ручейков, заставляла ее кипяти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А я ухаживал за братом, больным ангиной. Приходилось кипятить его тарелки и чашку после ед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Так что же такое кипячени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тив – направленность на позн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обходимо сделать так, чтобы ученику захотелось работать на уроке, захотелось изучать новый материа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р (8 класс, тема «Кипение»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жно ли вскипятить воду холодо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я: в круглодонную колбу налить горячую воду, нагреть до начала кипения и плотно закрыть резиновой пробкой. Поместить колбу вверх дном в кольцо штатива и полить дно холодной водой. Вода вскипи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лементный анализ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ваемый 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мые компете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1.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писываем элементы содержания, которые должны узнать учени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2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Каждый элемент знаний «переводим» в вопро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3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Решаем, что должны сделать учащиеся для ответа на каждый поставленный вопро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4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Отмечаем, какие компетенции ученик будет развивать при выполнении каждого намеченного действ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актические компетенции -Пр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ыслительные компетенции -М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чевые компетенции -Р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нформационные компетенции -И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ммуникативные компетенции -К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стный вариант подведения ито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 на вопрос «Что мы узнали сегодня на уроке?»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ют последовательно ученики, добавляя друг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ый вариант подведения ито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ащиеся очень кратко, схематично отражают то, что изуче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7-09-16T09:10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