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4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49.png" ContentType="image/png"/>
  <Override PartName="/ppt/media/image22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19.jpeg" ContentType="image/jpeg"/>
  <Override PartName="/ppt/media/image42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1.wmf" ContentType="image/x-wmf"/>
  <Override PartName="/ppt/media/image38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54.jpeg" ContentType="image/jpeg"/>
  <Override PartName="/ppt/media/image36.wmf" ContentType="image/x-wmf"/>
  <Override PartName="/ppt/media/image47.jpeg" ContentType="image/jpeg"/>
  <Override PartName="/ppt/media/image37.jpeg" ContentType="image/jpeg"/>
  <Override PartName="/ppt/media/image44.wmf" ContentType="image/x-wmf"/>
  <Override PartName="/ppt/media/image5.png" ContentType="image/png"/>
  <Override PartName="/ppt/media/image43.jpeg" ContentType="image/jpeg"/>
  <Override PartName="/ppt/media/image45.png" ContentType="image/png"/>
  <Override PartName="/ppt/media/image33.jpeg" ContentType="image/jpeg"/>
  <Override PartName="/ppt/media/image46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55.jpeg" ContentType="image/jpeg"/>
  <Override PartName="/ppt/media/image30.jpeg" ContentType="image/jpeg"/>
  <Override PartName="/ppt/media/image9.png" ContentType="image/png"/>
  <Override PartName="/ppt/media/image11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6.png" ContentType="image/png"/>
  <Override PartName="/ppt/media/image40.jpeg" ContentType="image/jpeg"/>
  <Override PartName="/ppt/media/image13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  <p:sldId id="288" r:id="rId65"/>
    <p:sldId id="289" r:id="rId66"/>
    <p:sldId id="290" r:id="rId67"/>
    <p:sldId id="291" r:id="rId68"/>
    <p:sldId id="29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slide" Target="slides/slide33.xml"/><Relationship Id="rId66" Type="http://schemas.openxmlformats.org/officeDocument/2006/relationships/slide" Target="slides/slide34.xml"/><Relationship Id="rId67" Type="http://schemas.openxmlformats.org/officeDocument/2006/relationships/slide" Target="slides/slide35.xml"/><Relationship Id="rId68" Type="http://schemas.openxmlformats.org/officeDocument/2006/relationships/slide" Target="slides/slide36.xml"/><Relationship Id="rId69" Type="http://schemas.openxmlformats.org/officeDocument/2006/relationships/slide" Target="slides/slide37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 type="dt" idx="9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PlaceHolder 5"/>
          <p:cNvSpPr>
            <a:spLocks noGrp="1"/>
          </p:cNvSpPr>
          <p:nvPr>
            <p:ph type="ftr" idx="9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PlaceHolder 6"/>
          <p:cNvSpPr>
            <a:spLocks noGrp="1"/>
          </p:cNvSpPr>
          <p:nvPr>
            <p:ph type="sldNum" idx="9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09E2-886A-4030-9C8C-9DD6076FED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9B63-E7AE-4026-A1EC-0A25CAAB86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474A-8A27-489F-B792-337CC4D4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B1FA-B044-48E5-A66A-BBCE435C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90441F-8694-432D-8675-ED7B3972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DD8927-8017-46EB-99A1-E3F12B45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B1ADFA-8027-44F3-81E7-48454E7E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86F12F-4128-42E1-BE56-29FB71F2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CBFE08-22FB-4B7A-A057-7A86D540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CBC8ED-5283-4ADA-9FF4-415BE31B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4442A7-FAD5-4865-9476-CD275A85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113230-0D5F-4BB3-8D69-AFAA7B3E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D90C1E-8917-4B96-80C0-F9C0F8A1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CCAE8-6ECD-46E9-9F7C-5BB935F8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26FB-63C9-4A44-A105-B55DB0BA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F31EA-EB57-4BFE-9399-70752823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F7116-1E5B-4338-81DD-4DBF5C81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0B791-7D52-406A-A531-1F121F39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5064B-410E-4B27-8A68-0E490D7F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6B84E-F0A0-4AFC-82F4-6DF194D2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01A1C-8F8B-4768-9051-76D81EFD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D92CE-77D4-4AB0-9FF6-02BDF3EF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309E7-55ED-49A6-BDE6-2266C247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EB6A7-9FD2-4027-ACCE-219F1A32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69200-14A1-4096-BC4E-D3C64829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9618-4343-4954-80F7-617EB708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3626E-D5FF-4319-A6AE-FE626C59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635C4-3913-4EB0-9246-1079523C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F9953-A6E3-48E7-A1C4-62EACDC2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2C9DF-EECD-4DD8-A9F4-97532A79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C880C-38CA-41DE-8630-36F5C152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A54B2-04BF-4E22-8D75-7256CDAD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87767-676A-47A8-B809-EAEC2E26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FD296-A32B-4551-AEA6-A1B545EA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60CD8-6581-4A0A-A42A-0FD9A872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FE62E-A5F1-4409-94FA-B00AF783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F514-7909-429A-B4B9-8159339F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0C381-80CE-412F-8A7E-702E1FED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3F089-931C-4855-BACD-16C607FF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ABED4-388C-48C4-A8A8-9253C3FE5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E5206-5096-4F68-BFE8-AF9E1138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8E9F9-0947-437B-ACD9-5DA47DD1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1F908-3950-4CCB-88AC-C66B26E2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06B1F-A4D9-4F48-933E-E49643DB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73220-9D1D-4AF1-877B-B648C7A7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DDDAA2-A720-4C59-ACBE-CB4D45D7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DF2E6-BB73-4F34-8C95-16748448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DC18-143F-4440-B8DD-E1043FFD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D4045-8E30-4D8F-9623-F8245C51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A524B-4B5E-4C4D-9DEB-01A4ADB0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F4AEB-F2D6-47A9-8B36-4E9C39A9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78491-A513-4ED3-A22C-7E37F547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E2A16-4468-456D-8E4A-88771C98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E5387A-1FCE-4FEE-8481-FDBE3B76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8B8C70-AD5C-4113-9A86-21B06AA1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FD484F-1B9F-44B7-A01D-59792E94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503DDE-A8C4-43E3-B064-F180E748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C0CE98-8810-4290-86C5-FE3C8EB7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6541-31E0-4CE0-90BF-8E3D5F39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563C38-316F-4FBF-B69C-9EE78BB2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9AC1D5-377E-4422-922D-5EE39C68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ED7975-D131-45EF-B6CB-786EDBEF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F93BE6-5635-45B5-A69B-8C02370D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5CD18B-2FAB-4CA7-969C-7C828492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B68BB9-0A0B-443B-B3FD-8A1D9FE7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1F9431-EFD0-4393-BCF9-789B3E89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293914-6076-4143-9E5E-52E45878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9EF447-6BC2-4319-982E-54C38078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1C4563-5438-4F70-BAA3-F3E9F620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EE4D-5FCE-4646-BA5E-DDB78DE8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0741CC-CA0A-4366-8472-6B82ED43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099F9F-71E8-463F-B53E-B102C8AE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FF40AE-77B2-4C60-B5DA-BBF87B25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677CF1-1328-4D46-A1CD-E6822943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7A5258-A98D-4D1E-9A99-9F895F1C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1FB24A-E85E-4ACF-AD6C-83670C3F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F08490-9E2D-48CB-905B-59098625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BED6DC-C4A4-4624-89BC-6F58757E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70F809-2975-4FBA-853D-15FF1011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51C5E15-BB10-4F95-ABA8-1F57148C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A773-7BF8-4C17-AC73-CADA969E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A00E32F-7553-4DE6-96FA-0EC997F5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2F2257D-7F07-49C5-8C80-F37AB7C1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CE710C8-BE50-4D3A-BD83-4C663B2E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29857E4-F4E1-472A-B938-9B769D4D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3CAF0A4-1DCE-40D9-A5B6-47D5F787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51F11CC-C818-427E-8B4F-C3E47193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B95F059-9236-498B-BC92-1071A950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3DCA09A-1894-46BC-8BB5-0B2B0F04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1C502AF-33B7-4D3F-93DA-49947B86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BFA4FBE-2851-4044-B515-8CE2ECB3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5B0B-824E-4006-87FA-6F93536B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5995F0F-6D04-4ACC-AE9A-321B3CFD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C81698-7D00-4B29-B93A-E123FE54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1D5823-3643-4C96-B84F-5C5FD32C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06B28B-99A9-44A0-BEB0-774163B1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8351E5-3550-4AD3-BB7D-3F68097C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0F4BDE-38F7-4957-B1B4-9C039D39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A143DB-7800-49F1-923A-F81AA41B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45D3BF-6A43-45FC-B3E3-9DFC7863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BBC51E-26BB-43F9-B321-2B157AE7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4A1D9D-11DF-41A4-AC3E-CDC75A1D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F6CC-978A-4B84-B073-04D90F8A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4F085A-5679-4E6F-AD6C-538C642E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5A1FD9-6625-4B81-A651-E411144A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6A34A7-0DEA-4415-98B2-82577401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FD0E30-031F-4DD5-8843-F9275157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9F9725-C07C-4109-BF63-F4AE9042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736542-4B56-4C09-B8B3-BD8B5FC1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267F53-CDEE-4047-AEA6-858E7A3A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CAD3FC-87D8-4E58-AA76-0FEB7AF3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5800CB-BD82-46E2-91EB-006392B3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62191D-3365-4B53-8D27-D0797395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FCE2-56CC-48A1-A9E3-916A1EA6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53A2-24BA-466C-B0DC-D8744AB5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48A648-AA7F-43C7-8B05-B708021F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6D96EC-3EC5-478A-9BB3-D6422164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B6BC54-3D9D-4F81-9969-10931AC1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002EE5-5A10-445A-BBD7-5DD00170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D49CCB-9E11-4478-9932-986EBDFD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4E5154-73D1-4801-9C8E-B213553B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9FFA59-4E06-4690-8433-5424FB60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12358D-5A28-47E3-963D-9538AA2E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6E5905-C02A-4FD4-9A29-D906F487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F3C49F-7227-4DF0-856F-9A76FDA4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3989-EE33-4F04-B437-15E43AF8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C2D49C-9343-4061-BB39-44076784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611E12-A2B1-4AA7-A859-D1B19B5B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6C3C08-C2D5-4F04-9F6B-755ADDA7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29231C-2AE2-4CCE-960A-118A8BE0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6E3145-C37B-4391-8B68-B803CBA0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8E998C-07C0-403E-94CE-F2D32653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A265DF-0C0F-4ACD-BA32-839C4819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8AF16E-C150-453F-ACD5-05ED4E7A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E357D1-97B6-470F-9D05-6C9A2D25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2F616F-8421-4578-B122-800AF2D6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8F74-C37D-4742-86CF-3990887F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FE63EE-53FE-49C9-B521-CF80FF5A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066535-8FBB-40A4-B283-92C48CF5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C698A4-BE84-4B15-83E2-35D59FE0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E92918-2580-4424-8A5D-822B6B3F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45F3F5-8E5D-4A5E-83DF-75BE0CBA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ECC11D-095F-44D6-9EBB-1B6E3769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64D8EE-A3E3-4C6B-BDB8-9EBADE3C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7DF87F-CD99-4BEB-9406-F39BC221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CC890D-33A2-44B1-A8F8-D2CC3F51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68B7A0-B78A-4DC1-8DD5-316CABDC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B78D-09C6-4EF5-BB9D-36F0A56A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1801AB-EA6F-4FD3-9B58-38B34C6B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C74AB8-E8B9-4796-ABAF-A5B95F10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C8C4C4-D128-4C36-A455-7176379D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B8C6EA-B732-4B9D-AACA-B1FC744D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5F1FAB-F46C-408B-813C-4EE5A2E8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9BAC25-5472-4283-8ED3-5BBA5B4C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82C3B5-BF1A-4362-B787-E34004E4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7CD45A-9601-4A78-8381-78B33884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ECC413-C4A2-456E-AC63-FDB2E641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122ECC-100B-433A-8A28-3FBBA31B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0C9F-7005-4A17-BB87-9C638BD4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585C7E-0C91-4D25-A31F-7CC51B7E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B44EDA-19B2-4F20-AC39-56AF5E77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49F94E-01FB-40BF-B4D5-0D2BFE1D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89C477-CF96-4592-AB9A-E831A8B1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0CD7F2-C1BC-49D0-A0DD-CF9C39E2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DE2B49-A0F1-4FA9-B46D-511FF9AD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1E581F-3F63-42D2-94B0-710A0BCF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75D415-8DC8-41EF-8893-988A5C82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3C4554-2B18-414D-83E7-A942B968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200394-5857-4530-AF75-2D6389D8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955CD-6F10-4C8E-B76A-95DD1543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A8524D-395D-41F8-B559-100CE327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BD8BC0-7CFC-4562-804F-A170B353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83F945-01E3-4D04-B976-DDE3AF5A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AE64F4-816A-44A9-8B68-039A0DDB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CC6893-DB24-4838-97F5-77B4E5D9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2BB812-CABE-455F-89E8-51068AD3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3E6929-02D2-45AA-A83B-CE9531E2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73DB12-0B4A-413D-8653-E460D1BB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58DC35-6ED7-43BD-A16B-C67CADCE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E0FD32-E951-468E-A4E8-3638DD5F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9608A-FD65-42D4-9F01-50A1EB9E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F53ED9-49FC-4740-97D9-C9537C58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FF8A1A-D58F-430E-9999-08EDF21F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CE0C7E-107D-401D-B8F6-412A61DB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CE3A58-EC8E-429D-8D45-05357790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335F94-2C85-44B1-967D-C1DEDE1F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769F32-EDB1-4372-96CC-B63C09A8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B77776-1259-485F-A568-9C87CA52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91FAAC-E0F4-42C1-840E-DF786CBD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71DC7E-6D33-4144-9ABC-397BAB35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CCFCAD-6D55-4713-8D51-436B080F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7D70C-B474-40B5-948E-DC03210A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A15891-49F0-44F0-9E66-7660EEE7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03D83D-421F-4545-AD99-2BCDFCAD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732FBA-8C3F-431F-9DA1-3130FB6C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539442-3CBF-4703-AE9A-F5AD1725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E5BE17-B0B4-46C6-BAF0-8A4E6B25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CF46D2-1B16-4AE7-8B70-C540DC16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E23710-8363-4949-8A41-FF29DB79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7C18B2-0880-41C8-BB02-55450BFB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2FC4B5-A343-4C9C-92C9-7B7F4416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82C97D-251C-48D9-888E-92872F7E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DDDCC-C648-4FAB-9FD8-437A4C53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30DC7D-0E4F-4BCF-AC6C-57FA1179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3B4EAF-B6CD-4CB0-8BCA-0B0E8235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8335E4-8EB5-4C17-AF97-AE465933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921CA8-8F06-4603-8A07-FE92C402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AC41A0-C204-47ED-A2B0-9BF52015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714974-0657-4E77-97B6-93DA50CD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53C1CA-CFCB-4AB0-ACF2-F167F5BA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04EA4E-E071-43D1-9C40-A8107488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F79A92-B5C1-429C-9B6E-40B7A1B3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BA3D28-F32A-4CB9-9F29-6A287162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6341A-E9F7-407F-A093-533B4EA1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84D28E-79E1-4F50-AF04-C7B25D46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E83D90-1EFC-4AA4-9547-D738B6FF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DCE2BC-A724-4154-90D3-D4ED0058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983AB1-4DE2-4E9C-9EA9-94DCA52A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D93CBE-04F6-4A3C-B7DD-E00534A1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5B647B-7C53-448E-B67C-F322BF8B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95F6C9-27A5-4710-935B-0CD80806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25A970-ADD7-44FC-AB7A-712DF99E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867AE6-2AE5-4010-BCEB-48B557D6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955BE0-C9F4-4D43-BAE2-0844BDC3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BADA-CD36-4A9F-8023-912B6BD3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6D810-C89F-4806-A4AC-4E690E7A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6BC708-6CF7-4B3D-84D2-46B2D07D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64486A-38D1-4B77-8759-0F9DA3BA5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C2F58D-6D17-43BF-9AC9-8881A806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332A9C-03DB-4607-A37C-5B8258B2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9C8A11-C656-4338-BA42-A1B53625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0839EF-3FFF-4FBE-8BCF-339E9E3D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7CF6CA-9155-4CCB-B5EA-1DC0E26D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4B77B6-429B-470C-87C4-FC04099E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724C9A-97A0-4418-8FCC-A3AC4A05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7C50F8-DF9C-4A13-834D-85611C23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B07A2-00D4-4B15-8E77-CC6C36B7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A1A06D-A144-4BD4-8276-02511C4E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89529C-52DE-483D-9C46-0DB4025C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07BCF0-B661-4F56-9148-2F91A465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2A768D-A869-422B-9757-732A5CB9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6B6D00-A136-4DFA-AB25-BB7F8504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0532C9-09A8-414F-A444-2BA1AFC0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287D70-F0AE-4DEA-BA23-0155F65E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5AEFB6-F25B-4061-8133-0D285668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9413AC-F331-4EA1-A076-AF34552E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6F2D401-5281-4F9A-9A98-E101F646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6F2F7-1B28-43D2-ABE2-1798F786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2CD2FB-EBE1-44FC-8ADF-998E983A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EB4A64-C73B-4C33-9FF2-37B2B228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69C874-C205-46F4-8EB6-FD2CC575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684C4F-5C3E-4B08-98E6-E5182042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6F110E-AF81-45B6-924E-52C89E57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98E5F2-C722-4521-BDDE-0B9C7010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9D916C-EAE9-4C39-824C-D5AD9865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E132F0-8A8A-4306-88E6-BB2753C5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63947B-B942-4DFF-9849-D3AB97E7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33914F-6639-4D76-ACF2-73C727CA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A061A-4882-42C2-B9AA-0AA4AA13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9B11DB-9C68-433F-8078-67AA726A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39596A-D0CC-4653-9445-091C2D2F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676B60-E3A5-40C4-A78D-E6277EFC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982B4C-7EBA-42D6-9D58-000286B1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A27E6D-2AF5-4259-8528-04724EA3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408198-201B-49A4-BA58-22C8A3A2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0E88D8-A7CB-4F99-BB54-77B05BDA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527C5FF-2E2C-4F58-AB2B-FF7A1085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8618C11-8F54-4DAD-B829-A5B6F92A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84758A0-E148-4A46-B5C4-BF766755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191EF-7F82-41EE-9D2F-79974C35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C7D642-D8BF-4ADE-95EA-B7B2EACF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131331-9A87-40C1-9CCC-61C857AE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CB0277E-140F-428C-9151-CC446AA2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8C85F4-EAEE-4A04-A80D-33D67765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8F8271-7A41-41CB-8732-A06164BC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7FFF18-0A20-4F08-9707-8EA2CF5F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A8A75F-C7E4-44E8-97A9-EFE58F3D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98BDD6-8B7F-442E-9DC5-F086C9B0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B690B5-44D7-4B0A-A801-2AED6AEA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13EE7F-1FB3-45F8-B5EB-5F5D4508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8E90F-103E-4ADF-B2A8-B6551517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2603300-0816-4347-A6EC-413A2D14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AC22D6-7B29-410F-8C0B-F5FF512D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45501F6-4F31-4128-BDD3-7F70CC12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26310C-8AC6-4BF4-AC5A-3DBBE729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9F15AF8-E505-4AC2-9769-BDD46719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C0BCBC-FD45-4BFC-BB52-EF3525DD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D4DED9-C190-408D-B83E-A1094979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768ADA-50B7-40E8-8CFE-22D1026D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D4DD1D-A476-4E8A-B25B-6A6A5466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18F980-B4D9-4FF4-9FF6-E5BA2686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397B8-027C-4667-9644-650AEC02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B666B8-2A2A-4B73-AD0E-4FB4ED0E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2C18C-F92C-4127-892D-7D4DB453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B6890-8771-46C8-96E6-8DA91B80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A5906-CB7E-4129-8AFD-03D9FEF1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E9AB-065A-458B-AF0D-85CB809F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F95E2-59DE-4C31-A137-E9CD7292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FF908-412D-4163-9AAA-E2FE2581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DA441-6331-4DE6-8F38-2ABFAC52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EAD8A-732E-4986-B67F-09DA40B5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98DF8-96DD-4601-B53E-49D27E92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01110-939D-4A23-BEA8-76AA2EAD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57810-5D25-4C38-A24E-BFC1E5D2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3392C-392E-4E57-88DE-5E7B8983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9E57D-ED90-4E6C-A3AB-C26AC7E3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56313-D3B9-4273-94F5-3B4F33971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EF8A-53EA-4467-9200-AB30C47D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7FE31-6FDC-4387-BF7B-2285D6F4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E92E0-B191-4680-9006-DDC341DC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FD886-85B9-48E0-BA98-472D4632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2E791-8CDE-4549-9E01-966E3922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A5DC5-0E0A-4CF3-AB11-8A19D297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DB9FF-7D35-4F10-A49B-8C625C1E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CFDEE-3D89-47BA-939E-A5303BB3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DCFB0-E54B-4199-88D5-CDD52D46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5AF1D-0033-48E9-98BC-8C834B38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CF11F-4540-496F-B630-86DE1C22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0105-725D-40BC-9FBA-E3762FC0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4AAC1-FBAE-47C6-A7EE-8B35EC20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19CC0-0438-4C85-9C5D-6D1E67BF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7FF19-3C31-4120-A356-719CD46D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2241F-437D-4151-80AD-77EF258F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69476-482F-43EC-AD62-09BC518C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768A1-401A-4EA5-8427-7B66EC3E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76F3C-677C-4205-B603-A3B08ECF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AD842-824C-4C3B-A9D6-C0267AD0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BF7C9-4D50-46B9-85A3-8CDFC088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9E7E3-B1CC-471C-8DBE-E4D54167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BB17-DDC8-49D6-B786-7A0D95C8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3C545-8130-47B8-B67C-00F16624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3138F-AA30-4993-B1D5-2E163182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72C60-506E-4AC5-BCF1-22964674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B1F8B7-D096-4752-89CE-8963D841F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770F60-7CB9-4C8D-B6BA-CE1AA91A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D71DFE-3204-486E-AC58-D69B4A39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31EAE4-CCF9-440E-9225-6C842926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C158AB-8455-4FA8-B0C2-5E492FA5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FD0EC7-2427-47A2-8633-76C662E2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B77F59-FD01-4929-9FC6-2FA40E33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25F5-81B1-40CF-B80B-179A466C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DD211F-8D20-4E43-B492-58C2ACEE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3E9859-255A-4ECA-9A74-E20CCB95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FFEC64-F05D-4D54-89BB-410813CC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EA33AB-01AC-4ABB-ACA5-C092789D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731F0D-1689-4CBD-804C-7C35AA23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B8B19-A9CD-4DBB-A913-42F26F9F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60D99-5679-4531-B4F5-D8101078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1C417-AA11-40E1-B5B7-55A6AE16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CE560-BB3D-42DE-970E-8DB4F359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CC6AA-0034-4C2E-95C6-6C94FF6A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D377-3A92-4C88-81B4-CE4638BE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809C4-D911-4E54-B83B-8C84182D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5F3C0-78B0-434D-9B7F-A4A2AE54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CD3C8-BD04-4A4D-8DAE-DFCEC4C8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35978-23E6-47C9-AE90-6E484BF0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4B4DC-7706-46DE-8F29-05E8B10D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14AF9-B74B-4236-A580-BD6FF6EA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B072E-CD7B-4EAB-86A5-5C3623AF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EF029D-C63A-4944-B256-D93F9223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92A44D-98FD-4235-91C5-D8BD13DD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62DDDF-E944-4088-9A20-84B27728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E47A-EDDD-45AE-829B-8C95B3111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7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3637-2F2B-408E-9101-7BCAFB2BCD3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634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635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638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641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644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648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52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4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55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7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58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0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61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3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664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6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667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9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2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673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5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676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8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679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1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682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4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685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688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0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691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3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94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6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97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9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2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3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5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06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8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09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1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13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714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6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717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9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720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2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723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5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726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8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729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1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732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4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735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7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738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0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741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3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744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46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8D79-2CEA-428F-9CB3-B3C4ECE5C2A6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810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811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814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815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816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8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819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820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1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2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823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4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5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826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7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8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829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0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1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832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3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4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835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6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7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838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9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0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841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2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3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844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5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6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847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9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850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1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2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853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5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856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7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8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859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0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1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862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4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865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6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7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868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9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0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871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2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3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874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5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6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877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8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9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880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1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2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84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885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6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7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888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9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0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91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3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94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6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97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9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900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1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2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903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4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5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906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7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8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909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0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1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912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3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4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915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6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17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918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919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6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92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E2A2-8214-44A2-A2F4-0B686A36D814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8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8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9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2774-5D83-4825-9EA3-AD4044993E4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4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175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176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89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90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dt" idx="4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05A5-CF98-4114-B914-6630F4D7A0E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5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366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1" name="PlaceHolder 1"/>
          <p:cNvSpPr>
            <a:spLocks noGrp="1"/>
          </p:cNvSpPr>
          <p:nvPr>
            <p:ph type="sldNum" idx="4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AC29-FCEC-41F2-8EC7-995C8E4637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 type="dt" idx="4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 type="ftr" idx="4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2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623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73E5-3FFA-4630-8A50-9CF275AA59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87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7" name="PlaceHolder 1"/>
          <p:cNvSpPr>
            <a:spLocks noGrp="1"/>
          </p:cNvSpPr>
          <p:nvPr>
            <p:ph type="dt" idx="4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 type="ftr" idx="5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 type="sldNum" idx="5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F603-E1BC-4104-851F-8D9F9D120B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92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 type="dt" idx="5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 type="ftr" idx="5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 type="sldNum" idx="5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E844-38F1-44F6-9B1B-081A297C7F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5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976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9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980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3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04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005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0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1C15-2A7A-417C-A6F7-21F0758F953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13BD-908A-4E93-ACEB-FB3913A95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3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054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57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058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71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82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083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88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F625-F1DB-4B9A-A843-C21CA728B40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6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2AA0-B985-4A00-AEEB-D6078E30847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A34A-27D2-4537-B699-6B772E02BCC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 type="dt" idx="6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 type="ftr" idx="6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PlaceHolder 5"/>
          <p:cNvSpPr>
            <a:spLocks noGrp="1"/>
          </p:cNvSpPr>
          <p:nvPr>
            <p:ph type="sldNum" idx="6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9263-D8A3-4ADB-B63B-347E764EB7F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26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26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26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6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dt" idx="7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ftr" idx="7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 type="sldNum" idx="7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264D-5E39-4B1F-A4D9-2474F05628D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31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 type="dt" idx="7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 type="ftr" idx="7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PlaceHolder 5"/>
          <p:cNvSpPr>
            <a:spLocks noGrp="1"/>
          </p:cNvSpPr>
          <p:nvPr>
            <p:ph type="sldNum" idx="7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5815-A8E1-465A-A4A6-71AA257A790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8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389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3" name="PlaceHolder 1"/>
          <p:cNvSpPr>
            <a:spLocks noGrp="1"/>
          </p:cNvSpPr>
          <p:nvPr>
            <p:ph type="dt" idx="7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ftr" idx="7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 type="sldNum" idx="7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2A19-2E91-4E2E-96B8-8B71B1D47D4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3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464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6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PlaceHolder 3"/>
          <p:cNvSpPr>
            <a:spLocks noGrp="1"/>
          </p:cNvSpPr>
          <p:nvPr>
            <p:ph type="dt" idx="7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5"/>
          <p:cNvSpPr>
            <a:spLocks noGrp="1"/>
          </p:cNvSpPr>
          <p:nvPr>
            <p:ph type="sldNum" idx="8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AC82-72CC-4A03-BE1E-EE4073EE505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508" name="PlaceHolder 1"/>
          <p:cNvSpPr>
            <a:spLocks noGrp="1"/>
          </p:cNvSpPr>
          <p:nvPr>
            <p:ph type="dt" idx="8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 type="sldNum" idx="8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592E-12B5-4DED-914C-C8225C3EE10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8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549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4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5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62E9-5879-4319-913E-3CED25FBF6A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CE56-B836-4BCD-A0B2-1FF279DD3F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2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593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5" name="PlaceHolder 1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2DB3-F0EC-4873-ACFB-547FF401E85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6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6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7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85C5-B34A-4E1D-86CA-0075023056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1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2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2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3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4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6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0B97-6B3A-46DD-BCCC-DBD5274DB4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1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19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21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3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2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37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3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57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2746-8F68-45C6-B856-A6439CF9031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9568-91F6-4710-B02D-CD979A1BD73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1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1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0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6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6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3766-D054-444E-B3EB-0E18723E968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0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10E8-6770-4760-9407-8645A4B5EE9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9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8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2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1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26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4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24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images.yandex.ru/yandpage?&amp;p=2&amp;text=&#1044;&#1091;&#1084;&#1072;%20&#1056;&#1086;&#1089;&#1089;&#1080;&#1080;&amp;rpt=simage" TargetMode="External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296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&amp;p=40&amp;text=&#1044;&#1091;&#1084;&#1072;%20&#1056;&#1086;&#1089;&#1089;&#1080;&#1080;&amp;rpt=simage" TargetMode="External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28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25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4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hyperlink" Target="javascript:;" TargetMode="External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56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javascript:;" TargetMode="External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5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javascript:;" TargetMode="External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f7d47d"/>
                </a:solidFill>
                <a:latin typeface="Comic Sans MS"/>
              </a:rPr>
              <a:t>   </a:t>
            </a:r>
            <a:r>
              <a:rPr b="1" lang="de-DE" sz="6000" spc="-1" strike="noStrike">
                <a:solidFill>
                  <a:srgbClr val="f7d47d"/>
                </a:solidFill>
                <a:latin typeface="Comic Sans MS"/>
              </a:rPr>
              <a:t>Meine Heimat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Klass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Lehrer : Gratschjowa N.P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Priobj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fdef6"/>
                </a:solidFill>
                <a:latin typeface="Arial"/>
              </a:rPr>
              <a:t>WLADIMI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2667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5761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fdef6"/>
                </a:solidFill>
                <a:latin typeface="Arial"/>
              </a:rPr>
              <a:t>JAROSLAW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2669" name=""/>
          <p:cNvGraphicFramePr/>
          <p:nvPr/>
        </p:nvGraphicFramePr>
        <p:xfrm>
          <a:off x="971640" y="1484280"/>
          <a:ext cx="7416720" cy="45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84280"/>
                    <a:ext cx="741672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fdef6"/>
                </a:solidFill>
                <a:latin typeface="Arial"/>
              </a:rPr>
              <a:t>TW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2672" name=""/>
          <p:cNvGraphicFramePr/>
          <p:nvPr/>
        </p:nvGraphicFramePr>
        <p:xfrm>
          <a:off x="971640" y="1484280"/>
          <a:ext cx="7561080" cy="482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84280"/>
                    <a:ext cx="756108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fdef6"/>
                </a:solidFill>
                <a:latin typeface="Arial"/>
              </a:rPr>
              <a:t>NISHNIJ  NOWGORO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2675" name=""/>
          <p:cNvGraphicFramePr/>
          <p:nvPr/>
        </p:nvGraphicFramePr>
        <p:xfrm>
          <a:off x="1258920" y="1268280"/>
          <a:ext cx="6769080" cy="558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268280"/>
                    <a:ext cx="676908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b7"/>
                </a:solidFill>
                <a:latin typeface="Arial Black"/>
              </a:rPr>
              <a:t>                  </a:t>
            </a:r>
            <a:r>
              <a:rPr b="1" lang="de-DE" sz="4400" spc="-1" strike="noStrike">
                <a:solidFill>
                  <a:srgbClr val="ffffb7"/>
                </a:solidFill>
                <a:latin typeface="Arial Black"/>
              </a:rPr>
              <a:t>- 8,9 -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Unser Land ist  reich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ODENSCHÄTZ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Fast alle Bodenschätze der Erde kommen in unserem Lande v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(Öl,Stein-und Braun-kohl,Gas,Gold us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9" name="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45007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                   </a:t>
            </a: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- 10, 11 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Das Klima und die Nat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Unseres Landes sind verschiedenarti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Im Süden haben wir Steppen,im Zentrum des Landes-Ebenen und Wälder, im Norden-Tundra und Taiga, im Osten- Berge und Wüste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82" name="" descr=""/>
          <p:cNvPicPr/>
          <p:nvPr/>
        </p:nvPicPr>
        <p:blipFill>
          <a:blip r:embed="rId1"/>
          <a:stretch/>
        </p:blipFill>
        <p:spPr>
          <a:xfrm>
            <a:off x="4284720" y="1844640"/>
            <a:ext cx="48592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- 12 -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In  unserem  L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gibt  es  mehr  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2 Mio Flüs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685" name=""/>
          <p:cNvGraphicFramePr/>
          <p:nvPr/>
        </p:nvGraphicFramePr>
        <p:xfrm>
          <a:off x="4500720" y="1844640"/>
          <a:ext cx="4035240" cy="626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844640"/>
                    <a:ext cx="403524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-  13  -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DIE  WOLG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IS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DER LÄNGS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FLUß  EUROP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89" name="" descr=""/>
          <p:cNvPicPr/>
          <p:nvPr/>
        </p:nvPicPr>
        <p:blipFill>
          <a:blip r:embed="rId1"/>
          <a:stretch/>
        </p:blipFill>
        <p:spPr>
          <a:xfrm>
            <a:off x="4284720" y="1557360"/>
            <a:ext cx="45352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-  14  -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Die  Hauptflüsse  d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Sibiriens  sin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ffffff"/>
                </a:solidFill>
                <a:latin typeface="Garamond"/>
              </a:rPr>
              <a:t>Ob, Jenissej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ffffff"/>
                </a:solidFill>
                <a:latin typeface="Garamond"/>
              </a:rPr>
              <a:t>und  Lena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92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Ob (die Explosion  N2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694" name="" descr=""/>
          <p:cNvPicPr/>
          <p:nvPr/>
        </p:nvPicPr>
        <p:blipFill>
          <a:blip r:embed="rId1"/>
          <a:stretch/>
        </p:blipFill>
        <p:spPr>
          <a:xfrm>
            <a:off x="831960" y="1600200"/>
            <a:ext cx="3287520" cy="2185920"/>
          </a:xfrm>
          <a:prstGeom prst="rect">
            <a:avLst/>
          </a:prstGeom>
          <a:ln w="0">
            <a:noFill/>
          </a:ln>
        </p:spPr>
      </p:pic>
      <p:pic>
        <p:nvPicPr>
          <p:cNvPr id="2695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696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697" name="" descr=""/>
          <p:cNvPicPr/>
          <p:nvPr/>
        </p:nvPicPr>
        <p:blipFill>
          <a:blip r:embed="rId4"/>
          <a:stretch/>
        </p:blipFill>
        <p:spPr>
          <a:xfrm>
            <a:off x="5022720" y="3938760"/>
            <a:ext cx="32893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eec94"/>
                </a:solidFill>
                <a:latin typeface="Times New Roman"/>
              </a:rPr>
              <a:t>-  1 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29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ffffff"/>
                </a:solidFill>
                <a:latin typeface="Times New Roman"/>
              </a:rPr>
              <a:t>Unser Lan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de-DE" sz="5400" spc="-1" strike="noStrike">
                <a:solidFill>
                  <a:srgbClr val="ffffff"/>
                </a:solidFill>
                <a:latin typeface="Times New Roman"/>
              </a:rPr>
              <a:t>heiß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6" name="" descr=""/>
          <p:cNvPicPr/>
          <p:nvPr/>
        </p:nvPicPr>
        <p:blipFill>
          <a:blip r:embed="rId1"/>
          <a:stretch/>
        </p:blipFill>
        <p:spPr>
          <a:xfrm>
            <a:off x="5003640" y="1628640"/>
            <a:ext cx="329112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               </a:t>
            </a: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- 15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Der tiefste  Se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der Welt ist de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BAIKAL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0" name="" descr=""/>
          <p:cNvPicPr/>
          <p:nvPr/>
        </p:nvPicPr>
        <p:blipFill>
          <a:blip r:embed="rId1"/>
          <a:stretch/>
        </p:blipFill>
        <p:spPr>
          <a:xfrm>
            <a:off x="4211640" y="1795320"/>
            <a:ext cx="447516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                   </a:t>
            </a: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- 15 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Seine Tief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beträgt  1600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Me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3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4402080" cy="2303640"/>
          </a:xfrm>
          <a:prstGeom prst="rect">
            <a:avLst/>
          </a:prstGeom>
          <a:ln w="0">
            <a:noFill/>
          </a:ln>
        </p:spPr>
      </p:pic>
      <p:pic>
        <p:nvPicPr>
          <p:cNvPr id="2704" name="" descr=""/>
          <p:cNvPicPr/>
          <p:nvPr/>
        </p:nvPicPr>
        <p:blipFill>
          <a:blip r:embed="rId2"/>
          <a:stretch/>
        </p:blipFill>
        <p:spPr>
          <a:xfrm>
            <a:off x="4284720" y="4005360"/>
            <a:ext cx="4402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Baikal  aus dem Kosm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7" name="" descr=""/>
          <p:cNvPicPr/>
          <p:nvPr/>
        </p:nvPicPr>
        <p:blipFill>
          <a:blip r:embed="rId1"/>
          <a:stretch/>
        </p:blipFill>
        <p:spPr>
          <a:xfrm>
            <a:off x="468360" y="1523880"/>
            <a:ext cx="828036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-   16  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de-DE" sz="4000" spc="-1" strike="noStrike">
                <a:solidFill>
                  <a:srgbClr val="ffffff"/>
                </a:solidFill>
                <a:latin typeface="Verdana"/>
              </a:rPr>
              <a:t>Die  russische  Föderation  is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de-DE" sz="4000" spc="-1" strike="noStrike">
                <a:solidFill>
                  <a:srgbClr val="ffffff"/>
                </a:solidFill>
                <a:latin typeface="Verdana"/>
              </a:rPr>
              <a:t>eine  Präsidentenrepublik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                </a:t>
            </a: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-  17 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711" name=""/>
          <p:cNvGraphicFramePr/>
          <p:nvPr/>
        </p:nvGraphicFramePr>
        <p:xfrm>
          <a:off x="539640" y="2349360"/>
          <a:ext cx="4529160" cy="36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349360"/>
                    <a:ext cx="4529160" cy="36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3" name="PlaceHolder 2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as  Staatsoberhau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der  Präsi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de-DE" sz="5400" spc="-1" strike="noStrike">
                <a:solidFill>
                  <a:srgbClr val="000000"/>
                </a:solidFill>
                <a:latin typeface="Verdana"/>
              </a:rPr>
              <a:t>W. PUTIN 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6" name="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6193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5400" spc="-1" strike="noStrike">
                <a:solidFill>
                  <a:srgbClr val="000000"/>
                </a:solidFill>
                <a:latin typeface="Verdana"/>
              </a:rPr>
              <a:t>Unser  Präsident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8" name="" descr=""/>
          <p:cNvPicPr/>
          <p:nvPr/>
        </p:nvPicPr>
        <p:blipFill>
          <a:blip r:embed="rId2"/>
          <a:stretch/>
        </p:blipFill>
        <p:spPr>
          <a:xfrm>
            <a:off x="566640" y="2023920"/>
            <a:ext cx="3924360" cy="3722760"/>
          </a:xfrm>
          <a:prstGeom prst="rect">
            <a:avLst/>
          </a:prstGeom>
          <a:ln w="0">
            <a:noFill/>
          </a:ln>
        </p:spPr>
      </p:pic>
      <p:pic>
        <p:nvPicPr>
          <p:cNvPr id="2719" name="" descr=""/>
          <p:cNvPicPr/>
          <p:nvPr/>
        </p:nvPicPr>
        <p:blipFill>
          <a:blip r:embed="rId3"/>
          <a:stretch/>
        </p:blipFill>
        <p:spPr>
          <a:xfrm>
            <a:off x="4890960" y="2597040"/>
            <a:ext cx="342900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bbd71"/>
                </a:solidFill>
                <a:latin typeface="Arial"/>
              </a:rPr>
              <a:t>-  18  -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43909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ahoma"/>
              </a:rPr>
              <a:t>Das  höchs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de-DE" sz="3600" spc="-1" strike="noStrike">
                <a:solidFill>
                  <a:srgbClr val="ffffff"/>
                </a:solidFill>
                <a:latin typeface="Tahoma"/>
              </a:rPr>
              <a:t>gesetzgebend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de-DE" sz="3600" spc="-1" strike="noStrike">
                <a:solidFill>
                  <a:srgbClr val="ffffff"/>
                </a:solidFill>
                <a:latin typeface="Tahoma"/>
              </a:rPr>
              <a:t>Organ  ist  d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de-DE" sz="3600" spc="-1" strike="noStrike">
                <a:solidFill>
                  <a:srgbClr val="ffffff"/>
                </a:solidFill>
                <a:latin typeface="Tahoma"/>
              </a:rPr>
              <a:t>PARLA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22" name="" descr=" "/>
          <p:cNvPicPr/>
          <p:nvPr/>
        </p:nvPicPr>
        <p:blipFill>
          <a:blip r:embed="rId1"/>
          <a:stretch/>
        </p:blipFill>
        <p:spPr>
          <a:xfrm>
            <a:off x="5292720" y="1185840"/>
            <a:ext cx="3382920" cy="2538360"/>
          </a:xfrm>
          <a:prstGeom prst="rect">
            <a:avLst/>
          </a:prstGeom>
          <a:ln w="0">
            <a:noFill/>
          </a:ln>
        </p:spPr>
      </p:pic>
      <p:pic>
        <p:nvPicPr>
          <p:cNvPr id="2723" name="i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4005360"/>
            <a:ext cx="3456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dbbd71"/>
                </a:solidFill>
                <a:latin typeface="Arial"/>
              </a:rPr>
              <a:t>-19-Parlament  Rußlands</a:t>
            </a:r>
            <a:br>
              <a:rPr sz="4000"/>
            </a:br>
            <a:r>
              <a:rPr b="0" lang="de-DE" sz="3200" spc="-1" strike="noStrike">
                <a:solidFill>
                  <a:srgbClr val="dbbd71"/>
                </a:solidFill>
                <a:latin typeface="Arial"/>
              </a:rPr>
              <a:t>Es besteht aus 2 Kammern:aus dem Föderationsrat und aus der Staatsduma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725" name="i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852640"/>
            <a:ext cx="3743280" cy="2694240"/>
          </a:xfrm>
          <a:prstGeom prst="rect">
            <a:avLst/>
          </a:prstGeom>
          <a:ln w="0">
            <a:noFill/>
          </a:ln>
        </p:spPr>
      </p:pic>
      <p:pic>
        <p:nvPicPr>
          <p:cNvPr id="2726" name="" descr=" "/>
          <p:cNvPicPr/>
          <p:nvPr/>
        </p:nvPicPr>
        <p:blipFill>
          <a:blip r:embed="rId3"/>
          <a:stretch/>
        </p:blipFill>
        <p:spPr>
          <a:xfrm>
            <a:off x="5003640" y="1773360"/>
            <a:ext cx="34308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de-DE" sz="3800" spc="-1" strike="noStrike">
                <a:solidFill>
                  <a:srgbClr val="000000"/>
                </a:solidFill>
                <a:latin typeface="Verdana"/>
              </a:rPr>
              <a:t>-20-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28" name=""/>
          <p:cNvGraphicFramePr/>
          <p:nvPr/>
        </p:nvGraphicFramePr>
        <p:xfrm>
          <a:off x="2627280" y="1628640"/>
          <a:ext cx="3816360" cy="2305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1628640"/>
                    <a:ext cx="38163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0" name="PlaceHolder 2"/>
          <p:cNvSpPr>
            <a:spLocks noGrp="1"/>
          </p:cNvSpPr>
          <p:nvPr>
            <p:ph/>
          </p:nvPr>
        </p:nvSpPr>
        <p:spPr>
          <a:xfrm>
            <a:off x="566280" y="3962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de-DE" sz="4000" spc="-1" strike="noStrike">
                <a:solidFill>
                  <a:srgbClr val="000000"/>
                </a:solidFill>
                <a:latin typeface="Verdana"/>
              </a:rPr>
              <a:t>Die  Staatsfarb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4000" spc="-1" strike="noStrike">
                <a:solidFill>
                  <a:srgbClr val="000000"/>
                </a:solidFill>
                <a:latin typeface="Verdana"/>
              </a:rPr>
              <a:t>sind  weiß-blau-ro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eec94"/>
                </a:solidFill>
                <a:latin typeface="Times New Roman"/>
              </a:rPr>
              <a:t>- 1 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200" spc="-1" strike="noStrike">
                <a:solidFill>
                  <a:srgbClr val="ffffff"/>
                </a:solidFill>
                <a:latin typeface="Times New Roman"/>
              </a:rPr>
              <a:t>Rußland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9" name="" descr=""/>
          <p:cNvPicPr/>
          <p:nvPr/>
        </p:nvPicPr>
        <p:blipFill>
          <a:blip r:embed="rId1"/>
          <a:stretch/>
        </p:blipFill>
        <p:spPr>
          <a:xfrm>
            <a:off x="5021280" y="1600200"/>
            <a:ext cx="3290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de-DE" sz="3800" spc="-1" strike="noStrike">
                <a:solidFill>
                  <a:srgbClr val="000000"/>
                </a:solidFill>
                <a:latin typeface="Verdana"/>
              </a:rPr>
              <a:t>- 21 -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Verdana"/>
              </a:rPr>
              <a:t>Das Staats-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4000" spc="-1" strike="noStrike">
                <a:solidFill>
                  <a:srgbClr val="000000"/>
                </a:solidFill>
                <a:latin typeface="Verdana"/>
              </a:rPr>
              <a:t>wappen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de-DE" sz="4000" spc="-1" strike="noStrike">
                <a:solidFill>
                  <a:srgbClr val="000000"/>
                </a:solidFill>
                <a:latin typeface="Verdana"/>
              </a:rPr>
              <a:t>ist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der zweiköpfig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Adler</a:t>
            </a:r>
            <a:r>
              <a:rPr b="0" lang="de-DE" sz="40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3" name="" descr=""/>
          <p:cNvPicPr/>
          <p:nvPr/>
        </p:nvPicPr>
        <p:blipFill>
          <a:blip r:embed="rId2"/>
          <a:stretch/>
        </p:blipFill>
        <p:spPr>
          <a:xfrm>
            <a:off x="701640" y="1916280"/>
            <a:ext cx="37418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8c0039"/>
                </a:solidFill>
                <a:latin typeface="Arial"/>
              </a:rPr>
              <a:t>                    </a:t>
            </a:r>
            <a:r>
              <a:rPr b="0" lang="de-DE" sz="3600" spc="-1" strike="noStrike">
                <a:solidFill>
                  <a:srgbClr val="8c0039"/>
                </a:solidFill>
                <a:latin typeface="Arial"/>
              </a:rPr>
              <a:t>-  22  -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4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 der Spit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r  Reg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6" name="" descr=""/>
          <p:cNvPicPr/>
          <p:nvPr/>
        </p:nvPicPr>
        <p:blipFill>
          <a:blip r:embed="rId1"/>
          <a:stretch/>
        </p:blipFill>
        <p:spPr>
          <a:xfrm>
            <a:off x="5003640" y="2589120"/>
            <a:ext cx="3845160" cy="21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teht  der  Minister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räs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9" name="" descr=""/>
          <p:cNvPicPr/>
          <p:nvPr/>
        </p:nvPicPr>
        <p:blipFill>
          <a:blip r:embed="rId1"/>
          <a:stretch/>
        </p:blipFill>
        <p:spPr>
          <a:xfrm>
            <a:off x="4824360" y="3924360"/>
            <a:ext cx="162900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8c0039"/>
                </a:solidFill>
                <a:latin typeface="Arial"/>
              </a:rPr>
              <a:t>Unsere  Regierung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741" name="" descr=""/>
          <p:cNvPicPr/>
          <p:nvPr/>
        </p:nvPicPr>
        <p:blipFill>
          <a:blip r:embed="rId1"/>
          <a:stretch/>
        </p:blipFill>
        <p:spPr>
          <a:xfrm>
            <a:off x="2438280" y="1717560"/>
            <a:ext cx="6400800" cy="426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cc"/>
                </a:solidFill>
                <a:latin typeface="Tahoma"/>
              </a:rPr>
              <a:t>-  23  -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ffff"/>
                </a:solidFill>
                <a:latin typeface="Tahoma"/>
              </a:rPr>
              <a:t>Die  Außenpolitik  unse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de-DE" sz="4800" spc="-1" strike="noStrike">
                <a:solidFill>
                  <a:srgbClr val="ffffff"/>
                </a:solidFill>
                <a:latin typeface="Tahoma"/>
              </a:rPr>
              <a:t>Landes  wird  von  den  Prinzipien  der  friedliche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de-DE" sz="4800" spc="-1" strike="noStrike">
                <a:solidFill>
                  <a:srgbClr val="ffffff"/>
                </a:solidFill>
                <a:latin typeface="Tahoma"/>
              </a:rPr>
              <a:t>Koexistenz  bestimm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7d47d"/>
                </a:solidFill>
                <a:latin typeface="Arial"/>
              </a:rPr>
              <a:t>                    </a:t>
            </a:r>
            <a:r>
              <a:rPr b="0" lang="de-DE" sz="4000" spc="-1" strike="noStrike">
                <a:solidFill>
                  <a:srgbClr val="f7d47d"/>
                </a:solidFill>
                <a:latin typeface="Arial"/>
              </a:rPr>
              <a:t>-  24  -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f1311"/>
                </a:solidFill>
                <a:latin typeface="Arial"/>
              </a:rPr>
              <a:t>Die  Russische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f1311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de-DE" sz="3600" spc="-1" strike="noStrike">
                <a:solidFill>
                  <a:srgbClr val="2f1311"/>
                </a:solidFill>
                <a:latin typeface="Arial"/>
              </a:rPr>
              <a:t>Föderation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de-DE" sz="3600" spc="-1" strike="noStrike">
                <a:solidFill>
                  <a:srgbClr val="2f1311"/>
                </a:solidFill>
                <a:latin typeface="Arial"/>
              </a:rPr>
              <a:t>ist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f1311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de-DE" sz="3600" spc="-1" strike="noStrike">
                <a:solidFill>
                  <a:srgbClr val="2f1311"/>
                </a:solidFill>
                <a:latin typeface="Arial"/>
              </a:rPr>
              <a:t>Mitglied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46" name="img121994" descr="Фото пресс-службы Президента России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1197000"/>
            <a:ext cx="3384720" cy="2257560"/>
          </a:xfrm>
          <a:prstGeom prst="rect">
            <a:avLst/>
          </a:prstGeom>
          <a:ln w="0">
            <a:noFill/>
          </a:ln>
        </p:spPr>
      </p:pic>
      <p:pic>
        <p:nvPicPr>
          <p:cNvPr id="2747" name="" descr="Фото пресс-службы Президента России"/>
          <p:cNvPicPr/>
          <p:nvPr/>
        </p:nvPicPr>
        <p:blipFill>
          <a:blip r:embed="rId4"/>
          <a:stretch/>
        </p:blipFill>
        <p:spPr>
          <a:xfrm>
            <a:off x="3995640" y="3878280"/>
            <a:ext cx="3313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7d47d"/>
                </a:solidFill>
                <a:latin typeface="Arial"/>
              </a:rPr>
              <a:t>             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/>
          </p:nvPr>
        </p:nvSpPr>
        <p:spPr>
          <a:xfrm>
            <a:off x="263520" y="3922200"/>
            <a:ext cx="738648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2f1311"/>
                </a:solidFill>
                <a:latin typeface="Arial"/>
              </a:rPr>
              <a:t>der Gemeinschaft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2f1311"/>
                </a:solidFill>
                <a:latin typeface="Arial"/>
              </a:rPr>
              <a:t>             </a:t>
            </a:r>
            <a:r>
              <a:rPr b="0" lang="de-DE" sz="4000" spc="-1" strike="noStrike">
                <a:solidFill>
                  <a:srgbClr val="2f1311"/>
                </a:solidFill>
                <a:latin typeface="Arial"/>
              </a:rPr>
              <a:t>Unabhängiger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2f1311"/>
                </a:solidFill>
                <a:latin typeface="Arial"/>
              </a:rPr>
              <a:t>                        </a:t>
            </a:r>
            <a:r>
              <a:rPr b="0" lang="de-DE" sz="4000" spc="-1" strike="noStrike">
                <a:solidFill>
                  <a:srgbClr val="2f1311"/>
                </a:solidFill>
                <a:latin typeface="Arial"/>
              </a:rPr>
              <a:t>Staaten  (GUS) 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50" name="img122000" descr="Фото пресс-службы Президента России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641600"/>
            <a:ext cx="3240000" cy="2160360"/>
          </a:xfrm>
          <a:prstGeom prst="rect">
            <a:avLst/>
          </a:prstGeom>
          <a:ln w="0">
            <a:noFill/>
          </a:ln>
        </p:spPr>
      </p:pic>
      <p:pic>
        <p:nvPicPr>
          <p:cNvPr id="2751" name="" descr="Фото пресс-службы Президента России"/>
          <p:cNvPicPr/>
          <p:nvPr/>
        </p:nvPicPr>
        <p:blipFill>
          <a:blip r:embed="rId4"/>
          <a:stretch/>
        </p:blipFill>
        <p:spPr>
          <a:xfrm>
            <a:off x="4284720" y="1657440"/>
            <a:ext cx="309564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7d47d"/>
                </a:solidFill>
                <a:latin typeface="Arial"/>
              </a:rPr>
              <a:t>                    </a:t>
            </a:r>
            <a:r>
              <a:rPr b="0" lang="de-DE" sz="6000" spc="-1" strike="noStrike">
                <a:solidFill>
                  <a:srgbClr val="f7d47d"/>
                </a:solidFill>
                <a:latin typeface="Arial"/>
              </a:rPr>
              <a:t>GUS</a:t>
            </a:r>
            <a:br>
              <a:rPr sz="6000"/>
            </a:br>
            <a:r>
              <a:rPr b="0" lang="de-DE" sz="2400" spc="-1" strike="noStrike">
                <a:solidFill>
                  <a:srgbClr val="f7d47d"/>
                </a:solidFill>
                <a:latin typeface="Arial"/>
              </a:rPr>
              <a:t>GEMEINSCHAFT  UNABHÄNGIGER  STAATEN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53" name="img122013" descr="Фото пресс-службы Президента Росси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050920"/>
            <a:ext cx="3313080" cy="2567160"/>
          </a:xfrm>
          <a:prstGeom prst="rect">
            <a:avLst/>
          </a:prstGeom>
          <a:ln w="0">
            <a:noFill/>
          </a:ln>
        </p:spPr>
      </p:pic>
      <p:pic>
        <p:nvPicPr>
          <p:cNvPr id="2754" name="" descr="Фото пресс-службы Президента России"/>
          <p:cNvPicPr/>
          <p:nvPr/>
        </p:nvPicPr>
        <p:blipFill>
          <a:blip r:embed="rId3"/>
          <a:stretch/>
        </p:blipFill>
        <p:spPr>
          <a:xfrm>
            <a:off x="4067280" y="2098800"/>
            <a:ext cx="345744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Tahoma"/>
              </a:rPr>
              <a:t>                   </a:t>
            </a:r>
            <a:r>
              <a:rPr b="0" lang="de-DE" sz="3600" spc="-1" strike="noStrike">
                <a:solidFill>
                  <a:srgbClr val="333399"/>
                </a:solidFill>
                <a:latin typeface="Tahoma"/>
              </a:rPr>
              <a:t>- 2 -  </a:t>
            </a: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                                   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0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S  LIEGT 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UROPA  UND ASIE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2" name="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44542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- 3,4 -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Das Territorium Rußlands ist über 1 7  Millionen Quadratkilomete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In Rußland leben etw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150 Millionen Mensch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55" name="" descr=""/>
          <p:cNvPicPr/>
          <p:nvPr/>
        </p:nvPicPr>
        <p:blipFill>
          <a:blip r:embed="rId1"/>
          <a:stretch/>
        </p:blipFill>
        <p:spPr>
          <a:xfrm>
            <a:off x="3995640" y="1341360"/>
            <a:ext cx="40831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ffffcc"/>
                </a:solidFill>
                <a:latin typeface="Tahoma"/>
              </a:rPr>
              <a:t>- 5 -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Die Hauptstadt  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Landes  heiß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de-DE" sz="6000" spc="-1" strike="noStrike">
                <a:solidFill>
                  <a:srgbClr val="ffffff"/>
                </a:solidFill>
                <a:latin typeface="Tahoma"/>
              </a:rPr>
              <a:t>Moskau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8" name="" descr=""/>
          <p:cNvPicPr/>
          <p:nvPr/>
        </p:nvPicPr>
        <p:blipFill>
          <a:blip r:embed="rId1"/>
          <a:stretch/>
        </p:blipFill>
        <p:spPr>
          <a:xfrm>
            <a:off x="4140360" y="1844640"/>
            <a:ext cx="46796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r>
              <a:rPr b="0" lang="de-DE" sz="4400" spc="-1" strike="noStrike">
                <a:solidFill>
                  <a:srgbClr val="ffffff"/>
                </a:solidFill>
                <a:latin typeface="Arial Black"/>
              </a:rPr>
              <a:t>- 6 -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 Black"/>
              </a:rPr>
              <a:t>Sie  wurde  i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 Black"/>
              </a:rPr>
              <a:t>Jahre  1147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de-DE" sz="3200" spc="-1" strike="noStrike">
                <a:solidFill>
                  <a:srgbClr val="ffcc00"/>
                </a:solidFill>
                <a:latin typeface="Arial Black"/>
              </a:rPr>
              <a:t>von Jur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de-DE" sz="3200" spc="-1" strike="noStrike">
                <a:solidFill>
                  <a:srgbClr val="ffcc00"/>
                </a:solidFill>
                <a:latin typeface="Arial Black"/>
              </a:rPr>
              <a:t>DOLGORUK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de-DE" sz="3200" spc="-1" strike="noStrike">
                <a:solidFill>
                  <a:srgbClr val="ffcc00"/>
                </a:solidFill>
                <a:latin typeface="Arial Black"/>
              </a:rPr>
              <a:t>gegründe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661" name="" descr=""/>
          <p:cNvPicPr/>
          <p:nvPr/>
        </p:nvPicPr>
        <p:blipFill>
          <a:blip r:embed="rId1"/>
          <a:stretch/>
        </p:blipFill>
        <p:spPr>
          <a:xfrm>
            <a:off x="4067280" y="1916280"/>
            <a:ext cx="48258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cc"/>
                </a:solidFill>
                <a:latin typeface="Tahoma"/>
              </a:rPr>
              <a:t>Juri  Dolgoruki </a:t>
            </a:r>
            <a:r>
              <a:rPr b="0" lang="de-DE" sz="2000" spc="-1" strike="noStrike">
                <a:solidFill>
                  <a:srgbClr val="ffffcc"/>
                </a:solidFill>
                <a:latin typeface="Tahoma"/>
              </a:rPr>
              <a:t>(unten  links)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663" name="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45356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cc"/>
                </a:solidFill>
                <a:latin typeface="Tahoma"/>
              </a:rPr>
              <a:t>-  7 -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ffff"/>
                </a:solidFill>
                <a:latin typeface="Tahoma"/>
              </a:rPr>
              <a:t>Die  größten  Städte  des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de-DE" sz="4800" spc="-1" strike="noStrike">
                <a:solidFill>
                  <a:srgbClr val="ffffff"/>
                </a:solidFill>
                <a:latin typeface="Tahoma"/>
              </a:rPr>
              <a:t>Landes  sind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1:59:59Z</dcterms:created>
  <dc:creator>Мама</dc:creator>
  <dc:description/>
  <dc:language>en-US</dc:language>
  <cp:lastModifiedBy>talik</cp:lastModifiedBy>
  <dcterms:modified xsi:type="dcterms:W3CDTF">2017-09-16T15:27:34Z</dcterms:modified>
  <cp:revision>7</cp:revision>
  <dc:subject/>
  <dc:title>   Meine Heimat</dc:title>
</cp:coreProperties>
</file>