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49.png" ContentType="image/png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.wmf" ContentType="image/x-wmf"/>
  <Override PartName="/ppt/media/image3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54.jpeg" ContentType="image/jpeg"/>
  <Override PartName="/ppt/media/image36.wmf" ContentType="image/x-wmf"/>
  <Override PartName="/ppt/media/image47.jpeg" ContentType="image/jpeg"/>
  <Override PartName="/ppt/media/image37.jpeg" ContentType="image/jpeg"/>
  <Override PartName="/ppt/media/image44.wmf" ContentType="image/x-wmf"/>
  <Override PartName="/ppt/media/image5.png" ContentType="image/png"/>
  <Override PartName="/ppt/media/image43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30.jpeg" ContentType="image/jpeg"/>
  <Override PartName="/ppt/media/image9.png" ContentType="image/pn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40.jpeg" ContentType="image/jpeg"/>
  <Override PartName="/ppt/media/image1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9E64-C4A3-4741-A183-6BF19A3A9F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C08B-13FF-4DB5-82D4-D18030585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E8E-BA84-44F1-9763-79C7D051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FE8-C59A-4D8A-8311-EE47810E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3F4769-898B-474A-B529-7A8C21F3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F3DA06-B825-488E-9D2C-DEF9275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ED3379-CA05-4B49-A919-C99A7368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C906A2-7F60-4DDB-A31E-F1B13F3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3A77E-6DBE-467D-BF82-50FDCED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C8CB7-CEAA-4652-9379-F9F493BC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7CBC8-00A1-438B-BE0A-0CE991D1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F745BA-BABF-4AC0-967F-BCFA933F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5C4C32-880B-4F32-B368-409AEDFB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82B26-33E3-431B-815E-2ED95891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9B8-D545-4E38-B28E-920480C7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B733D-47A7-45F9-9EDD-816DD3F1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3EBF2-548A-494F-B132-5D0E19D5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C5947-F9F7-4F82-948E-B94ADD59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F6F96-61A5-457B-A85B-41928BF0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D0C9D-FF17-463C-9AD3-6C50B64F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3FA6A-CA9A-4FA9-A8BA-9FF094FA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3FC7A-5A3A-4BCD-B95A-5C3C78F4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F47F5-4F22-4327-BD93-283030FE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48B04-3C29-4BBE-A6AC-B0167895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25E28-5DE6-4E29-9123-5CD261DB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091-2CF1-49EE-9BE8-FFB37D4F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EBBA3-DC1E-4D49-95A6-F5BCF3C8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65CFB-CE28-4763-9DB4-B97192D5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B7BE2-1314-4F39-8FC1-F9BF2B1C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B33CA-DFD6-400E-9E91-12C6C2F4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C4AC8-CF7D-4AD0-8396-32686899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9EE86-12B8-4D69-A962-A14549EA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FACFA-7B4F-463A-A50B-F2A618B1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7A340-03B6-4830-8EA3-755CCD74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1FA84-EA71-4130-A254-F318205C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A9982-E33F-46B0-AB68-0296B631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F009-27A2-40F6-814F-9AF6137C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D577B-BD82-4771-8404-1B1C0F8B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58D16-692C-4C09-9772-D50FDFCD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3CE48-43F2-4C74-8802-949CF2CB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80471-85A0-42A8-A90D-9FBDE64F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9F0A6-68F3-41C5-A684-0BF8DA7D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1ABD6-E534-4C44-9F6F-83568A66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7305E-A5C5-48E7-9021-6371D30D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EE7BF-BDD1-4234-B04A-10C5DD08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3A48E-F105-4E74-A516-E8C373B9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4A15B-0590-40F2-991C-0346BFE9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2F89-F2A9-428B-A70F-C754D445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A3EF4-AFFE-4AF1-8325-8B5E476F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E4AA5-DBDB-49CE-B5D9-9158E336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3AA03-8CE9-493E-B55A-D097C6AF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662D0-C795-4B91-A50D-97AF951F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D7852-2C2F-420A-A378-5CC9338F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68038-0CE2-4A2C-A274-46654D44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2EDB6-3C3B-4CEC-9397-7C23C6DD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00522-CB3D-4749-A066-676F7E20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9D30A-E979-4626-B6A6-E0D8A644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5B80E-7C08-45F8-A6E0-DDD700BB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4903-E718-4A1A-9529-0792CD6F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E3C24-B76D-4679-B256-E86AE82B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2EFB6-BBA7-4166-9077-D8F7E75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0F5AF-5CE3-4117-8939-70307E20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CC956-1529-48C4-AE30-D027E110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F2272-2CA6-4996-A242-C3D1DF0E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27DA7-448F-4488-810A-1271B802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BEAA5-FD70-4D74-9B04-CC226994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5A0AC-FA1C-4E85-9559-FB8F60F4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1C4CB-A5CC-44A7-B02E-0984BCF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10534-B41F-4C4C-A5BD-EC2197DA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19EC-581B-4D8E-8292-7922FA6D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63498-E1AD-442F-938C-2F2F62EE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0497A-8A8D-49CB-AE3B-99B90820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252DB-85B7-4C6E-B278-3B99C9AC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5C865-3ECF-4B6F-AE8B-F3D21FA7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2A2C7-7980-460E-9ABE-D0C2F94E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DB22A-1136-4F02-9107-A6068607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5E083-447E-4735-861E-6D0F7F5A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890DF-4A4B-4B7E-92CB-C17610AC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B7AE2-2087-45BC-AAE8-4C419E15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AE9B4A-0824-4814-8C65-DB3DC807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4F20-DD4C-48E4-8BE4-3FAA702E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896F5F-DF1C-4277-8E52-7387B9BC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177819-ED5E-411D-8E34-762D223C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DDE743-9884-4A99-842A-425311DD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0CCF74-3979-44DE-AE02-108B3D9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CE47D2-C6B7-4C30-8E57-5EF8CCE2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091977-6831-4E25-B347-FB2A950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02289E-7923-4F74-BF57-30BF89C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84D3D0-0BC3-4E45-BB7F-7AB00B6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1060D3-1067-4DBA-A79C-5297D940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041A31-D7F8-4789-9369-5BDA83B8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DCB7-EDCB-4372-8909-68A3F6C9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644C46-C43F-47ED-94BD-7EB7D23C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1AC93-7B41-4B93-9176-25CDEB94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C554D-8D37-4222-87AC-BC9C9C4E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78744-E0AE-481D-92BC-19D6438F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25A37-AA17-457B-B8A8-34DFAC07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EAD16-A673-4327-A78B-6529751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B639A-F54D-4E82-B9C0-F1FD7FED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696F5-8674-446D-B6B3-A5B67A9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A5F13-360C-4D80-8937-0EB0162F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770C4-6D58-458B-86CF-5CC3527D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A906-E94C-4DAD-B63D-84B758EC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3C9D83-E0C9-40E9-A005-C0F5B733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F8A75-0C6F-4886-990F-9A009E01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D6EE1-BB80-4C67-A500-F7FA230B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36A72-9B10-47CA-ABD9-258CEECD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8F41F-F4B5-4275-9686-8C565A89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1B293-11FD-4722-AF94-EFEC232B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DB17D-91C9-4CAE-BDD3-07DA5523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67A9AE-0A4B-46C5-9A03-1B48B1E8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31657-D82F-4D57-8F04-CBDFE7D9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5C36C-9B65-4323-8276-04D97752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459-2118-4F8C-91A8-8AACC129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DBE6-EEF6-415E-AC22-EC55B72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E7767-40F9-47D6-87BB-EA52D803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34851-6387-411D-AF6E-ECF4440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F54A6-AEB0-4979-976B-FAB66187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9F2F0D-181C-45A8-A9F7-FDDC2C18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C9AF8-514A-4242-86F5-98E164A1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D9197D-5485-4050-A325-82E5A5B0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C692C-EE0B-47FA-8C25-9FDC6FF7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4A3F2-D595-4121-A5D0-2854C1BA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5779F-B1D8-4146-B9CA-F3D88BF7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63F57-4EEA-42B5-81BA-8E08DEEC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971A-0388-4652-929F-DA03AD7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9650D-0FA9-4FB3-9056-7105F1EA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8DF4E-6C8F-410C-9716-26530B00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D74A0-917E-4683-A3BA-86F5580E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11D6E-677D-42FD-B5AA-77661496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485F2-5A3C-401B-BB6D-10E864F3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A7887-3E17-4E78-B585-5C3F490C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4EB0A9-59CA-4BD9-B595-FA30611F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AE26F-4BC3-4732-938A-970711D8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90409-E32A-4C39-A070-587DB517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F9478-C15A-482B-8BA6-017A85EC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43FC-FE4C-462D-9CED-EC350192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30502-434A-40A9-AF9C-82F937FD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B7E41-3086-4041-BE8C-13D5C5C7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D19EEE-BE5F-4804-964E-A6511A1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C3CAA-D772-405F-8F39-AA3907F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5CDA9-498A-4481-AC94-168FCF6F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C51AF-E9F6-4A8A-85D8-5FE1F9BD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7AF32-F30E-4127-9A6D-50F5C905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0E8F7-7DEE-46FC-B479-28B212BD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8B8046-FFAF-4F18-9731-128A0479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68256-E061-4968-8D37-7631C576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FDBF-7BF8-4E22-8075-C37E2624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CB3CB3-4300-4079-BFF2-7170A24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A07ED-B371-4E51-94FC-1C1CDB62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63BC0-8540-4BA3-9AB0-0B9246DD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5DD3A-4A41-4C12-9FE7-FA95A2B4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0628A-2A23-4DB5-9AC8-0C5717FB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E32591-A57C-4641-80AA-C40F8AD9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F1C9C-4F7C-4D76-B4D7-75BEE4B7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1C97E-A468-4009-AF77-6DCECA2E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7DDBF-77B3-4885-8050-7A13F46F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FB78D1-B6AD-478E-9EE3-8D82315D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AA74-B8FB-4201-AB9F-C30438F6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00E1E-A28F-4B41-9610-C668DD64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5F281E-A91D-41D4-97AA-38A5935B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11F0A-FBCF-42CD-A143-2926D545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7EC231-31DB-4774-873B-D2A0FD84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E71F0-F1FE-4733-B75B-78C062AF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AC679-EA7D-4FF2-A737-2DF367DD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5D7283-D5C9-4797-8EF7-7872FFED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6F43D4-91C1-409C-9755-857540F5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EF37A-F138-4606-A665-B57CF1D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571F6-7DA3-41F2-97D8-8FF062E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C0DC-D1F1-4443-B295-9758AA2B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EE42C0-ACEA-41BA-99C3-46561B0F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FFDD7-72EA-4075-B562-9AAC6A27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A9698D-EB4E-4059-8BB5-E20FD0F9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5B741-8DCF-4CC0-A7A6-1C621FD6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39853D-EE02-4962-B13C-C40016CF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910928-F56E-4647-8C75-BB240944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1A495-C827-42A3-824F-7487FCD0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579D19-82BD-4C55-8026-B58ECDD2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242945-8B96-49C2-9A9A-975F9056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573E7F-F9DD-4676-B06B-401F169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8895-1364-4BB2-94EF-8D9F8916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F82140-220A-424B-85F3-CA27FB6C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226392-59A0-4A1E-818D-A2F0A9E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52D1BB-1690-4EC8-B640-731E38F6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EC580E-33A5-4F45-BA50-CB5DB3A0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F02C7-D7ED-417D-8953-86B2D469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8A062F-474F-4AD4-B16F-1EB24E53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017F6D-BA34-46FE-91C5-01352A0D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1B6436-9B02-4E5D-9353-9C3C2431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39DC5B-46EC-4F34-964F-5D133388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20FF48-6B1F-4174-8B1C-D796F15C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8594-FF5C-41C1-BC7D-425A3D04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8C7E77-44EC-410E-A097-43B374C2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B745DD-CBEE-4D32-A3E1-9F49641B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39888D-1099-4ADD-ACDA-AEED7C83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934F72-224C-4F1E-9360-26D406BB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E0EFFC-E73D-4B69-916D-FE3078A0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0DE10B-5637-4168-BA18-9BB1C03D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129F65-7331-41D6-A791-4B8D6E10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0FCE68-19C5-4B61-84BA-1A665EB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9FE6B1-5AC8-45E4-A18C-F59B67A5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558D6E-2EB6-4AF1-AF54-DC109440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AB10-B676-4456-B631-36239DE6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D8AA5B-5A29-49B2-9133-E5F995BC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924E5A-B808-40A1-95AF-913E9AB5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251C10-CC91-4160-9D7A-9B4BC0F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BD8ABA-2318-49B9-B4E2-B1BE607A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758294-0862-47C0-9FF7-59E13638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439E66-A727-4C4C-B3DB-FFAAD57E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FFECD6-A164-4F22-B923-816120F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318991-4EF6-4F7F-91FF-9869B973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699A70-E529-4E19-8A50-408D6D31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1B2314-3538-4D95-B92B-EF2115B4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D82E0-528A-4DA4-BD97-51CA1D04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9618F7-813A-4E95-954A-18054FCF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A9BB9E-5808-4785-90EA-4DCDE6D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3EDB1F-EA3B-4E7B-AD37-08DB65E3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3DE4E4-96E9-405E-B6AF-70A211E4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D698D5-E954-4299-A6AB-9540F4F6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80F2BB-34FA-436A-8E06-7337B8B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154C09-742E-419C-B4CC-1ACFB582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DA2425-880E-47BE-B000-92041E0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D7E399-8162-466C-B5E3-A841C524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E2EC33-8808-4337-9410-AF48931F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3CB-4861-45F5-A47B-9BF8E97D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866B-7172-4B28-BD91-F45889C0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9F2C33-6F38-4583-8BB3-E11C03C3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DBBAB7-76E4-4306-BBC8-585BA4EA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EFFD03-C191-461C-8CC1-69833100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C47910-94A6-45EC-9E01-D509915D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FB540E-A24D-403F-885D-141F7CAB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456946-2B6D-4E0F-B008-C8B83EF1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988A5B-DA00-4B3F-B6A7-6D5F7219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018A7F-C0E1-4F0D-93E1-CFF2BEA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12D7A5-F666-4435-A9A1-09B4EC84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E50A43-2204-415A-9EE0-6BA15662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9D18-2754-4C2E-BB4D-27E78FE3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1D5A58-B965-45A7-8B4E-416F1337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ABD4CB-D78E-4A6B-8C23-D00640C7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085CD2-CB48-47EF-BFAD-220B7A29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96B398-1779-4B4A-A13D-5C0F3D62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B040C5-E2F3-4448-82D8-08F96515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D4CE46-78B3-43D8-B4FA-F74E5C85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DB265F-5B99-4C37-AE50-0C9C6E52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BEFFF7-ABCC-485D-9357-3F6C87BE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B69362-2C85-4273-8444-4970AAF2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444EC5-F0E4-4A93-92A9-5AE0CAC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F40E-0D3C-4EA8-ADB2-4C0D1FD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AC3A44-C3AF-4A5C-94A9-FBC5010E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7413AA-5E09-4166-A0D6-8E8AB8C3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7D0373-55EA-4875-B0CA-73EFB774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D5BED5-992E-4394-9D2F-84D1F843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8D354A-9EF7-498E-898F-4F5886B0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56CDAB-53D4-47CC-86FB-8D8EC021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ECC3D6-E4F3-46AE-8C66-545A6064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AEA16C-077E-4F30-BDEC-7868B8DD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FE8589-BF25-47F1-B9C0-1CC0456F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8A634C-F0A1-4710-9823-99258996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2F26-49FF-401F-B06C-AD305EC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472698-9AB2-4F87-8F7F-F7ACBBFC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729584-87BA-41F1-BD8E-66CF9257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FFB23E-8D5F-4A34-B5C5-9F5448AE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C7BBBC-16A9-45F5-8FEC-DB52DD3C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29F7EC-82E1-452C-9DD8-A39F022A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E1DFDA-6780-4A9C-9959-AEF75697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253EFC-3833-4535-AF85-4B5FB856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296195-50A0-4F8B-8991-0BD65438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52F447-ED64-4D72-83D0-9E6301B1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B7DB0B-6CCF-432E-A2A2-C1DDA3A8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13E6-5137-457C-A9D5-65CA5F85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A87ED3-3A02-4DD3-93E1-C3C1208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CD0188-89F5-4FE2-8EC6-07FE65EA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2CC5C9-247D-436B-B2D3-A4113EF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3710B1-65DB-42CC-9AB7-0D0426ED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70D9E6-BA45-4366-B288-3404DA38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95EF21-93E8-405B-B823-D87857E9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3B0247-EDE5-4098-9690-EEA6838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70BFB4-0BAC-4BBB-9375-C8FEF981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E5B7B8-A608-406E-9A7B-32962CF5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D84AF7-45B2-47D1-9B9C-DC16E6E3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6343-BFC7-41A8-93E7-260E895C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040AEC-0C79-469C-9C44-4C315A18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4E4E23-89E9-434E-8692-E60E2479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F1070F-51A3-474F-BA0B-39CCF109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B497D4-9AC5-4B47-820B-879B0A42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AA3E3C-0A53-4CB6-88F4-5B16442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83C254-A5B1-4B3C-A395-6D8FF4F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CEB78F-0B6D-43B8-9F71-BE1BD64D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E84BAF-5F2E-413C-BBDE-CE1EE44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10EEE3-4F43-4FC1-91A6-373709E5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F74361-50C1-4E41-981F-AE26DEBC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C93D-B6F0-4293-AA77-06BC5297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FED0D6-4E83-4A63-A49E-32369D05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0C3B-A35C-49B9-9973-13B88040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44BC4-2347-4FBC-8191-031D6582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E200A-0512-4F2A-BB3E-CF2DAC02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26D-7345-41A9-AEDE-C6E1305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7630-2D40-42E6-955B-89D55D31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1986-06A2-4A76-8E9E-A00B9203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6807-7F5B-42CF-A131-51AF0D4E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1892-5CE1-48BA-B0C4-40507F9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8984-35CE-4214-888D-55F911D1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6119-9E4C-4D48-BE55-FC71B9FD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48F2-B3A8-475A-8552-ECF74A52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93BA-ED6C-4852-AF93-DF48AAE2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9C12-3BED-46C9-8ECA-B7644563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55407-CF09-483A-8EC5-F21EE2BD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074-44FC-481D-846F-C1C5AB1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67964-3F82-490E-84D9-C161AD96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ACEDD-C98C-413F-9EE2-983BB4ED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D9C7B-0C41-4328-93AB-6C6A3CB4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7965A-FAFA-4B80-8A06-F638DA53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93E9-C909-48BC-A48D-CC9C96D5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0A4A8-9F6D-4694-A3E9-AB698615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73E46-FFA9-47FA-8374-DFD34E4F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24D88-EACC-4BA6-A364-48BED20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04A74-DA91-4DE6-B7C0-25A050BD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650C-DB31-4034-9B3F-0CF315FD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A16-F47D-47B6-BFB2-1D3D6F01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66C33-9AD6-40DC-A6B7-2C051364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4E6F1-A3B2-4F70-903B-49FD32E3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614BA-7FB6-487C-83D9-B87E23A7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8ABEE-B5F0-48AA-850C-2D79CF60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E1EE-3DA1-4E2A-B176-079BD3DC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5431A-2FA0-4AF2-A95B-96B1D49B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1460-3D96-4141-8ED0-E34F4502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496B7-03C5-4EE5-AE3D-6C95D1AA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8483-FB15-4C74-8B8A-0220B90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6AF74-A374-4E86-85DF-DC836671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0F8-4271-4813-8C53-1DF9D09C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F6048-B222-4FB8-B449-5BA962F5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89EB0-2739-4BCB-B70C-9311B2BE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1603-DFC6-49FF-BE9A-FC82AC8C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8CADA-6484-4EE7-AD08-3505D080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05720-131E-4CE7-A9D3-D7E2233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DACCC-AB3A-4881-9162-3EF80942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29B4C-D540-4783-B9BF-E688AB8A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363FC-2BB5-48C6-814E-243637A6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D7536-1A7F-4703-A35C-7E6A0599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CD552-0911-4378-AA6E-190865EE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829-C345-4F26-917D-1F1E49B3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2DB13-1369-4277-9FBC-FD21484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5800D-19E7-493C-93BD-7E4A48ED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186EA-E674-49C5-B0D4-E84DE78D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BB02B-F879-4D00-82A6-F60D955F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5E8F3-62D6-4055-A648-69AF7E0E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AF55B-5726-4658-ADD8-3478DC9F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3472C-D6C6-40D0-989F-CC8FA161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689B0-B1F1-450E-BA78-08599E33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A0E41-E197-423F-A140-1AFE9B8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297C5-FEC0-4ED0-A066-135795CE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D0B-0A00-4624-9E6F-BF9B5B87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E762A-8F84-499B-92CE-2E72D582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2EC58-EBB7-4FC9-96CE-4E50ACC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FCBF9-82D2-46F5-807B-55F864E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5C66-8500-4C18-B8ED-8B55AF4F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24EB8-6BE2-4EC9-826C-4973CCBA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3CEB6-DECD-447A-B869-C66D3143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5C6B2-3B75-4496-A2DD-E2879BEE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C4774-7B96-411A-B8AD-E03FC118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7EBABA-95F1-453E-BA9D-7321004B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4C49A8-1712-40A9-A045-4431BFEA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802-F29F-40CE-BA76-7A9B74D4C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7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47A3-A366-48CE-84BB-48F42E81AAB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63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3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3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4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5490-64EA-4A1D-B9DF-E498D9F83E1C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81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1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1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3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4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4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5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5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5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5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6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6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6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7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7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8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8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8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0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0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0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1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1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91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91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2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7FA9-3B5F-45CE-AB1E-BBE903EF1AF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8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5B2A-86A6-4F1D-B583-CE453A3939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7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7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9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0C5C-8BA6-442C-949F-AAE08A4CE4D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36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1" name="PlaceHolder 1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2F02-8D36-41EE-9F6D-6A740868DB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dt" idx="4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 type="ftr" idx="4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62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EAD4-8B7C-40C1-BC9E-F9A3DA6893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7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7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B638-FDA9-42F1-BBF1-6F3042900E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2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9434-FF56-4BC9-A1C9-F87D53AC23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7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98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00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395C-0638-48D2-90D0-D194546C7DF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9B5D-69E3-486D-9422-BB897823C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5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5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C209-1B13-4AE9-9893-1952F495930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376F-8A93-483A-920C-018237FF1E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35E5-4004-4DAF-9E8F-461A602A937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 type="dt" idx="6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 type="ftr" idx="6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 type="sldNum" idx="6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295E-2A17-457D-8FFA-33B5C3C683A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26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26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26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dt" idx="7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ftr" idx="7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sldNum" idx="7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9B53-FEA7-491F-AB33-592C395D943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31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 type="dt" idx="7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 type="ftr" idx="7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B9E3-A576-4C3E-A8E3-4C4008ED5C5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38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3" name="PlaceHolder 1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FDF-ADC8-4C2D-8F37-4C7C8F43707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46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 type="dt" idx="7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5"/>
          <p:cNvSpPr>
            <a:spLocks noGrp="1"/>
          </p:cNvSpPr>
          <p:nvPr>
            <p:ph type="sldNum" idx="8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3D54-43FF-4464-A93E-CCD80B6EE3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08" name="PlaceHolder 1"/>
          <p:cNvSpPr>
            <a:spLocks noGrp="1"/>
          </p:cNvSpPr>
          <p:nvPr>
            <p:ph type="dt" idx="8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sldNum" idx="8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FEC8-3E53-46AC-A889-42218A7D01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4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8003-FEA1-4741-9B57-5593E8E15E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8A5D-0B05-46AD-95D5-B56C9CDDF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59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5" name="PlaceHolder 1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6D99-B294-4591-9B8A-C4046221CE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6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6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0BFC-B1FF-4741-A0AC-F0513CFA29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F883-015E-437C-8B02-2145AEF5E7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1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84C9-2857-4769-B8AE-7F069614B6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D685-CB43-4E50-B6C3-E6477C8E04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776A-8C21-441F-B3F4-25C065C8AC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E59-A992-416B-9AEF-26B19F333EC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2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1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4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images.yandex.ru/yandpage?&amp;p=2&amp;text=&#1044;&#1091;&#1084;&#1072;%20&#1056;&#1086;&#1089;&#1089;&#1080;&#1080;&amp;rpt=simage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9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40&amp;text=&#1044;&#1091;&#1084;&#1072;%20&#1056;&#1086;&#1089;&#1089;&#1080;&#1080;&amp;rpt=simage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2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4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javascript:;" TargetMode="External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5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javascript:;" TargetMode="External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javascript:;" TargetMode="External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7d47d"/>
                </a:solidFill>
                <a:latin typeface="Comic Sans MS"/>
              </a:rPr>
              <a:t>   </a:t>
            </a:r>
            <a:r>
              <a:rPr b="1" lang="de-DE" sz="6000" spc="-1" strike="noStrike">
                <a:solidFill>
                  <a:srgbClr val="f7d47d"/>
                </a:solidFill>
                <a:latin typeface="Comic Sans MS"/>
              </a:rPr>
              <a:t>Meine Heimat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Lehrer : Gratschjowa N.P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Priob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WLADIMI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667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76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JAROSLAW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2669" name=""/>
          <p:cNvGraphicFramePr/>
          <p:nvPr/>
        </p:nvGraphicFramePr>
        <p:xfrm>
          <a:off x="971640" y="1484280"/>
          <a:ext cx="741672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4167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TW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2672" name=""/>
          <p:cNvGraphicFramePr/>
          <p:nvPr/>
        </p:nvGraphicFramePr>
        <p:xfrm>
          <a:off x="971640" y="1484280"/>
          <a:ext cx="7561080" cy="48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5610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NISHNIJ  NOWGOR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2675" name=""/>
          <p:cNvGraphicFramePr/>
          <p:nvPr/>
        </p:nvGraphicFramePr>
        <p:xfrm>
          <a:off x="1258920" y="1268280"/>
          <a:ext cx="676908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676908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- 8,9 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ser Land ist  reich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ODENSCHÄT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ast alle Bodenschätze der Erde kommen in unserem Lande v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Öl,Stein-und Braun-kohl,Gas,Gold us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9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500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- 10, 11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as Klima und die Na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nseres Landes sind verschiedenarti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m Süden haben wir Steppen,im Zentrum des Landes-Ebenen und Wälder, im Norden-Tundra und Taiga, im Osten- Berge und Wüst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2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859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- 12 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n  unserem  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gibt  es  mehr  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2 Mio Flüs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685" name=""/>
          <p:cNvGraphicFramePr/>
          <p:nvPr/>
        </p:nvGraphicFramePr>
        <p:xfrm>
          <a:off x="4500720" y="1844640"/>
          <a:ext cx="4035240" cy="62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844640"/>
                    <a:ext cx="403524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-  13  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DIE  WOLG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I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DER LÄNGS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FLUß  EUROP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9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535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-  14  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Die  Hauptflüsse  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Sibiriens  si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Garamond"/>
              </a:rPr>
              <a:t>Ob, Jenissej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Garamond"/>
              </a:rPr>
              <a:t>und  Lena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2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Ob (die Explosion  N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4" name="" descr=""/>
          <p:cNvPicPr/>
          <p:nvPr/>
        </p:nvPicPr>
        <p:blipFill>
          <a:blip r:embed="rId1"/>
          <a:stretch/>
        </p:blipFill>
        <p:spPr>
          <a:xfrm>
            <a:off x="831960" y="1600200"/>
            <a:ext cx="3287520" cy="2185920"/>
          </a:xfrm>
          <a:prstGeom prst="rect">
            <a:avLst/>
          </a:prstGeom>
          <a:ln w="0">
            <a:noFill/>
          </a:ln>
        </p:spPr>
      </p:pic>
      <p:pic>
        <p:nvPicPr>
          <p:cNvPr id="2695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696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697" name="" descr=""/>
          <p:cNvPicPr/>
          <p:nvPr/>
        </p:nvPicPr>
        <p:blipFill>
          <a:blip r:embed="rId4"/>
          <a:stretch/>
        </p:blipFill>
        <p:spPr>
          <a:xfrm>
            <a:off x="5022720" y="3938760"/>
            <a:ext cx="3289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-  1 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29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Unser Lan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heiß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6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2911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- 15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er tiefste  S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er Welt ist d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BAIK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0" name="" descr=""/>
          <p:cNvPicPr/>
          <p:nvPr/>
        </p:nvPicPr>
        <p:blipFill>
          <a:blip r:embed="rId1"/>
          <a:stretch/>
        </p:blipFill>
        <p:spPr>
          <a:xfrm>
            <a:off x="4211640" y="1795320"/>
            <a:ext cx="447516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- 15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Seine Tie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beträgt  16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Me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3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402080" cy="2303640"/>
          </a:xfrm>
          <a:prstGeom prst="rect">
            <a:avLst/>
          </a:prstGeom>
          <a:ln w="0">
            <a:noFill/>
          </a:ln>
        </p:spPr>
      </p:pic>
      <p:pic>
        <p:nvPicPr>
          <p:cNvPr id="2704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4402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Baikal  aus dem Kosm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7" name="" descr=""/>
          <p:cNvPicPr/>
          <p:nvPr/>
        </p:nvPicPr>
        <p:blipFill>
          <a:blip r:embed="rId1"/>
          <a:stretch/>
        </p:blipFill>
        <p:spPr>
          <a:xfrm>
            <a:off x="468360" y="1523880"/>
            <a:ext cx="82803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-   16 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4000" spc="-1" strike="noStrike">
                <a:solidFill>
                  <a:srgbClr val="ffffff"/>
                </a:solidFill>
                <a:latin typeface="Verdana"/>
              </a:rPr>
              <a:t>Die  russische  Föderation  is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de-DE" sz="4000" spc="-1" strike="noStrike">
                <a:solidFill>
                  <a:srgbClr val="ffffff"/>
                </a:solidFill>
                <a:latin typeface="Verdana"/>
              </a:rPr>
              <a:t>eine  Präsidentenrepubli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-  17 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11" name=""/>
          <p:cNvGraphicFramePr/>
          <p:nvPr/>
        </p:nvGraphicFramePr>
        <p:xfrm>
          <a:off x="539640" y="2349360"/>
          <a:ext cx="4529160" cy="36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49360"/>
                    <a:ext cx="4529160" cy="36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s  Staatsoberhau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der  Präs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de-DE" sz="5400" spc="-1" strike="noStrike">
                <a:solidFill>
                  <a:srgbClr val="000000"/>
                </a:solidFill>
                <a:latin typeface="Verdana"/>
              </a:rPr>
              <a:t>W. PUTIN 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6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19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5400" spc="-1" strike="noStrike">
                <a:solidFill>
                  <a:srgbClr val="000000"/>
                </a:solidFill>
                <a:latin typeface="Verdana"/>
              </a:rPr>
              <a:t>Unser  Präsident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8" name="" descr=""/>
          <p:cNvPicPr/>
          <p:nvPr/>
        </p:nvPicPr>
        <p:blipFill>
          <a:blip r:embed="rId2"/>
          <a:stretch/>
        </p:blipFill>
        <p:spPr>
          <a:xfrm>
            <a:off x="566640" y="2023920"/>
            <a:ext cx="3924360" cy="3722760"/>
          </a:xfrm>
          <a:prstGeom prst="rect">
            <a:avLst/>
          </a:prstGeom>
          <a:ln w="0">
            <a:noFill/>
          </a:ln>
        </p:spPr>
      </p:pic>
      <p:pic>
        <p:nvPicPr>
          <p:cNvPr id="2719" name="" descr=""/>
          <p:cNvPicPr/>
          <p:nvPr/>
        </p:nvPicPr>
        <p:blipFill>
          <a:blip r:embed="rId3"/>
          <a:stretch/>
        </p:blipFill>
        <p:spPr>
          <a:xfrm>
            <a:off x="4890960" y="2597040"/>
            <a:ext cx="34290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bbd71"/>
                </a:solidFill>
                <a:latin typeface="Arial"/>
              </a:rPr>
              <a:t>-  18 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390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Das  höchs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gesetzgeben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Organ  ist  d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PARLA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2" name="" descr=" "/>
          <p:cNvPicPr/>
          <p:nvPr/>
        </p:nvPicPr>
        <p:blipFill>
          <a:blip r:embed="rId1"/>
          <a:stretch/>
        </p:blipFill>
        <p:spPr>
          <a:xfrm>
            <a:off x="5292720" y="118584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2723" name="i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005360"/>
            <a:ext cx="345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bbd71"/>
                </a:solidFill>
                <a:latin typeface="Arial"/>
              </a:rPr>
              <a:t>-19-Parlament  Rußlands</a:t>
            </a:r>
            <a:br>
              <a:rPr sz="4000"/>
            </a:br>
            <a:r>
              <a:rPr b="0" lang="de-DE" sz="3200" spc="-1" strike="noStrike">
                <a:solidFill>
                  <a:srgbClr val="dbbd71"/>
                </a:solidFill>
                <a:latin typeface="Arial"/>
              </a:rPr>
              <a:t>Es besteht aus 2 Kammern:aus dem Föderationsrat und aus der Staatsduma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25" name="i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852640"/>
            <a:ext cx="3743280" cy="2694240"/>
          </a:xfrm>
          <a:prstGeom prst="rect">
            <a:avLst/>
          </a:prstGeom>
          <a:ln w="0">
            <a:noFill/>
          </a:ln>
        </p:spPr>
      </p:pic>
      <p:pic>
        <p:nvPicPr>
          <p:cNvPr id="2726" name="" descr=" "/>
          <p:cNvPicPr/>
          <p:nvPr/>
        </p:nvPicPr>
        <p:blipFill>
          <a:blip r:embed="rId3"/>
          <a:stretch/>
        </p:blipFill>
        <p:spPr>
          <a:xfrm>
            <a:off x="5003640" y="1773360"/>
            <a:ext cx="34308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-20-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8" name=""/>
          <p:cNvGraphicFramePr/>
          <p:nvPr/>
        </p:nvGraphicFramePr>
        <p:xfrm>
          <a:off x="2627280" y="1628640"/>
          <a:ext cx="3816360" cy="23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1628640"/>
                    <a:ext cx="3816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Die  Staatsfarb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sind  weiß-blau-ro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- 1 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ffffff"/>
                </a:solidFill>
                <a:latin typeface="Times New Roman"/>
              </a:rPr>
              <a:t>Rußla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9" name="" descr=""/>
          <p:cNvPicPr/>
          <p:nvPr/>
        </p:nvPicPr>
        <p:blipFill>
          <a:blip r:embed="rId1"/>
          <a:stretch/>
        </p:blipFill>
        <p:spPr>
          <a:xfrm>
            <a:off x="5021280" y="1600200"/>
            <a:ext cx="3290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- 21 -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Das Staats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wappen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is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der zweiköpfi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Adler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3" name="" descr=""/>
          <p:cNvPicPr/>
          <p:nvPr/>
        </p:nvPicPr>
        <p:blipFill>
          <a:blip r:embed="rId2"/>
          <a:stretch/>
        </p:blipFill>
        <p:spPr>
          <a:xfrm>
            <a:off x="701640" y="1916280"/>
            <a:ext cx="37418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8c0039"/>
                </a:solidFill>
                <a:latin typeface="Arial"/>
              </a:rPr>
              <a:t>                    </a:t>
            </a:r>
            <a:r>
              <a:rPr b="0" lang="de-DE" sz="3600" spc="-1" strike="noStrike">
                <a:solidFill>
                  <a:srgbClr val="8c0039"/>
                </a:solidFill>
                <a:latin typeface="Arial"/>
              </a:rPr>
              <a:t>-  22  -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der Spi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 Reg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6" name="" descr=""/>
          <p:cNvPicPr/>
          <p:nvPr/>
        </p:nvPicPr>
        <p:blipFill>
          <a:blip r:embed="rId1"/>
          <a:stretch/>
        </p:blipFill>
        <p:spPr>
          <a:xfrm>
            <a:off x="5003640" y="2589120"/>
            <a:ext cx="384516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eht  der  Minister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ä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9" name="" descr=""/>
          <p:cNvPicPr/>
          <p:nvPr/>
        </p:nvPicPr>
        <p:blipFill>
          <a:blip r:embed="rId1"/>
          <a:stretch/>
        </p:blipFill>
        <p:spPr>
          <a:xfrm>
            <a:off x="4824360" y="3924360"/>
            <a:ext cx="16290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8c0039"/>
                </a:solidFill>
                <a:latin typeface="Arial"/>
              </a:rPr>
              <a:t>Unsere  Regieru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741" name="" descr=""/>
          <p:cNvPicPr/>
          <p:nvPr/>
        </p:nvPicPr>
        <p:blipFill>
          <a:blip r:embed="rId1"/>
          <a:stretch/>
        </p:blipFill>
        <p:spPr>
          <a:xfrm>
            <a:off x="2438280" y="1717560"/>
            <a:ext cx="6400800" cy="42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-  23 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Die  Außenpolitik  unse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Landes  wird  von  den  Prinzipien  der  friedlich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Koexistenz  bestimm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                    </a:t>
            </a: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-  24  -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Die  Russisch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Föderation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ist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Mitglied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6" name="img121994" descr="Фото пресс-службы Президента Росси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1197000"/>
            <a:ext cx="3384720" cy="2257560"/>
          </a:xfrm>
          <a:prstGeom prst="rect">
            <a:avLst/>
          </a:prstGeom>
          <a:ln w="0">
            <a:noFill/>
          </a:ln>
        </p:spPr>
      </p:pic>
      <p:pic>
        <p:nvPicPr>
          <p:cNvPr id="2747" name="" descr="Фото пресс-службы Президента России"/>
          <p:cNvPicPr/>
          <p:nvPr/>
        </p:nvPicPr>
        <p:blipFill>
          <a:blip r:embed="rId4"/>
          <a:stretch/>
        </p:blipFill>
        <p:spPr>
          <a:xfrm>
            <a:off x="3995640" y="3878280"/>
            <a:ext cx="3313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der Gemeinschaft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Unabhängige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Staaten  (GUS)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0" name="img122000" descr="Фото пресс-службы Президента Росси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641600"/>
            <a:ext cx="3240000" cy="2160360"/>
          </a:xfrm>
          <a:prstGeom prst="rect">
            <a:avLst/>
          </a:prstGeom>
          <a:ln w="0">
            <a:noFill/>
          </a:ln>
        </p:spPr>
      </p:pic>
      <p:pic>
        <p:nvPicPr>
          <p:cNvPr id="2751" name="" descr="Фото пресс-службы Президента России"/>
          <p:cNvPicPr/>
          <p:nvPr/>
        </p:nvPicPr>
        <p:blipFill>
          <a:blip r:embed="rId4"/>
          <a:stretch/>
        </p:blipFill>
        <p:spPr>
          <a:xfrm>
            <a:off x="4284720" y="1657440"/>
            <a:ext cx="309564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                    </a:t>
            </a:r>
            <a:r>
              <a:rPr b="0" lang="de-DE" sz="6000" spc="-1" strike="noStrike">
                <a:solidFill>
                  <a:srgbClr val="f7d47d"/>
                </a:solidFill>
                <a:latin typeface="Arial"/>
              </a:rPr>
              <a:t>GUS</a:t>
            </a:r>
            <a:br>
              <a:rPr sz="6000"/>
            </a:br>
            <a:r>
              <a:rPr b="0" lang="de-DE" sz="2400" spc="-1" strike="noStrike">
                <a:solidFill>
                  <a:srgbClr val="f7d47d"/>
                </a:solidFill>
                <a:latin typeface="Arial"/>
              </a:rPr>
              <a:t>GEMEINSCHAFT  UNABHÄNGIGER  STAATEN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53" name="img122013" descr="Фото пресс-службы Президента Росс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050920"/>
            <a:ext cx="3313080" cy="2567160"/>
          </a:xfrm>
          <a:prstGeom prst="rect">
            <a:avLst/>
          </a:prstGeom>
          <a:ln w="0">
            <a:noFill/>
          </a:ln>
        </p:spPr>
      </p:pic>
      <p:pic>
        <p:nvPicPr>
          <p:cNvPr id="2754" name="" descr="Фото пресс-службы Президента России"/>
          <p:cNvPicPr/>
          <p:nvPr/>
        </p:nvPicPr>
        <p:blipFill>
          <a:blip r:embed="rId3"/>
          <a:stretch/>
        </p:blipFill>
        <p:spPr>
          <a:xfrm>
            <a:off x="4067280" y="2098800"/>
            <a:ext cx="34574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                   </a:t>
            </a: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- 2 - 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                                  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0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S  LIEGT 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UROPA  UND ASI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54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- 3,4 -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as Territorium Rußlands ist über 1 7  Millionen Quadratkilomet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In Rußland leben etw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150 Millionen Mensch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995640" y="1341360"/>
            <a:ext cx="40831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- 5 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ie Hauptstadt  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andes  heiß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de-DE" sz="6000" spc="-1" strike="noStrike">
                <a:solidFill>
                  <a:srgbClr val="ffffff"/>
                </a:solidFill>
                <a:latin typeface="Tahoma"/>
              </a:rPr>
              <a:t>Moskau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8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4679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- 6 -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Sie  wurde  i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Jahre  114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von Jur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DOLGORUK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gegründ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661" name="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Juri  Dolgoruki </a:t>
            </a:r>
            <a:r>
              <a:rPr b="0" lang="de-DE" sz="2000" spc="-1" strike="noStrike">
                <a:solidFill>
                  <a:srgbClr val="ffffcc"/>
                </a:solidFill>
                <a:latin typeface="Tahoma"/>
              </a:rPr>
              <a:t>(unten  links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63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535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-  7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Die  größten  Städte  des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Landes  sind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1:59:59Z</dcterms:created>
  <dc:creator>Мама</dc:creator>
  <dc:description/>
  <dc:language>en-US</dc:language>
  <cp:lastModifiedBy>talik</cp:lastModifiedBy>
  <dcterms:modified xsi:type="dcterms:W3CDTF">2017-09-16T15:27:34Z</dcterms:modified>
  <cp:revision>7</cp:revision>
  <dc:subject/>
  <dc:title>   Meine Heimat</dc:title>
</cp:coreProperties>
</file>