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76200" y="1092240"/>
            <a:ext cx="479592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137960" y="5406840"/>
            <a:ext cx="5079960" cy="43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81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0DC-FA67-460E-97FB-9C921F91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415-3074-4DE9-9E5E-1BE3F55C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AA5-270F-45F5-B316-9464B48E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2A5-3F87-432A-813A-08B8A27B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C9B6-603B-4350-B33E-277E1651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9595-4AD3-4DF4-80FC-F332EAB0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8F04-3A93-417C-9371-176D2078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523F-4AF2-4834-870D-0520E6D5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A138-BE3D-4F2B-BBEF-E16C737E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DF61-7EBF-4354-BCE3-39BF28D3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2D46-B980-423F-91CA-5A7DAB68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78B-FC19-4399-A3A6-944ECB2F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5172-B099-463D-B09A-48F02219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A619-4644-4EE4-8BE5-5C3D9D8D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F0BA-948C-4CD9-B607-DA19F700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641F-FA22-4339-857C-04D34756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4A22-784C-4A68-A587-10CCECAF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B662F-FA54-46AC-BDC2-CAC874F5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00FFB-543C-4C2F-BAC7-2AFD4F3B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94D90-B6A5-4DDE-BB2A-57553583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63BFA-1D16-4762-8018-A43A3539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7CCBA-3BD0-4565-B333-186AE96B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8EA-1868-4DF7-95B7-F584DF55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6CCBC-080E-454A-989C-DC9685CC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EDC38-8D9A-430E-B8B0-3EFE33F7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58311-C308-45C0-8995-509087B0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77BF3-1F7C-4524-A2C2-27132851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46845-1BAF-498C-BCF9-BB1D96CD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DA922-E474-4E1D-B4F8-C449298C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A683D-087D-4BBF-AAC6-C8787916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3702F-FB68-44BE-949A-4CEED27E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2F2E7-4555-4386-AE1A-0B52CB3B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F48C7-EBFB-4CB8-8320-A0A48DA2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A94-37EC-4815-B061-A940F163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21F0-F3DF-40C2-9153-B1E7646A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FD5A3-90AC-46A9-8B19-AFFE9911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13B66-45AB-4C8E-8697-3C54B4B6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FAB39-8EE4-4B31-B2BB-2E1AFC30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120E8-FAE1-4C11-BD72-1AB396C8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9C14B-1F29-4F55-8979-607A1258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EAA2C-F472-4A6D-B6F3-72C4356A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4F191-332E-456D-904C-A2BA350E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7ED38-76B8-4646-99B6-791FF682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A28F-0BD8-4D5D-A4F2-761264EF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428-0982-4769-A383-216EFC95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55B-7539-47CC-B878-E62A39F6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B78-0160-4F3E-B63B-6CDD26B1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5EB-821F-41F2-A17D-D3711D7D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84E181-D123-497C-926A-866239027B7A}" type="datetime3">
              <a:rPr b="0" lang="en-US" sz="1300" spc="-1" strike="noStrike">
                <a:solidFill>
                  <a:srgbClr val="045c75"/>
                </a:solidFill>
                <a:latin typeface="Arial"/>
              </a:rPr>
              <a:t>July 30, 20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052155-E257-4767-910B-E4B1EF0591CE}" type="slidenum">
              <a:rPr b="0" lang="en-US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722E82-2E7B-4126-A186-1BA0CC7E2CCC}" type="datetime3">
              <a:rPr b="0" lang="en-US" sz="1300" spc="-1" strike="noStrike">
                <a:solidFill>
                  <a:srgbClr val="d1eaee"/>
                </a:solidFill>
                <a:latin typeface="Arial"/>
              </a:rPr>
              <a:t>July 30, 20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767D85-B496-4A03-853B-3A81D0CBED57}" type="slidenum">
              <a:rPr b="0" lang="en-US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0DA6F6-3357-48DD-9301-0F8C067A9105}" type="datetime3">
              <a:rPr b="0" lang="en-US" sz="1300" spc="-1" strike="noStrike">
                <a:solidFill>
                  <a:srgbClr val="d1eaee"/>
                </a:solidFill>
                <a:latin typeface="Arial"/>
              </a:rPr>
              <a:t>July 30, 20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B2DE07-32AC-45EA-85B4-04023F126085}" type="slidenum">
              <a:rPr b="0" lang="en-US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489120" y="1220400"/>
            <a:ext cx="5797440" cy="453708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10800" y="641196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830840" y="685584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55045C-085C-4D42-A79F-381CBB788835}" type="datetime3">
              <a:rPr b="0" lang="en-US" sz="1300" spc="-1" strike="noStrike">
                <a:solidFill>
                  <a:srgbClr val="045c75"/>
                </a:solidFill>
                <a:latin typeface="Arial"/>
              </a:rPr>
              <a:t>July 30, 20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347206-114A-49F0-B7BF-B57760E114B3}" type="slidenum">
              <a:rPr b="0" lang="en-US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1682640" y="1422360"/>
          <a:ext cx="6720120" cy="2803680"/>
        </p:xfrm>
        <a:graphic>
          <a:graphicData uri="http://schemas.openxmlformats.org/drawingml/2006/table">
            <a:tbl>
              <a:tblPr/>
              <a:tblGrid>
                <a:gridCol w="6720120"/>
              </a:tblGrid>
              <a:tr h="28036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«Совершенствование воспитательных  методов и форм работы с воспитанниками  в условиях коррекционной школы  на уровне ФГОС»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0" name="Прямоугольник 2" descr=""/>
          <p:cNvPicPr/>
          <p:nvPr/>
        </p:nvPicPr>
        <p:blipFill>
          <a:blip r:embed="rId1"/>
          <a:stretch/>
        </p:blipFill>
        <p:spPr>
          <a:xfrm>
            <a:off x="4078440" y="5383080"/>
            <a:ext cx="59562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5"/>
          <p:cNvSpPr/>
          <p:nvPr/>
        </p:nvSpPr>
        <p:spPr>
          <a:xfrm>
            <a:off x="4040280" y="708120"/>
            <a:ext cx="568332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ти -  это живые цветы земли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 Горький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https://content.schools.by/detsadturya/library/18.png"/>
          <p:cNvPicPr/>
          <p:nvPr/>
        </p:nvPicPr>
        <p:blipFill>
          <a:blip r:embed="rId1"/>
          <a:stretch/>
        </p:blipFill>
        <p:spPr>
          <a:xfrm>
            <a:off x="5450040" y="4416480"/>
            <a:ext cx="4630680" cy="314316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7"/>
          <p:cNvSpPr/>
          <p:nvPr/>
        </p:nvSpPr>
        <p:spPr>
          <a:xfrm>
            <a:off x="325440" y="2279520"/>
            <a:ext cx="9501120" cy="26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— целенаправленное формирование личности в целях подготовки её к участию в общественной и культурной жизни в соответствии с социокультурными нормативными моделя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539640" y="1136520"/>
            <a:ext cx="907272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 методами воспитания следует понимать способы профессионального взаимодействия педагога и учащихся с целью решения образовательно-воспитательных зада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6" descr="http://sh22.oskoluno.ru/uchitelia.png"/>
          <p:cNvPicPr/>
          <p:nvPr/>
        </p:nvPicPr>
        <p:blipFill>
          <a:blip r:embed="rId1"/>
          <a:stretch/>
        </p:blipFill>
        <p:spPr>
          <a:xfrm>
            <a:off x="6651720" y="3443400"/>
            <a:ext cx="3429000" cy="411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2"/>
          <p:cNvSpPr/>
          <p:nvPr/>
        </p:nvSpPr>
        <p:spPr>
          <a:xfrm>
            <a:off x="254160" y="1136520"/>
            <a:ext cx="950112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оответствии с этой характеристикой выделяются три группы методов воспита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формирования сознания личности (убеждение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з, объяснение, разъяснение, этическая беседа,  внушение, инструктаж,  пример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организации деятельности и формирования опыта поведения (упражнение)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, приучение, педагогическое требование, общественное мнение, поручение, воспитывающие ситуаци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стимулирования поведения и деятельности (мотивация)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евнование, поощрение, наказ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1"/>
          <p:cNvSpPr/>
          <p:nvPr/>
        </p:nvSpPr>
        <p:spPr>
          <a:xfrm>
            <a:off x="396720" y="1136520"/>
            <a:ext cx="9144000" cy="28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орма воспитательного процесс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доступный внешнему восприятию образ взаимодействия детей с педагогом, сложившейся благодаря системе используемых средств, выстраиваемых в определенном логическом обеспечении метода работы с деть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http://xn--e1afbedf6bfh4b7c.xn--80aswg/uploads/userpic/Teacher_Vectors-4_61899_120259.jpg"/>
          <p:cNvPicPr/>
          <p:nvPr/>
        </p:nvPicPr>
        <p:blipFill>
          <a:blip r:embed="rId1"/>
          <a:stretch/>
        </p:blipFill>
        <p:spPr>
          <a:xfrm>
            <a:off x="6635880" y="4114800"/>
            <a:ext cx="3444840" cy="3444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325440" y="1136520"/>
            <a:ext cx="9572760" cy="42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воспитания подразделяются на такие группы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словесные формы (собрания,  доклады,   встречи, устные журналы, беседы и т. п.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практические формы (походы, экскурсии, конкурсы, занятия кружков и т. п.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наглядные формы (выставки художественного творчества, книжные выставки, тематические стенды и т. п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http://img1.liveinternet.ru/images/attach/c/11/115/458/115458369_large___0.png"/>
          <p:cNvPicPr/>
          <p:nvPr/>
        </p:nvPicPr>
        <p:blipFill>
          <a:blip r:embed="rId1"/>
          <a:stretch/>
        </p:blipFill>
        <p:spPr>
          <a:xfrm>
            <a:off x="7008840" y="4780080"/>
            <a:ext cx="3071880" cy="2779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3"/>
          <p:cNvSpPr/>
          <p:nvPr/>
        </p:nvSpPr>
        <p:spPr>
          <a:xfrm>
            <a:off x="325440" y="1065240"/>
            <a:ext cx="928692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классификация имеет ввиду, прежде всего проведение разовых воспитательных мероприятий. Есть попытки классифицировать формы воспитания в зависимости от организации и методики проведения воспитательного процесса. Здесь выделяютс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формы организации и руководства жизнью и деятельностью детского коллектива (собрания, дежурства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информационно-массовые формы (встречи, беседы, тематические вечера, 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действенно-практические формы ( походы, экскурсии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синтетические формы (просмотр и обсуждение кинофильмов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 формы индивидуальной работы (консультации, беседы, выполнение заданий и поруче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http://s4.pic4you.ru/y2014/08-13/12216/4543915.png"/>
          <p:cNvPicPr/>
          <p:nvPr/>
        </p:nvPicPr>
        <p:blipFill>
          <a:blip r:embed="rId1"/>
          <a:stretch/>
        </p:blipFill>
        <p:spPr>
          <a:xfrm>
            <a:off x="8848800" y="3762360"/>
            <a:ext cx="1231920" cy="3797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http://1.bp.blogspot.com/--vLUbn1OzZI/VB13_3qyS7I/AAAAAAAAD4o/34xxNhpzckU/s1600/0a16a87fd0de.png"/>
          <p:cNvPicPr/>
          <p:nvPr/>
        </p:nvPicPr>
        <p:blipFill>
          <a:blip r:embed="rId2"/>
          <a:stretch/>
        </p:blipFill>
        <p:spPr>
          <a:xfrm>
            <a:off x="2948040" y="5280120"/>
            <a:ext cx="3949560" cy="2279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Прямоугольник 1" descr=""/>
          <p:cNvPicPr/>
          <p:nvPr/>
        </p:nvPicPr>
        <p:blipFill>
          <a:blip r:embed="rId1"/>
          <a:stretch/>
        </p:blipFill>
        <p:spPr>
          <a:xfrm>
            <a:off x="1030320" y="2938320"/>
            <a:ext cx="801684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Валентина</cp:lastModifiedBy>
  <dcterms:modified xsi:type="dcterms:W3CDTF">2017-09-16T15:26:39Z</dcterms:modified>
  <cp:revision>34</cp:revision>
  <dc:subject/>
  <dc:title>Презентация PowerPoint</dc:title>
</cp:coreProperties>
</file>