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76200" y="1092240"/>
            <a:ext cx="479592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137960" y="5406840"/>
            <a:ext cx="5079960" cy="43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81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F05-ADBA-47F5-94F6-8593DCE1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2D8-DE44-4475-8F0D-538D6D6C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EE9-1BBA-49FF-9340-25D18EDB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4001-7D51-4EF9-B529-D2D9A0CB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D60F-D889-4E74-B99A-C0D2C7CD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327C-69CD-4589-990C-32D62B78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CEBB-8BE5-4815-83B6-8DD18844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0CB3-1852-4E12-BAD4-FCCB7CA4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544A-9C8B-4011-B84B-C8778D20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3F44-FDA2-4F94-99B3-84D32563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A5F1-862E-43B1-AB3E-8B5DDAEC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907-6A39-42D6-BABC-694D4ADE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3F30-70F9-4058-92BF-D79D061F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A8D5-9635-4193-89C6-F1193AA9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BD5D-262C-48EA-9E98-B442F623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701E-5D37-4ADD-921D-B4C83777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7FF6-4A9E-4AD5-B8EB-43E591FB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816A9-ABFB-4971-8F9A-9D671816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CAB7E-E5D2-443D-97D0-1EFCA978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4488B-1CD3-4AE4-9838-77E97082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D30B5-4634-4FEC-8285-4E44EEB8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657DC-7B40-403A-98B4-CF441621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7EE-7D6B-443E-889C-59FC5C02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20CAE-AF5A-412A-B77D-F3F3C913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3E98B-1DB2-4F7A-B5CE-07C27060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29313-108A-4563-9C03-E4F97445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1F0EC-3FE1-43EE-9CBE-14CC45F6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6BAD8-A099-4ECD-9000-05700E0F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DCB3C-B214-417E-8AF1-4B861DBA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C04F0-8239-423A-AF6E-B80A5514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A2F1B-A571-429F-AE42-E270CC5A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7ED3A-B061-45AC-BB28-6D00D2C1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72459-F6C1-49A4-AD34-14CD62D2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D3B4-7EBA-4FCD-BE50-FE7403C7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D3FD2-56CD-48B9-8A7F-000BCD27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830FD-7ECE-4337-8F2C-78B3ED31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6EFBB-E356-4EBE-870D-BBB9005B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824D6-0AB1-4B01-820C-A6B05156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B3792-24B6-434D-BC76-0C910AAD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D4E1B-1DCF-40EB-B16D-354F2DBE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CA8CB-3201-4599-998B-08FB1044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7EF4B-0EDC-402D-B036-5335932D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C407E-5F48-42BC-8C95-DF656835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330-A1E2-40F7-91AE-30404297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C73B-52A4-400C-B138-09610A6C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1F75-33DC-43E5-9E6A-27E24FE3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D8E6-03BE-4134-B1E2-3D743956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22B-D3F6-47AC-833E-EBB45CB8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196C96-A798-4832-90BF-6A9819F229B1}" type="datetime3">
              <a:rPr b="0" lang="en-US" sz="1300" spc="-1" strike="noStrike">
                <a:solidFill>
                  <a:srgbClr val="045c75"/>
                </a:solidFill>
                <a:latin typeface="Arial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C6D0F8-6BFD-4FDD-9E65-B6FB121F847B}" type="slidenum">
              <a:rPr b="0" lang="en-US" sz="13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EAC98F-7A18-43A2-AFA3-6F8551E665B8}" type="datetime3">
              <a:rPr b="0" lang="en-US" sz="1300" spc="-1" strike="noStrike">
                <a:solidFill>
                  <a:srgbClr val="d1eaee"/>
                </a:solidFill>
                <a:latin typeface="Arial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32FF38-6B8C-4707-9183-26C83FC0806A}" type="slidenum">
              <a:rPr b="0" lang="en-US" sz="13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2922BB-F437-420A-89E7-01D73F59D5ED}" type="datetime3">
              <a:rPr b="0" lang="en-US" sz="1300" spc="-1" strike="noStrike">
                <a:solidFill>
                  <a:srgbClr val="d1eaee"/>
                </a:solidFill>
                <a:latin typeface="Arial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88B1CD-28B3-486C-92A4-69AA8DFC7811}" type="slidenum">
              <a:rPr b="0" lang="en-US" sz="13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489120" y="1220400"/>
            <a:ext cx="5797440" cy="453708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823240" y="5907960"/>
            <a:ext cx="171360" cy="17136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400" bIns="5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10800" y="641196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830840" y="685584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2B7DED-584F-4017-A7FD-DD5C29D5BFF3}" type="datetime3">
              <a:rPr b="0" lang="en-US" sz="1300" spc="-1" strike="noStrike">
                <a:solidFill>
                  <a:srgbClr val="045c75"/>
                </a:solidFill>
                <a:latin typeface="Arial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904240" y="7007040"/>
            <a:ext cx="6732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51A800-C25A-49F8-AD27-16452FAF8CA2}" type="slidenum">
              <a:rPr b="0" lang="en-US" sz="13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1682640" y="1422360"/>
          <a:ext cx="6720120" cy="2803680"/>
        </p:xfrm>
        <a:graphic>
          <a:graphicData uri="http://schemas.openxmlformats.org/drawingml/2006/table">
            <a:tbl>
              <a:tblPr/>
              <a:tblGrid>
                <a:gridCol w="6720120"/>
              </a:tblGrid>
              <a:tr h="28036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«Совершенствование воспитательных  методов и форм работы с воспитанниками  в условиях коррекционной школы  на уровне ФГОС»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0" name="Прямоугольник 2" descr=""/>
          <p:cNvPicPr/>
          <p:nvPr/>
        </p:nvPicPr>
        <p:blipFill>
          <a:blip r:embed="rId1"/>
          <a:stretch/>
        </p:blipFill>
        <p:spPr>
          <a:xfrm>
            <a:off x="4078440" y="5383080"/>
            <a:ext cx="59562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5"/>
          <p:cNvSpPr/>
          <p:nvPr/>
        </p:nvSpPr>
        <p:spPr>
          <a:xfrm>
            <a:off x="4040280" y="708120"/>
            <a:ext cx="568332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ети -  это живые цветы земли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. Горький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https://content.schools.by/detsadturya/library/18.png"/>
          <p:cNvPicPr/>
          <p:nvPr/>
        </p:nvPicPr>
        <p:blipFill>
          <a:blip r:embed="rId1"/>
          <a:stretch/>
        </p:blipFill>
        <p:spPr>
          <a:xfrm>
            <a:off x="5450040" y="4416480"/>
            <a:ext cx="4630680" cy="314316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7"/>
          <p:cNvSpPr/>
          <p:nvPr/>
        </p:nvSpPr>
        <p:spPr>
          <a:xfrm>
            <a:off x="325440" y="2279520"/>
            <a:ext cx="9501120" cy="26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— целенаправленное формирование личности в целях подготовки её к участию в общественной и культурной жизни в соответствии с социокультурными нормативными моделя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3"/>
          <p:cNvSpPr/>
          <p:nvPr/>
        </p:nvSpPr>
        <p:spPr>
          <a:xfrm>
            <a:off x="539640" y="1136520"/>
            <a:ext cx="907272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 методами воспитания следует понимать способы профессионального взаимодействия педагога и учащихся с целью решения образовательно-воспитательных зада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6" descr="http://sh22.oskoluno.ru/uchitelia.png"/>
          <p:cNvPicPr/>
          <p:nvPr/>
        </p:nvPicPr>
        <p:blipFill>
          <a:blip r:embed="rId1"/>
          <a:stretch/>
        </p:blipFill>
        <p:spPr>
          <a:xfrm>
            <a:off x="6651720" y="3443400"/>
            <a:ext cx="3429000" cy="411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2"/>
          <p:cNvSpPr/>
          <p:nvPr/>
        </p:nvSpPr>
        <p:spPr>
          <a:xfrm>
            <a:off x="254160" y="1136520"/>
            <a:ext cx="950112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оответствии с этой характеристикой выделяются три группы методов воспитан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формирования сознания личности (убеждение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каз, объяснение, разъяснение, этическая беседа,  внушение, инструктаж,  пример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организации деятельности и формирования опыта поведения (упражнение)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, приучение, педагогическое требование, общественное мнение, поручение, воспитывающие ситуаци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стимулирования поведения и деятельности (мотивация)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евнование, поощрение, наказ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1"/>
          <p:cNvSpPr/>
          <p:nvPr/>
        </p:nvSpPr>
        <p:spPr>
          <a:xfrm>
            <a:off x="396720" y="1136520"/>
            <a:ext cx="9144000" cy="28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орма воспитательного процесс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доступный внешнему восприятию образ взаимодействия детей с педагогом, сложившейся благодаря системе используемых средств, выстраиваемых в определенном логическом обеспечении метода работы с деть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http://xn--e1afbedf6bfh4b7c.xn--80aswg/uploads/userpic/Teacher_Vectors-4_61899_120259.jpg"/>
          <p:cNvPicPr/>
          <p:nvPr/>
        </p:nvPicPr>
        <p:blipFill>
          <a:blip r:embed="rId1"/>
          <a:stretch/>
        </p:blipFill>
        <p:spPr>
          <a:xfrm>
            <a:off x="6635880" y="4114800"/>
            <a:ext cx="3444840" cy="3444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325440" y="1136520"/>
            <a:ext cx="9572760" cy="42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ы воспитания подразделяются на такие группы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словесные формы (собрания,  доклады,   встречи, устные журналы, беседы и т. п.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практические формы (походы, экскурсии, конкурсы, занятия кружков и т. п.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наглядные формы (выставки художественного творчества, книжные выставки, тематические стенды и т. п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http://img1.liveinternet.ru/images/attach/c/11/115/458/115458369_large___0.png"/>
          <p:cNvPicPr/>
          <p:nvPr/>
        </p:nvPicPr>
        <p:blipFill>
          <a:blip r:embed="rId1"/>
          <a:stretch/>
        </p:blipFill>
        <p:spPr>
          <a:xfrm>
            <a:off x="7008840" y="4780080"/>
            <a:ext cx="3071880" cy="2779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3"/>
          <p:cNvSpPr/>
          <p:nvPr/>
        </p:nvSpPr>
        <p:spPr>
          <a:xfrm>
            <a:off x="325440" y="1065240"/>
            <a:ext cx="928692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классификация имеет ввиду, прежде всего проведение разовых воспитательных мероприятий. Есть попытки классифицировать формы воспитания в зависимости от организации и методики проведения воспитательного процесса. Здесь выделяютс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формы организации и руководства жизнью и деятельностью детского коллектива (собрания, дежурства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информационно-массовые формы (встречи, беседы, тематические вечера, 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действенно-практические формы ( походы, экскурсии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 синтетические формы (просмотр и обсуждение кинофильмов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 формы индивидуальной работы (консультации, беседы, выполнение заданий и поруче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http://s4.pic4you.ru/y2014/08-13/12216/4543915.png"/>
          <p:cNvPicPr/>
          <p:nvPr/>
        </p:nvPicPr>
        <p:blipFill>
          <a:blip r:embed="rId1"/>
          <a:stretch/>
        </p:blipFill>
        <p:spPr>
          <a:xfrm>
            <a:off x="8848800" y="3762360"/>
            <a:ext cx="1231920" cy="3797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http://1.bp.blogspot.com/--vLUbn1OzZI/VB13_3qyS7I/AAAAAAAAD4o/34xxNhpzckU/s1600/0a16a87fd0de.png"/>
          <p:cNvPicPr/>
          <p:nvPr/>
        </p:nvPicPr>
        <p:blipFill>
          <a:blip r:embed="rId2"/>
          <a:stretch/>
        </p:blipFill>
        <p:spPr>
          <a:xfrm>
            <a:off x="2948040" y="5280120"/>
            <a:ext cx="3949560" cy="2279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Прямоугольник 1" descr=""/>
          <p:cNvPicPr/>
          <p:nvPr/>
        </p:nvPicPr>
        <p:blipFill>
          <a:blip r:embed="rId1"/>
          <a:stretch/>
        </p:blipFill>
        <p:spPr>
          <a:xfrm>
            <a:off x="1030320" y="2938320"/>
            <a:ext cx="801684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Валентина</cp:lastModifiedBy>
  <dcterms:modified xsi:type="dcterms:W3CDTF">2017-09-16T15:26:39Z</dcterms:modified>
  <cp:revision>34</cp:revision>
  <dc:subject/>
  <dc:title>Презентация PowerPoint</dc:title>
</cp:coreProperties>
</file>