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E9CF-EDDB-4685-98ED-68B90142AF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ing bullied at his school, Vujicic grew extremely depressed, and by the age of 10, started contemplating suic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D09-36AC-45E9-87E7-B6D427EA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7E5-78E1-4445-AE5E-BD098126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24C-D430-4858-8992-56D26A92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F15-E81E-477A-B845-C30283EA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8C64-69D0-403B-A379-BB19031C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8C82-65D3-4259-B64F-A6FA6A33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42EF-1995-4E6F-8510-57E9D518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CAF0-9946-46B9-A508-FD6C786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0D68-0A23-45E3-8057-60E9B898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1A32-7069-4636-A99E-1D2752C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F67D-CA76-4FE4-8171-3365772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820-C68A-4710-B58F-C001E2B0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7E4-87B2-4FF0-AA7E-F1DEDB7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DF2D-4DEF-482B-A08E-56DAAAB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EBB9-B738-48EE-9FDF-A24374B9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9ABF-171F-431D-A618-1C8C1BDA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9F6A-A6A1-489A-A0AD-3C7092A7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DBF7-ED2A-4C9C-BFE6-02333C75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912D-6802-4E44-9E8D-A24C3E85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F121-9836-4606-AB48-9C4C81E7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35D7-119D-4394-96C9-46564314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A52B-3FD1-4DAA-8FCB-319D8879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74A-CEE5-453C-BEF7-522D1B6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9542-A14F-450E-AFFC-9A96E31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998B-F565-426C-86E4-6BE9361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B3D4-32D1-440C-BDB3-258DD65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C19B-A26F-4544-982E-D8A1F13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C9AE-CE0B-49BA-8AF4-41CBFC79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6D0C-61BE-4C04-B217-7F4E4B06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B93C-8FCA-42FC-AFCF-E00DB22D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0CC-DDE7-4EAD-82BE-A61ECA8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B94-A167-4558-AF73-220E2FBD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B74-A14C-4450-AD22-70221731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F0E-4061-4D9D-9AAE-1456B40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4A7-985C-4521-AB35-364F3DF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6A8-1F8A-4F3B-9F36-3DE691D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CC0-4727-4980-B91B-E2BA2A113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E81-96E8-4930-8971-D3D83A4E85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7802-309E-49D3-8F83-03BB8CDC10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GREAT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Nick Vujic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3602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ll look like the same,  all of us have arms and legs  we all are alike. But some people have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physical disabilit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you frustrated with your life because of any physical barrier? Are you upset being bullied at school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you heard the name of Nick Vujicic, a motivational speaker without limbs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 us take an example of Nick Vujicic, who was declared a vegetable on his birth table.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Now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et m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l you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Who is Nick Vujicic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k Vujicic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k Vujicic is a preache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motivational speaker and the director of Life Without Limbs, an organization for the physically disabl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356000" y="3860640"/>
            <a:ext cx="4143600" cy="276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2068560" cy="2857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6084720" y="907920"/>
            <a:ext cx="2892600" cy="2311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000680" y="285840"/>
            <a:ext cx="467496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k was born on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December,1982 in Melbourne, Austral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s parents are Boris Vujicic and Dushka Vujicic. They bore a healthy baby…but he had no arms and legs; instead of  legs, he had two tiny feet, and one of his foot had two to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has two healthy siblings; Michelle Vujicic and Aaron Vujic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42920" y="135000"/>
            <a:ext cx="2928960" cy="3957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142920" y="3983040"/>
            <a:ext cx="4071960" cy="2708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28720" y="272520"/>
            <a:ext cx="4257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one ruled him as a vegetable. It took his mother over 3months to accept him, thanks to his dad who  convinced his mother to take him home with th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s life was full of difficultie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ing bullied at  school, Vujicic grew extremely depressed, and by the age of 10, started contemplating suic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286160" cy="261612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142920" y="3500280"/>
            <a:ext cx="4500360" cy="300060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k graduated from college at the age of 21. He began his travels as a motivational speak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 regularly travels internationally to speak to Christian congregations, schools, and corporate meetings. He has spoken to over two million peop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different countri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1600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ick  can type up to 45 words per minute on a 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“heel and toe” method. What else can Nick do? He can throw tennis balls; he can hold a glass of water; he can comb his hair; he can clean his teeth; he can play drums pedals; he can swim; he ca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olf; can answer a telephone call; he can even skydiving…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out limb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 is married to Kanae Miyahar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y have got two healthy s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y are happy togeth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500720" cy="450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2952720" cy="4321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560" y="765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I can encourage just one person then my job in this life is d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love my life, because I've seen my purpo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try again and again, because the moment I give up, is the moment I fa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's a lie to think you're not good enough. It's a lie to think you're not worth any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long as I try, there's always a chance of getting up. It's not the end until you give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Life isn't about having, it's about be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may not have hands to hold my wife's hands, but I don't need hands to hold her heart. That's what I'm gonna ho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have the choice to be angry in God for what I don't have or be thankful for what you do h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is not important, how you overcome it is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f you can't get a miracle, become 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2919960" y="25812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Quo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5280" y="1890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w we realize, with a strong willpower, one can overcome all difficulties…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us take an example of Nick Vujicic, who was declared a vegetabl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614320" cy="388908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09-16T15:32:08Z</dcterms:modified>
  <cp:revision>27</cp:revision>
  <dc:subject/>
  <dc:title>Слайд 1</dc:title>
</cp:coreProperties>
</file>