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12D7-6AA4-44C1-91F6-4AFF0FE0C5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ing bullied at his school, Vujicic grew extremely depressed, and by the age of 10, started contemplating suic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C94-1E0D-4D0D-8DA3-963B536E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857-B848-4575-B33F-F1B3E3A1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3DD-E2BE-4834-A9E2-E339EE64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33B-F0C9-4959-A7D8-72372461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103-917C-41B2-AE5D-61D0AAF0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DAC-68A8-4547-9EFC-5866A8B7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E47C-F38D-478B-8A48-ACAEE59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2D5C-1EBE-4BA4-A21F-FC2B40C1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9246-833B-41CB-AFC0-9F73AB7E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C5D1-A0DE-4CF3-BC74-3AEFE49F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AE1E-093F-4F48-A366-58223EF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391-6B68-4592-A2A9-1B2045D4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344E-DF97-42AC-A3EE-9D482FA1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3F92-6D0D-4835-9CAE-0D4A9B3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C0CF-2692-4FCE-B240-DC56395A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3299-796F-42BC-BC09-BE75FF58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2F7B-AEF9-4E3A-B9DD-9533A1F4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A040-32F5-4783-92F3-5D6383A9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437F-C27B-41A3-895B-53DDEB44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5B61-4491-4047-9F97-D1271F9B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70A0-6C9B-4F63-992B-5DEDFF6C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CCFB-D73E-4411-A29A-B1C43E1E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827-6472-4DCE-9EFD-FE8575CB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ADBF-A212-48D0-AF3A-0AECC366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8AC4-D42C-4BA0-8CB0-52A617E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6ECF2-73AD-4537-9ED7-254EA70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5B53-33CE-4972-90EE-8AFC6C89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396C-8101-4C1C-82AF-FD0FDC61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5D18-996B-45D2-90B7-4EB82B16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7156-0913-4F99-AB9F-753964C8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AFE-B364-4093-831E-1E657789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3BF-29DD-4F31-A676-12A40CF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23C-525B-4387-80BA-276219D5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A4A-9823-4744-9026-994443EE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ADC-AA0D-4D3F-A4B6-A5C893E7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D6A-7D1F-4066-874C-455FAA1B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3B9D-A34C-4A74-A154-934A311D8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4F3C-A017-478E-BF32-20B8D19274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25EB-1D76-4B6D-B90A-468B5FC3EC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GREAT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ＭＳ Ｐゴシック"/>
              </a:rPr>
              <a:t>Nick Vujic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36021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ll look like the same,  all of us have arms and legs  we all are alike. But some people have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physical disabilit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you frustrated with your life because of any physical barrier? Are you upset being bullied at school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e you heard the name of Nick Vujicic, a motivational speaker without limbs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 us take an example of Nick Vujicic, who was declared a vegetable on his birth table.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Now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et m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ll you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Who is Nick Vujicic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k Vujicic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ck Vujicic is a preache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motivational speaker and the director of Life Without Limbs, an organization for the physically disabl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356000" y="3860640"/>
            <a:ext cx="4143600" cy="2764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851280" y="907920"/>
            <a:ext cx="2068560" cy="2857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6084720" y="907920"/>
            <a:ext cx="2892600" cy="2311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000680" y="285840"/>
            <a:ext cx="467496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ck was born on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December,1982 in Melbourne, Austral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s parents are Boris Vujicic and Dushka Vujicic. They bore a healthy baby…but he had no arms and legs; instead of  legs, he had two tiny feet, and one of his foot had two to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has two healthy siblings; Michelle Vujicic and Aaron Vujic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42920" y="135000"/>
            <a:ext cx="2928960" cy="39574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142920" y="3983040"/>
            <a:ext cx="4071960" cy="2708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28720" y="272520"/>
            <a:ext cx="4257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one ruled him as a vegetable. It took his mother over 3months to accept him, thanks to his dad who  convinced his mother to take him home with th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s life was full of difficultie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ing bullied at  school, Vujicic grew extremely depressed, and by the age of 10, started contemplating suic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286160" cy="261612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142920" y="3500280"/>
            <a:ext cx="4500360" cy="300060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ck graduated from college at the age of 21. He began his travels as a motivational speak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 regularly travels internationally to speak to Christian congregations, schools, and corporate meetings. He has spoken to over two million peop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different countri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716000" y="549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ick  can type up to 45 words per minute on a comp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“heel and toe” method. What else can Nick do? He can throw tennis balls; he can hold a glass of water; he can comb his hair; he can clean his teeth; he can play drums pedals; he can swim; he ca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olf; can answer a telephone call; he can even skydiving…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out limb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 is married to Kanae Miyahar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y have got two healthy s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y are happy togeth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500720" cy="450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2952720" cy="4321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560" y="765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I can encourage just one person then my job in this life is d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love my life, because I've seen my purpo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try again and again, because the moment I give up, is the moment I fa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's a lie to think you're not good enough. It's a lie to think you're not worth any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long as I try, there's always a chance of getting up. It's not the end until you give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Life isn't about having, it's about be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may not have hands to hold my wife's hands, but I don't need hands to hold her heart. That's what I'm gonna ho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have the choice to be angry in God for what I don't have or be thankful for what you do h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is not important, how you overcome it is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f you can't get a miracle, become 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2919960" y="25812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Quo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5280" y="1890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w we realize, with a strong willpower, one can overcome all difficulties…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us take an example of Nick Vujicic, who was declared a vegetabl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614320" cy="388908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7-09-16T15:32:08Z</dcterms:modified>
  <cp:revision>27</cp:revision>
  <dc:subject/>
  <dc:title>Слайд 1</dc:title>
</cp:coreProperties>
</file>