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8.jpeg" ContentType="image/jpeg"/>
  <Override PartName="/ppt/media/image33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4C1-3B32-4428-B86D-4D7BE60F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A3A-AA0B-474E-A4FE-62794DFB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813-D409-4BF3-B0BF-9D8A9DA3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E9C-0EB4-484B-972B-5EA2760B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627-7B40-49AB-AD09-30C1310A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1A3-4823-48F1-9621-3112151E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A0A-91EB-4665-863E-4E4B380B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0B3-C652-464F-83C4-46FDC113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274-59EC-4F39-9962-42ADCE49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FA0-F283-474F-A8FD-05D0857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46E-1B3F-45DD-9688-0611961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D2A-1295-45DD-95F7-145EB13A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C511-0179-4915-9815-135E5BE7F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«Деревянные зву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980720"/>
            <a:ext cx="5181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Д для детей старшего дошкольного возраста (5-6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Художественно-эстетическое развит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№ 57 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енко Ди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original"/>
          <p:cNvPicPr/>
          <p:nvPr/>
        </p:nvPicPr>
        <p:blipFill>
          <a:blip r:embed="rId1"/>
          <a:stretch/>
        </p:blipFill>
        <p:spPr>
          <a:xfrm>
            <a:off x="5637240" y="2209680"/>
            <a:ext cx="3049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есня по ролям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чи: способствовать выразительному исполнению песни; развивать тембровый слух, чувство метра, память; проявлять творческую инициативу, мыш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6 группа 029"/>
          <p:cNvPicPr/>
          <p:nvPr/>
        </p:nvPicPr>
        <p:blipFill>
          <a:blip r:embed="rId1"/>
          <a:stretch/>
        </p:blipFill>
        <p:spPr>
          <a:xfrm>
            <a:off x="304920" y="2209680"/>
            <a:ext cx="2097000" cy="281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6 группа 033"/>
          <p:cNvPicPr/>
          <p:nvPr/>
        </p:nvPicPr>
        <p:blipFill>
          <a:blip r:embed="rId2"/>
          <a:stretch/>
        </p:blipFill>
        <p:spPr>
          <a:xfrm>
            <a:off x="2666880" y="3809880"/>
            <a:ext cx="2210040" cy="266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6 группа 035"/>
          <p:cNvPicPr/>
          <p:nvPr/>
        </p:nvPicPr>
        <p:blipFill>
          <a:blip r:embed="rId3"/>
          <a:stretch/>
        </p:blipFill>
        <p:spPr>
          <a:xfrm>
            <a:off x="2057400" y="144792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105520" y="15235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лагается испол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юбимую песню «Три синич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.Шкодовой по ролям. 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будут исполнять» 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меты: кубики и карандаш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лушаем и сравниваем звуч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ого будут озвуч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андаш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Трех синиче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ого будут озвуч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би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Коров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нение песни «Три синички» М.Шко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6 группа 034"/>
          <p:cNvPicPr/>
          <p:nvPr/>
        </p:nvPicPr>
        <p:blipFill>
          <a:blip r:embed="rId1"/>
          <a:stretch/>
        </p:blipFill>
        <p:spPr>
          <a:xfrm>
            <a:off x="533520" y="1676520"/>
            <a:ext cx="281916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6 группа 036"/>
          <p:cNvPicPr/>
          <p:nvPr/>
        </p:nvPicPr>
        <p:blipFill>
          <a:blip r:embed="rId2"/>
          <a:stretch/>
        </p:blipFill>
        <p:spPr>
          <a:xfrm>
            <a:off x="3886200" y="137160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53341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льчики озвучивают куб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оров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53341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вочки озвучивают карандаш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иниче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: познавательный, развивающий, творческий</a:t>
            </a: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дать представление о происхождении деревянных музыкальных инструментов; способствовать развитию тембрового и динамического слуха, воспитывать доброжелательные взаимо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6 группа 039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2719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190760"/>
            <a:ext cx="403848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ук-тук-тук! Тук-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дятел сел на с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ит дерево: 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ж ты жу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олодался я: тук-тук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акие деревянные звуки можем услышать в приро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сказка – аудиозапись «стук дят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Дяте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а экране появляется слай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6 группа 054"/>
          <p:cNvPicPr/>
          <p:nvPr/>
        </p:nvPicPr>
        <p:blipFill>
          <a:blip r:embed="rId2"/>
          <a:stretch/>
        </p:blipFill>
        <p:spPr>
          <a:xfrm>
            <a:off x="609480" y="1523880"/>
            <a:ext cx="3581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явление куклы Бура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6 группа 043"/>
          <p:cNvPicPr/>
          <p:nvPr/>
        </p:nvPicPr>
        <p:blipFill>
          <a:blip r:embed="rId1"/>
          <a:stretch/>
        </p:blipFill>
        <p:spPr>
          <a:xfrm>
            <a:off x="4343400" y="3048120"/>
            <a:ext cx="441972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409720" y="1066320"/>
            <a:ext cx="31244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дается стук в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 двери стуча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ук-тук-тук! Тук-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ается в двери сту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4571640"/>
            <a:ext cx="335304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 выносит Бурати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Это кто-то очень ст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чек деревянный?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Бурати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6 группа 041"/>
          <p:cNvPicPr/>
          <p:nvPr/>
        </p:nvPicPr>
        <p:blipFill>
          <a:blip r:embed="rId2"/>
          <a:stretch/>
        </p:blipFill>
        <p:spPr>
          <a:xfrm>
            <a:off x="685800" y="914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ратино исследует звуки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дачи: закрепить словесные характеристики звуков, развивать тембровый слух и память, пополнять словарный за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1430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Я тоже сделан из дерев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лю слушать деревянные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такие, такие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издает звуки предм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 помогают подобрать сло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лые, трескучие, гремуч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учащие, сух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6 группа 046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81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6 группа 049"/>
          <p:cNvPicPr/>
          <p:nvPr/>
        </p:nvPicPr>
        <p:blipFill>
          <a:blip r:embed="rId2"/>
          <a:stretch/>
        </p:blipFill>
        <p:spPr>
          <a:xfrm>
            <a:off x="457200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609480" y="4267080"/>
            <a:ext cx="38862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Но у вас нет сам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го! Того, с чем можно игр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ркест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Музыкальных инструмент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 помогают вспомнить, какие музыкальные инструменты издают деревянные зв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0663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А вы знаете, что 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уки со временем переселились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 в музык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менты? Вот как это было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жками ели – теперь еще и игр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оказ слайда – ложки выкладываются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9" descr="6 группа 050"/>
          <p:cNvPicPr/>
          <p:nvPr/>
        </p:nvPicPr>
        <p:blipFill>
          <a:blip r:embed="rId1"/>
          <a:stretch/>
        </p:blipFill>
        <p:spPr>
          <a:xfrm>
            <a:off x="457200" y="10666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4647960"/>
            <a:ext cx="403848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ая шкатулка превратилас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инструмент – короб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лайд – коробочка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2" descr="6 группа 051"/>
          <p:cNvPicPr/>
          <p:nvPr/>
        </p:nvPicPr>
        <p:blipFill>
          <a:blip r:embed="rId2"/>
          <a:stretch/>
        </p:blipFill>
        <p:spPr>
          <a:xfrm>
            <a:off x="4495680" y="3124080"/>
            <a:ext cx="4114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19720" y="9140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бель использовали для глажки бе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е он очень похож на стира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ку (слайды – рубель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6 группа 052"/>
          <p:cNvPicPr/>
          <p:nvPr/>
        </p:nvPicPr>
        <p:blipFill>
          <a:blip r:embed="rId1"/>
          <a:stretch/>
        </p:blipFill>
        <p:spPr>
          <a:xfrm>
            <a:off x="533520" y="838080"/>
            <a:ext cx="373356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еще рубель"/>
          <p:cNvPicPr/>
          <p:nvPr/>
        </p:nvPicPr>
        <p:blipFill>
          <a:blip r:embed="rId2"/>
          <a:stretch/>
        </p:blipFill>
        <p:spPr>
          <a:xfrm>
            <a:off x="5181480" y="2362320"/>
            <a:ext cx="318780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6426341032458683eb06451bb424b95d983ab4586b8_b"/>
          <p:cNvPicPr/>
          <p:nvPr/>
        </p:nvPicPr>
        <p:blipFill>
          <a:blip r:embed="rId3"/>
          <a:stretch/>
        </p:blipFill>
        <p:spPr>
          <a:xfrm>
            <a:off x="533520" y="3962520"/>
            <a:ext cx="129528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еще трещотка"/>
          <p:cNvPicPr/>
          <p:nvPr/>
        </p:nvPicPr>
        <p:blipFill>
          <a:blip r:embed="rId4"/>
          <a:stretch/>
        </p:blipFill>
        <p:spPr>
          <a:xfrm>
            <a:off x="2057400" y="3886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3"/>
          <p:cNvSpPr/>
          <p:nvPr/>
        </p:nvSpPr>
        <p:spPr>
          <a:xfrm>
            <a:off x="5257800" y="495288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ые прищепки стали трещо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лайды – трещотка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91120" y="9907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амые необычные пре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ошли с деревянными поленьям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превратились в ксило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оказ слайдов – ксилофон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поленья"/>
          <p:cNvPicPr/>
          <p:nvPr/>
        </p:nvPicPr>
        <p:blipFill>
          <a:blip r:embed="rId1"/>
          <a:stretch/>
        </p:blipFill>
        <p:spPr>
          <a:xfrm>
            <a:off x="380880" y="106668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ксилофон"/>
          <p:cNvPicPr/>
          <p:nvPr/>
        </p:nvPicPr>
        <p:blipFill>
          <a:blip r:embed="rId2"/>
          <a:stretch/>
        </p:blipFill>
        <p:spPr>
          <a:xfrm>
            <a:off x="762120" y="38098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деревяшки"/>
          <p:cNvPicPr/>
          <p:nvPr/>
        </p:nvPicPr>
        <p:blipFill>
          <a:blip r:embed="rId3"/>
          <a:stretch/>
        </p:blipFill>
        <p:spPr>
          <a:xfrm>
            <a:off x="4343400" y="24382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Слушаем внимательно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дачи: развивать тембровый слух, память, формировать навыки игры на деревянных музыкальных инструмент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6 группа 057"/>
          <p:cNvPicPr/>
          <p:nvPr/>
        </p:nvPicPr>
        <p:blipFill>
          <a:blip r:embed="rId1"/>
          <a:stretch/>
        </p:blipFill>
        <p:spPr>
          <a:xfrm>
            <a:off x="685800" y="1447920"/>
            <a:ext cx="3276720" cy="19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6 группа 065"/>
          <p:cNvPicPr/>
          <p:nvPr/>
        </p:nvPicPr>
        <p:blipFill>
          <a:blip r:embed="rId2"/>
          <a:stretch/>
        </p:blipFill>
        <p:spPr>
          <a:xfrm>
            <a:off x="685800" y="36576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419720" y="13712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предлагает узнат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удиозаписи звучание  деревя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, узнавшие тембр того или и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а, подходят к стол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ходят нужный инструмент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ывают способы звукоизвл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6 группа 072"/>
          <p:cNvPicPr/>
          <p:nvPr/>
        </p:nvPicPr>
        <p:blipFill>
          <a:blip r:embed="rId3"/>
          <a:stretch/>
        </p:blipFill>
        <p:spPr>
          <a:xfrm>
            <a:off x="4648320" y="36576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Слушай вниматель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6 группа 070"/>
          <p:cNvPicPr/>
          <p:nvPr/>
        </p:nvPicPr>
        <p:blipFill>
          <a:blip r:embed="rId1"/>
          <a:stretch/>
        </p:blipFill>
        <p:spPr>
          <a:xfrm>
            <a:off x="609480" y="1219320"/>
            <a:ext cx="2819520" cy="213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6 группа 076"/>
          <p:cNvPicPr/>
          <p:nvPr/>
        </p:nvPicPr>
        <p:blipFill>
          <a:blip r:embed="rId2"/>
          <a:stretch/>
        </p:blipFill>
        <p:spPr>
          <a:xfrm>
            <a:off x="609480" y="3505320"/>
            <a:ext cx="3048120" cy="2819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495320" y="1371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аким образом, у всех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азываются в руках музык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6 группа 067"/>
          <p:cNvPicPr/>
          <p:nvPr/>
        </p:nvPicPr>
        <p:blipFill>
          <a:blip r:embed="rId3"/>
          <a:stretch/>
        </p:blipFill>
        <p:spPr>
          <a:xfrm>
            <a:off x="4038480" y="2819520"/>
            <a:ext cx="4648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оздать условия для творческого самовыражения детей в игре с «деревянными звука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ы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лечь внимание детей к богатству и разнообразию звуков, издаваемых деревянными предметами и музыкальными инструмен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ь представление о характере и разнообразии тембров «деревянных звук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ь представление о происхождении деревянных музыкаль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различать звуки по длительностям, ориентируясь на графическое из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ить названия деревянных музыкальных инструментов в соответствии со звуковым восприятием (ложки, коробочка, рубель, трещотка, ксилоф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ать формировать навыки игры на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тембровый слух, музыкальную память, внимание, чувство рит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творческий потенциал, воображение, фантазию и изобрет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ассоциативное мышление и инициати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интерес к истории происхождения русских народных деревян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доброжелательные взаимоотношения между детьми в процессе совместной творческ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провизация на тему «Веселый и грустный Буратино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эмоционально откликаться на русские народные мелодии; выражать эмоции в игре на инструментах; учить пользоваться контрастной динами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хвалит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ится быть «дирижером»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ркестр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точняется понятие «дириж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6 группа 088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6 группа 091"/>
          <p:cNvPicPr/>
          <p:nvPr/>
        </p:nvPicPr>
        <p:blipFill>
          <a:blip r:embed="rId2"/>
          <a:stretch/>
        </p:blipFill>
        <p:spPr>
          <a:xfrm>
            <a:off x="685800" y="388620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6 группа 092"/>
          <p:cNvPicPr/>
          <p:nvPr/>
        </p:nvPicPr>
        <p:blipFill>
          <a:blip r:embed="rId3"/>
          <a:stretch/>
        </p:blipFill>
        <p:spPr>
          <a:xfrm>
            <a:off x="4800600" y="3657600"/>
            <a:ext cx="3581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: заключительны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«Оркестр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воспитывать выдержку; развивать внимание, умение чувствовать фразу; создавать положительный эмоциональный настрой от иг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123720" y="137124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предлагает исполнить русскую народ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сню «Светит месяц» по пар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ываются карточки с изображ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ревянного инструмента. Те дети, у кого д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 играют законченную фразу. Пь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нчивается общим звучанием оркес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6 группа 086"/>
          <p:cNvPicPr/>
          <p:nvPr/>
        </p:nvPicPr>
        <p:blipFill>
          <a:blip r:embed="rId1"/>
          <a:stretch/>
        </p:blipFill>
        <p:spPr>
          <a:xfrm>
            <a:off x="457200" y="13716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6 группа 089"/>
          <p:cNvPicPr/>
          <p:nvPr/>
        </p:nvPicPr>
        <p:blipFill>
          <a:blip r:embed="rId2"/>
          <a:stretch/>
        </p:blipFill>
        <p:spPr>
          <a:xfrm>
            <a:off x="457200" y="3733920"/>
            <a:ext cx="3886200" cy="281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6 группа 090"/>
          <p:cNvPicPr/>
          <p:nvPr/>
        </p:nvPicPr>
        <p:blipFill>
          <a:blip r:embed="rId3"/>
          <a:stretch/>
        </p:blipFill>
        <p:spPr>
          <a:xfrm>
            <a:off x="4648320" y="3733920"/>
            <a:ext cx="4038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предметы «рассказывали 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и истории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Деревя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4190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ие музыкальные инстр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ереселились» звуки деревя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 ложки, коробочку, трещотку,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бель, ксилоф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Какие вы, ребята, молодц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-сви-да-ни-я!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6 группа 059"/>
          <p:cNvPicPr/>
          <p:nvPr/>
        </p:nvPicPr>
        <p:blipFill>
          <a:blip r:embed="rId1"/>
          <a:stretch/>
        </p:blipFill>
        <p:spPr>
          <a:xfrm>
            <a:off x="457200" y="99072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6 группа 044"/>
          <p:cNvPicPr/>
          <p:nvPr/>
        </p:nvPicPr>
        <p:blipFill>
          <a:blip r:embed="rId2"/>
          <a:stretch/>
        </p:blipFill>
        <p:spPr>
          <a:xfrm>
            <a:off x="5181480" y="228600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Социализация»:формирование представлений о музыкальной культуре русского народа; развитие игровой деятельности через партнерски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Познание»: расширение кругозора детей путем формирования представлений о происхождении деревянных музыкальных инструментов; развитие творческих способностей, иници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Коммуникация»: развитие свободного общения взрослых и детей во время эксперимента со зв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Художественное творчество»: проявление творчества, воображения, фанта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Чтение художественной литературы»: использование стихов с целью усиления эмоционального и звуков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Здоровье»: развивать слуховое и зрительное воспри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зада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реализации интеграции образовательных обл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варительная рабо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представлений о звуках окружающего мира, классификация (деревянные, металлические, стеклян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ятие о длинных и коротких звуках: прохлопывание «Семейного ронд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учивание русской народной попевки «Скок, скок, поскок» с отбиванием ритмического рисунка колпач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учивание песни М.Шкодовой «Три синич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узыкальными инструментами: ложками, коробочкой, трещоткой, руб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ские музыкальные инструменты: ложки, трещотки, рубель, коробочка, ксило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ые предметы: столы, стулья, палочки, карандаши, кубики, матрешки, посуда, игрушки, шкатулки и короб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кла Буратино, карточки с изображением музыкаль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ТСО: компьютер, телевизор, презентация (слайды) для детей, аудиоза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 – организационный, поисково-творческий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привлечь внимание детей к деревянным предметам, вызвать интерес к звуковым эксперимен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вет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 Сегодня нам свои истории будут рассказывать вот эти предметы. Из чего они сдела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Из дере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ение окружающих деревянных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ревянный звук как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стучащий и сух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ый и трескуч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хий и гремуч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монстрация звуковых возможностей деревянных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учение их звуковых характер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6 группа 01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еримент со зву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350532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амостоятельное исследование – звукотворче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 Каким образом можно издавать «деревянные звуки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зять деревянные палочк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аходят под стульчиками)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учать ими, потереть между ладонями, постучать о сидение или спинку стула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6 группа 015"/>
          <p:cNvPicPr/>
          <p:nvPr/>
        </p:nvPicPr>
        <p:blipFill>
          <a:blip r:embed="rId1"/>
          <a:stretch/>
        </p:blipFill>
        <p:spPr>
          <a:xfrm>
            <a:off x="914400" y="114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6 группа 017"/>
          <p:cNvPicPr/>
          <p:nvPr/>
        </p:nvPicPr>
        <p:blipFill>
          <a:blip r:embed="rId2"/>
          <a:stretch/>
        </p:blipFill>
        <p:spPr>
          <a:xfrm>
            <a:off x="990720" y="36576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6 группа 023"/>
          <p:cNvPicPr/>
          <p:nvPr/>
        </p:nvPicPr>
        <p:blipFill>
          <a:blip r:embed="rId3"/>
          <a:stretch/>
        </p:blipFill>
        <p:spPr>
          <a:xfrm>
            <a:off x="4952880" y="1143000"/>
            <a:ext cx="2914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 – развивающий, творческий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формировать понятие о долготе звука; развивать тембровый слух, чувство метро-ритма; проявлять творческую инициативу, мышление и пам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ружная семейка»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ем палочками с ритмосло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-а, та-а – шагают баб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, та, та, та – шагают ма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-ти-ти-ти-ти-ти-ти-ти - д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crotchet-blue-happy"/>
          <p:cNvPicPr/>
          <p:nvPr/>
        </p:nvPicPr>
        <p:blipFill>
          <a:blip r:embed="rId1"/>
          <a:stretch/>
        </p:blipFill>
        <p:spPr>
          <a:xfrm>
            <a:off x="23623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quaver-red-happy"/>
          <p:cNvPicPr/>
          <p:nvPr/>
        </p:nvPicPr>
        <p:blipFill>
          <a:blip r:embed="rId2"/>
          <a:stretch/>
        </p:blipFill>
        <p:spPr>
          <a:xfrm>
            <a:off x="3048120" y="5105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polovinka"/>
          <p:cNvPicPr/>
          <p:nvPr/>
        </p:nvPicPr>
        <p:blipFill>
          <a:blip r:embed="rId3"/>
          <a:stretch/>
        </p:blipFill>
        <p:spPr>
          <a:xfrm>
            <a:off x="533520" y="2286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olovinka"/>
          <p:cNvPicPr/>
          <p:nvPr/>
        </p:nvPicPr>
        <p:blipFill>
          <a:blip r:embed="rId4"/>
          <a:stretch/>
        </p:blipFill>
        <p:spPr>
          <a:xfrm>
            <a:off x="1905120" y="2286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rotchet-blue-happy"/>
          <p:cNvPicPr/>
          <p:nvPr/>
        </p:nvPicPr>
        <p:blipFill>
          <a:blip r:embed="rId5"/>
          <a:stretch/>
        </p:blipFill>
        <p:spPr>
          <a:xfrm>
            <a:off x="9907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rotchet-blue-happy"/>
          <p:cNvPicPr/>
          <p:nvPr/>
        </p:nvPicPr>
        <p:blipFill>
          <a:blip r:embed="rId6"/>
          <a:stretch/>
        </p:blipFill>
        <p:spPr>
          <a:xfrm>
            <a:off x="45720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rotchet-blue-happy"/>
          <p:cNvPicPr/>
          <p:nvPr/>
        </p:nvPicPr>
        <p:blipFill>
          <a:blip r:embed="rId7"/>
          <a:stretch/>
        </p:blipFill>
        <p:spPr>
          <a:xfrm>
            <a:off x="16765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quaver-red-happy"/>
          <p:cNvPicPr/>
          <p:nvPr/>
        </p:nvPicPr>
        <p:blipFill>
          <a:blip r:embed="rId8"/>
          <a:stretch/>
        </p:blipFill>
        <p:spPr>
          <a:xfrm>
            <a:off x="21337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quaver-red-happy"/>
          <p:cNvPicPr/>
          <p:nvPr/>
        </p:nvPicPr>
        <p:blipFill>
          <a:blip r:embed="rId9"/>
          <a:stretch/>
        </p:blipFill>
        <p:spPr>
          <a:xfrm>
            <a:off x="7621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quaver-red-happy"/>
          <p:cNvPicPr/>
          <p:nvPr/>
        </p:nvPicPr>
        <p:blipFill>
          <a:blip r:embed="rId10"/>
          <a:stretch/>
        </p:blipFill>
        <p:spPr>
          <a:xfrm>
            <a:off x="12193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quaver-red-happy"/>
          <p:cNvPicPr/>
          <p:nvPr/>
        </p:nvPicPr>
        <p:blipFill>
          <a:blip r:embed="rId11"/>
          <a:stretch/>
        </p:blipFill>
        <p:spPr>
          <a:xfrm>
            <a:off x="16765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quaver-red-happy"/>
          <p:cNvPicPr/>
          <p:nvPr/>
        </p:nvPicPr>
        <p:blipFill>
          <a:blip r:embed="rId12"/>
          <a:stretch/>
        </p:blipFill>
        <p:spPr>
          <a:xfrm>
            <a:off x="380880" y="5105520"/>
            <a:ext cx="76212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quaver-red-happy"/>
          <p:cNvPicPr/>
          <p:nvPr/>
        </p:nvPicPr>
        <p:blipFill>
          <a:blip r:embed="rId13"/>
          <a:stretch/>
        </p:blipFill>
        <p:spPr>
          <a:xfrm>
            <a:off x="25909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0" descr="quaver-red-happy"/>
          <p:cNvPicPr/>
          <p:nvPr/>
        </p:nvPicPr>
        <p:blipFill>
          <a:blip r:embed="rId14"/>
          <a:stretch/>
        </p:blipFill>
        <p:spPr>
          <a:xfrm>
            <a:off x="0" y="518148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6 группа 018"/>
          <p:cNvPicPr/>
          <p:nvPr/>
        </p:nvPicPr>
        <p:blipFill>
          <a:blip r:embed="rId15"/>
          <a:stretch/>
        </p:blipFill>
        <p:spPr>
          <a:xfrm>
            <a:off x="4267080" y="2895480"/>
            <a:ext cx="4038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емейное рондо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формировать понятие о долготе звуков; соотносить графическое изображение с ритмическим испол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6 группа 021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6 группа 022"/>
          <p:cNvPicPr/>
          <p:nvPr/>
        </p:nvPicPr>
        <p:blipFill>
          <a:blip r:embed="rId2"/>
          <a:stretch/>
        </p:blipFill>
        <p:spPr>
          <a:xfrm>
            <a:off x="4800600" y="175248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е в кру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френ – дети маршируют по кругу            Эпизоды – ритмичное отстук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шагов «Дружной семейк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загадки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развитие слуховой памяти, чувства ритма, координации рук и ритмического сл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6 группа 025"/>
          <p:cNvPicPr/>
          <p:nvPr/>
        </p:nvPicPr>
        <p:blipFill>
          <a:blip r:embed="rId1"/>
          <a:stretch/>
        </p:blipFill>
        <p:spPr>
          <a:xfrm>
            <a:off x="762120" y="137160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6 группа 026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6 группа 027"/>
          <p:cNvPicPr/>
          <p:nvPr/>
        </p:nvPicPr>
        <p:blipFill>
          <a:blip r:embed="rId3"/>
          <a:stretch/>
        </p:blipFill>
        <p:spPr>
          <a:xfrm>
            <a:off x="4648320" y="137160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920" y="4191120"/>
            <a:ext cx="39621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стукивает ритм знакомой русской народной попе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кок, поскок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 узн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певание по фразам с отстукиванием ритмического рисунка – прием «эх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NA</cp:lastModifiedBy>
  <dcterms:modified xsi:type="dcterms:W3CDTF">2017-09-16T17:16:5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