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568-D0AF-45FC-BCB5-D931705C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DBD-3836-444F-BE61-79FF5EB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721-EBBC-45E8-AA6A-1B840BEB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167-EE05-42F9-8FD4-F7FA31D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4AD-F94A-4D24-AD83-141B7AF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642-C656-4567-8B79-72430A8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756-7C4F-4550-8CE6-9CCA6A0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8E8-F41C-4D02-B730-0A3628C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7D0-F910-4C6E-8124-D666A0F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252-555A-437C-B46D-B40AB80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39E-992F-422F-A6EA-89618CD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D66-55AC-41E6-A47D-F34AB5C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743-F94C-4686-B159-DD5452B40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«Деревянные зву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Д для детей старшего дошкольного возраста (5-6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Художественно-эстетическое развит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 57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енко Д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original"/>
          <p:cNvPicPr/>
          <p:nvPr/>
        </p:nvPicPr>
        <p:blipFill>
          <a:blip r:embed="rId1"/>
          <a:stretch/>
        </p:blipFill>
        <p:spPr>
          <a:xfrm>
            <a:off x="5637240" y="2209680"/>
            <a:ext cx="3049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есня по ролям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чи: способствовать выразительному исполнению песни; развивать тембровый слух, чувство метра, память; проявлять творческую инициативу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6 группа 029"/>
          <p:cNvPicPr/>
          <p:nvPr/>
        </p:nvPicPr>
        <p:blipFill>
          <a:blip r:embed="rId1"/>
          <a:stretch/>
        </p:blipFill>
        <p:spPr>
          <a:xfrm>
            <a:off x="304920" y="2209680"/>
            <a:ext cx="20970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6 группа 033"/>
          <p:cNvPicPr/>
          <p:nvPr/>
        </p:nvPicPr>
        <p:blipFill>
          <a:blip r:embed="rId2"/>
          <a:stretch/>
        </p:blipFill>
        <p:spPr>
          <a:xfrm>
            <a:off x="2666880" y="38098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6 группа 035"/>
          <p:cNvPicPr/>
          <p:nvPr/>
        </p:nvPicPr>
        <p:blipFill>
          <a:blip r:embed="rId3"/>
          <a:stretch/>
        </p:blipFill>
        <p:spPr>
          <a:xfrm>
            <a:off x="2057400" y="144792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105520" y="15235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лагается испол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имую песню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.Шкодовой по ролям.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будут исполнять»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меты: кубики и каранда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ушаем и сравниваем зву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анда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Трех синич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и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Коров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ие песни «Три синички» М.Шко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6 группа 034"/>
          <p:cNvPicPr/>
          <p:nvPr/>
        </p:nvPicPr>
        <p:blipFill>
          <a:blip r:embed="rId1"/>
          <a:stretch/>
        </p:blipFill>
        <p:spPr>
          <a:xfrm>
            <a:off x="533520" y="1676520"/>
            <a:ext cx="28191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 группа 036"/>
          <p:cNvPicPr/>
          <p:nvPr/>
        </p:nvPicPr>
        <p:blipFill>
          <a:blip r:embed="rId2"/>
          <a:stretch/>
        </p:blipFill>
        <p:spPr>
          <a:xfrm>
            <a:off x="3886200" y="13716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льчики озвучивают куб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оров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вочки озвучивают карандаш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инич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: познавательный, развивающий, творческий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дать представление о происхождении деревянных музыкальных инструментов; способствовать развитию тембрового и динамического слуха, воспитывать доброжелательные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6 группа 039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дятел сел на с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ит дерево: 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ж ты жу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олодался я: тук-тук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акие деревянные звуки можем услышать в прир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сказка – аудиозапись «стук дят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ят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 экране появляется слай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6 группа 054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ление куклы 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6 группа 043"/>
          <p:cNvPicPr/>
          <p:nvPr/>
        </p:nvPicPr>
        <p:blipFill>
          <a:blip r:embed="rId1"/>
          <a:stretch/>
        </p:blipFill>
        <p:spPr>
          <a:xfrm>
            <a:off x="4343400" y="304812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409720" y="1066320"/>
            <a:ext cx="31244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ается стук в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двери стуч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ается в двери сту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4571640"/>
            <a:ext cx="335304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носит Бурати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Это кто-то очень ст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к деревянный?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Бурати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6 группа 041"/>
          <p:cNvPicPr/>
          <p:nvPr/>
        </p:nvPicPr>
        <p:blipFill>
          <a:blip r:embed="rId2"/>
          <a:stretch/>
        </p:blipFill>
        <p:spPr>
          <a:xfrm>
            <a:off x="685800" y="914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ратино исследует звуки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дачи: закрепить словесные характеристики звуков, развивать тембровый слух и память, пополнять словарный за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1430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Я тоже сделан из дере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лю слушать деревян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такие, такие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издает звук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помогают подобрать сло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лые, трескучие, гремуч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учащие, сух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6 группа 046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6 группа 049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609480" y="4267080"/>
            <a:ext cx="38862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Но у вас нет сам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го! Того, с чем можно иг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кест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Музыкальных инструмент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могают вспомнить, какие музыкальные инструменты издают деревянные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0663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А вы знаете, что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уки со временем переселились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в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менты? Вот как это был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жками ели – теперь еще и игр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а – ложки выкладываются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6 группа 050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464796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ая шкатулка превратилас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инструмент – короб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 – коробоч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2" descr="6 группа 051"/>
          <p:cNvPicPr/>
          <p:nvPr/>
        </p:nvPicPr>
        <p:blipFill>
          <a:blip r:embed="rId2"/>
          <a:stretch/>
        </p:blipFill>
        <p:spPr>
          <a:xfrm>
            <a:off x="4495680" y="3124080"/>
            <a:ext cx="4114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97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 использовали для глажки бе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он очень похож на стир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у (слайды – рубель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6 группа 052"/>
          <p:cNvPicPr/>
          <p:nvPr/>
        </p:nvPicPr>
        <p:blipFill>
          <a:blip r:embed="rId1"/>
          <a:stretch/>
        </p:blipFill>
        <p:spPr>
          <a:xfrm>
            <a:off x="533520" y="838080"/>
            <a:ext cx="373356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еще рубель"/>
          <p:cNvPicPr/>
          <p:nvPr/>
        </p:nvPicPr>
        <p:blipFill>
          <a:blip r:embed="rId2"/>
          <a:stretch/>
        </p:blipFill>
        <p:spPr>
          <a:xfrm>
            <a:off x="5181480" y="2362320"/>
            <a:ext cx="318780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6426341032458683eb06451bb424b95d983ab4586b8_b"/>
          <p:cNvPicPr/>
          <p:nvPr/>
        </p:nvPicPr>
        <p:blipFill>
          <a:blip r:embed="rId3"/>
          <a:stretch/>
        </p:blipFill>
        <p:spPr>
          <a:xfrm>
            <a:off x="533520" y="3962520"/>
            <a:ext cx="12952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еще трещотка"/>
          <p:cNvPicPr/>
          <p:nvPr/>
        </p:nvPicPr>
        <p:blipFill>
          <a:blip r:embed="rId4"/>
          <a:stretch/>
        </p:blipFill>
        <p:spPr>
          <a:xfrm>
            <a:off x="2057400" y="3886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3"/>
          <p:cNvSpPr/>
          <p:nvPr/>
        </p:nvSpPr>
        <p:spPr>
          <a:xfrm>
            <a:off x="5257800" y="495288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ищепки стали трещо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ы – трещот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91120" y="9907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амые необычные пре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ошли с деревянными поленьям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превратились в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ов – ксилофон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поленья"/>
          <p:cNvPicPr/>
          <p:nvPr/>
        </p:nvPicPr>
        <p:blipFill>
          <a:blip r:embed="rId1"/>
          <a:stretch/>
        </p:blipFill>
        <p:spPr>
          <a:xfrm>
            <a:off x="380880" y="10666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силофон"/>
          <p:cNvPicPr/>
          <p:nvPr/>
        </p:nvPicPr>
        <p:blipFill>
          <a:blip r:embed="rId2"/>
          <a:stretch/>
        </p:blipFill>
        <p:spPr>
          <a:xfrm>
            <a:off x="762120" y="3809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деревяшки"/>
          <p:cNvPicPr/>
          <p:nvPr/>
        </p:nvPicPr>
        <p:blipFill>
          <a:blip r:embed="rId3"/>
          <a:stretch/>
        </p:blipFill>
        <p:spPr>
          <a:xfrm>
            <a:off x="4343400" y="24382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ем внимательн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дачи: развивать тембровый слух, память, формировать навыки игры на деревянных музыкальных инструмен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 группа 057"/>
          <p:cNvPicPr/>
          <p:nvPr/>
        </p:nvPicPr>
        <p:blipFill>
          <a:blip r:embed="rId1"/>
          <a:stretch/>
        </p:blipFill>
        <p:spPr>
          <a:xfrm>
            <a:off x="685800" y="1447920"/>
            <a:ext cx="327672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6 группа 065"/>
          <p:cNvPicPr/>
          <p:nvPr/>
        </p:nvPicPr>
        <p:blipFill>
          <a:blip r:embed="rId2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419720" y="13712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узна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удиозаписи звучание 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, узнавшие тембр того или и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а, подходят к сто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ходят нужный инструмен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 способы звукоизвл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6 группа 072"/>
          <p:cNvPicPr/>
          <p:nvPr/>
        </p:nvPicPr>
        <p:blipFill>
          <a:blip r:embed="rId3"/>
          <a:stretch/>
        </p:blipFill>
        <p:spPr>
          <a:xfrm>
            <a:off x="4648320" y="36576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й вниматель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6 группа 070"/>
          <p:cNvPicPr/>
          <p:nvPr/>
        </p:nvPicPr>
        <p:blipFill>
          <a:blip r:embed="rId1"/>
          <a:stretch/>
        </p:blipFill>
        <p:spPr>
          <a:xfrm>
            <a:off x="609480" y="12193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6 группа 076"/>
          <p:cNvPicPr/>
          <p:nvPr/>
        </p:nvPicPr>
        <p:blipFill>
          <a:blip r:embed="rId2"/>
          <a:stretch/>
        </p:blipFill>
        <p:spPr>
          <a:xfrm>
            <a:off x="609480" y="3505320"/>
            <a:ext cx="3048120" cy="28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95320" y="1371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аким образом, у все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азываются в руках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 группа 067"/>
          <p:cNvPicPr/>
          <p:nvPr/>
        </p:nvPicPr>
        <p:blipFill>
          <a:blip r:embed="rId3"/>
          <a:stretch/>
        </p:blipFill>
        <p:spPr>
          <a:xfrm>
            <a:off x="4038480" y="2819520"/>
            <a:ext cx="4648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оздать условия для творческого самовыражения детей в игре с «деревянными звук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лечь внимание детей к богатству и разнообразию звуков, издаваемых деревянными предметами и музыкальны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характере и разнообразии тембров «деревянных зву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деревянных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азличать звуки по длительностям, ориентируясь на графическое 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названия деревянных музыкальных инструментов в соответствии со звуковым восприятием (ложки, коробочка, рубель, трещотка, ксилоф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ать формировать навыки игры на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ембровый слух, музыкальную память, внимание, чувство рит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ворческий потенциал, воображение, фантазию и изобрет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ассоциативное мышление и инициат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интерес к истории происхождения русских народных деревян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доброжелательные взаимоотношения между детьми в процессе совместной творческ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ровизация на тему «Веселый и грустный Буратино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эмоционально откликаться на русские народные мелодии; выражать эмоции в игре на инструментах; учить пользоваться контрастной динам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хвалит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ится быть «дирижером»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кестр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очняется понятие «дириж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6 группа 088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6 группа 091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6 группа 092"/>
          <p:cNvPicPr/>
          <p:nvPr/>
        </p:nvPicPr>
        <p:blipFill>
          <a:blip r:embed="rId3"/>
          <a:stretch/>
        </p:blipFill>
        <p:spPr>
          <a:xfrm>
            <a:off x="4800600" y="3657600"/>
            <a:ext cx="358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: заключительны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Оркестр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воспитывать выдержку; развивать внимание, умение чувствовать фразу; создавать положительный эмоциональный настрой от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23720" y="137124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исполнить русскую народ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сню «Светит месяц» по пар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ся карточки с изобра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янного инструмента. Те дети, у кого д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 играют законченную фразу. Пь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нчивается общим звучанием оркес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6 группа 086"/>
          <p:cNvPicPr/>
          <p:nvPr/>
        </p:nvPicPr>
        <p:blipFill>
          <a:blip r:embed="rId1"/>
          <a:stretch/>
        </p:blipFill>
        <p:spPr>
          <a:xfrm>
            <a:off x="457200" y="13716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6 группа 089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81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6 группа 090"/>
          <p:cNvPicPr/>
          <p:nvPr/>
        </p:nvPicPr>
        <p:blipFill>
          <a:blip r:embed="rId3"/>
          <a:stretch/>
        </p:blipFill>
        <p:spPr>
          <a:xfrm>
            <a:off x="4648320" y="37339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редметы «рассказывали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и истори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еревя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4190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е музыкальны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ереселились» звуки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ложки, коробочку, трещотк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, ксило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Какие вы, ребята, молод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-сви-да-ни-я!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6 группа 059"/>
          <p:cNvPicPr/>
          <p:nvPr/>
        </p:nvPicPr>
        <p:blipFill>
          <a:blip r:embed="rId1"/>
          <a:stretch/>
        </p:blipFill>
        <p:spPr>
          <a:xfrm>
            <a:off x="457200" y="99072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6 группа 044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Социализация»:формирование представлений о музыкальной культуре русского народа; развитие игровой деятельности через партнерск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Познание»: расширение кругозора детей путем формирования представлений о происхождении деревянных музыкальных инструментов; развитие творческих способностей,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Коммуникация»: развитие свободного общения взрослых и детей во время эксперимента со зв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Художественное творчество»: проявление творчества, воображения, фанта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Чтение художественной литературы»: использование стихов с целью усиления эмоционального и звук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Здоровье»: развивать слуховое и зрительное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зада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реализации интеграции образовательных об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ая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вуках окружающего мира, классификация (деревянные, металлические, стекля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 длинных и коротких звуках: прохлопывание «Семейного ронд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русской народной попевки «Скок, скок, поскок» с отбиванием ритмического рисунка колпа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песни М.Шкодовой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узыкальными инструментами: ложками, коробочкой, трещоткой, руб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е музыкальные инструменты: ложки, трещотки, рубель, коробочка,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едметы: столы, стулья, палочки, карандаши, кубики, матрешки, посуда, игрушки, шкатулки и короб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кла Буратино, карточки с изображением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ТСО: компьютер, телевизор, презентация (слайды) для детей, ауди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 организационный, поисково-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привлечь внимание детей к деревянным предметам, вызвать интерес к звуковым эксперимен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ве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Сегодня нам свои истории будут рассказывать вот эти предметы. Из чего они сдел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Из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ение окружающих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ревянный звук ка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тучащий и сух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ый и треск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хий и гремуч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монстрация звуковых возможностей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учение их звуковых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6 группа 01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имент со зву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мостоятельное исследование – звукотворче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Каким образом можно издавать «деревянные звук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зять деревянные палоч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ходят под стульчиками)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учать ими, потереть между ладонями, постучать о сидение или спинку сту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6 группа 015"/>
          <p:cNvPicPr/>
          <p:nvPr/>
        </p:nvPicPr>
        <p:blipFill>
          <a:blip r:embed="rId1"/>
          <a:stretch/>
        </p:blipFill>
        <p:spPr>
          <a:xfrm>
            <a:off x="914400" y="114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6 группа 017"/>
          <p:cNvPicPr/>
          <p:nvPr/>
        </p:nvPicPr>
        <p:blipFill>
          <a:blip r:embed="rId2"/>
          <a:stretch/>
        </p:blipFill>
        <p:spPr>
          <a:xfrm>
            <a:off x="990720" y="36576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6 группа 023"/>
          <p:cNvPicPr/>
          <p:nvPr/>
        </p:nvPicPr>
        <p:blipFill>
          <a:blip r:embed="rId3"/>
          <a:stretch/>
        </p:blipFill>
        <p:spPr>
          <a:xfrm>
            <a:off x="4952880" y="114300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– развивающий, 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а; развивать тембровый слух, чувство метро-ритма; проявлять творческую инициативу, мышление и пам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ружная семейка»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ем палочками с ритмосло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-а, та-а – шагают баб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, та, та, та – шагают ма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-ти-ти-ти-ти-ти-ти-ти -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crotchet-blue-happy"/>
          <p:cNvPicPr/>
          <p:nvPr/>
        </p:nvPicPr>
        <p:blipFill>
          <a:blip r:embed="rId1"/>
          <a:stretch/>
        </p:blipFill>
        <p:spPr>
          <a:xfrm>
            <a:off x="23623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quaver-red-happy"/>
          <p:cNvPicPr/>
          <p:nvPr/>
        </p:nvPicPr>
        <p:blipFill>
          <a:blip r:embed="rId2"/>
          <a:stretch/>
        </p:blipFill>
        <p:spPr>
          <a:xfrm>
            <a:off x="3048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olovinka"/>
          <p:cNvPicPr/>
          <p:nvPr/>
        </p:nvPicPr>
        <p:blipFill>
          <a:blip r:embed="rId3"/>
          <a:stretch/>
        </p:blipFill>
        <p:spPr>
          <a:xfrm>
            <a:off x="5335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olovinka"/>
          <p:cNvPicPr/>
          <p:nvPr/>
        </p:nvPicPr>
        <p:blipFill>
          <a:blip r:embed="rId4"/>
          <a:stretch/>
        </p:blipFill>
        <p:spPr>
          <a:xfrm>
            <a:off x="19051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rotchet-blue-happy"/>
          <p:cNvPicPr/>
          <p:nvPr/>
        </p:nvPicPr>
        <p:blipFill>
          <a:blip r:embed="rId5"/>
          <a:stretch/>
        </p:blipFill>
        <p:spPr>
          <a:xfrm>
            <a:off x="9907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rotchet-blue-happy"/>
          <p:cNvPicPr/>
          <p:nvPr/>
        </p:nvPicPr>
        <p:blipFill>
          <a:blip r:embed="rId6"/>
          <a:stretch/>
        </p:blipFill>
        <p:spPr>
          <a:xfrm>
            <a:off x="45720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tchet-blue-happy"/>
          <p:cNvPicPr/>
          <p:nvPr/>
        </p:nvPicPr>
        <p:blipFill>
          <a:blip r:embed="rId7"/>
          <a:stretch/>
        </p:blipFill>
        <p:spPr>
          <a:xfrm>
            <a:off x="16765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quaver-red-happy"/>
          <p:cNvPicPr/>
          <p:nvPr/>
        </p:nvPicPr>
        <p:blipFill>
          <a:blip r:embed="rId8"/>
          <a:stretch/>
        </p:blipFill>
        <p:spPr>
          <a:xfrm>
            <a:off x="21337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quaver-red-happy"/>
          <p:cNvPicPr/>
          <p:nvPr/>
        </p:nvPicPr>
        <p:blipFill>
          <a:blip r:embed="rId9"/>
          <a:stretch/>
        </p:blipFill>
        <p:spPr>
          <a:xfrm>
            <a:off x="7621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quaver-red-happy"/>
          <p:cNvPicPr/>
          <p:nvPr/>
        </p:nvPicPr>
        <p:blipFill>
          <a:blip r:embed="rId10"/>
          <a:stretch/>
        </p:blipFill>
        <p:spPr>
          <a:xfrm>
            <a:off x="12193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quaver-red-happy"/>
          <p:cNvPicPr/>
          <p:nvPr/>
        </p:nvPicPr>
        <p:blipFill>
          <a:blip r:embed="rId11"/>
          <a:stretch/>
        </p:blipFill>
        <p:spPr>
          <a:xfrm>
            <a:off x="16765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quaver-red-happy"/>
          <p:cNvPicPr/>
          <p:nvPr/>
        </p:nvPicPr>
        <p:blipFill>
          <a:blip r:embed="rId12"/>
          <a:stretch/>
        </p:blipFill>
        <p:spPr>
          <a:xfrm>
            <a:off x="380880" y="5105520"/>
            <a:ext cx="76212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quaver-red-happy"/>
          <p:cNvPicPr/>
          <p:nvPr/>
        </p:nvPicPr>
        <p:blipFill>
          <a:blip r:embed="rId13"/>
          <a:stretch/>
        </p:blipFill>
        <p:spPr>
          <a:xfrm>
            <a:off x="25909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quaver-red-happy"/>
          <p:cNvPicPr/>
          <p:nvPr/>
        </p:nvPicPr>
        <p:blipFill>
          <a:blip r:embed="rId14"/>
          <a:stretch/>
        </p:blipFill>
        <p:spPr>
          <a:xfrm>
            <a:off x="0" y="518148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6 группа 018"/>
          <p:cNvPicPr/>
          <p:nvPr/>
        </p:nvPicPr>
        <p:blipFill>
          <a:blip r:embed="rId15"/>
          <a:stretch/>
        </p:blipFill>
        <p:spPr>
          <a:xfrm>
            <a:off x="4267080" y="2895480"/>
            <a:ext cx="4038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емейное ронд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ов; соотносить графическое изображение с ритмическим испол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6 группа 021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6 группа 022"/>
          <p:cNvPicPr/>
          <p:nvPr/>
        </p:nvPicPr>
        <p:blipFill>
          <a:blip r:embed="rId2"/>
          <a:stretch/>
        </p:blipFill>
        <p:spPr>
          <a:xfrm>
            <a:off x="4800600" y="17524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е в кр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френ – дети маршируют по кругу            Эпизоды – ритмичное отсту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агов «Дружной семей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загадки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развитие слуховой памяти, чувства ритма, координации рук и ритмическ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6 группа 025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6 группа 026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6 группа 027"/>
          <p:cNvPicPr/>
          <p:nvPr/>
        </p:nvPicPr>
        <p:blipFill>
          <a:blip r:embed="rId3"/>
          <a:stretch/>
        </p:blipFill>
        <p:spPr>
          <a:xfrm>
            <a:off x="4648320" y="13716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920" y="4191120"/>
            <a:ext cx="3962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тукивает ритм знакомой русской народной попе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кок, поско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узн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певание по фразам с отстукиванием ритмического рисунка – прием «эх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NA</cp:lastModifiedBy>
  <dcterms:modified xsi:type="dcterms:W3CDTF">2017-09-16T17:16:5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