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4.wmf" ContentType="image/x-wmf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media/image14.png" ContentType="image/pn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7B6-9C22-4D22-8604-55F9CFD7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E13-2D0F-40F5-B151-3A175CB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32E-73E1-463B-85B2-628BBE58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762-99CD-4B12-920D-CF557ACA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2255-E85F-4176-8DD1-DA7626CF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9FF8-A099-4DE9-8BA5-2C1DC3BD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111-DA32-4B7B-B22F-FB95AD3B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5B8E-EB0B-4046-A5DF-197A66AA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C2A7-84A8-4C6B-9A89-B4FB24CC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1FD3-E061-42EB-B388-6FC0DC3E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AA22-4158-4473-871A-762D1CB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629-246E-4283-A146-D56C11F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5A34-7B54-420C-B0BC-4AEFAB3D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6DAC-089F-4161-AD9D-6CC3825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8D45-A5B4-4A8C-8B14-ABE115B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2CD8-5A7C-4709-A8AC-46DDE497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DA0A-0FBF-4FC5-A33B-564DE3D9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D42FD-3741-45E2-8033-F41184D6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8ED73-A599-498E-A8CA-D17FD736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B2A83-F49D-44CF-BACD-3CA3FABE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48ED0-0C71-4AF3-A18E-E46BECB9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3AA10-5397-48D2-9B12-F4315DAB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F3F-3172-476B-A5E3-BFFA15A6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DAB98-C41E-47B7-8A87-B4E759A9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F1588-46BE-487F-8648-89B540A7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46411-AAC5-4651-B15E-161494F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EE889-75A8-4465-90C3-C2895BE1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AA5FB-DB8B-408B-A00A-7DC04105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77F27-3872-487C-B6F7-DF3AA700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F68F6-0883-415B-8D98-937AAA9B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A424C-D1F8-4F70-B158-E0E73151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C02BF-07D1-4C98-B773-24A88EE2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31B89-62F7-4266-A7D4-A050FDAC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CBB-378C-4A8F-A35B-6D0BDFF7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96765-14AA-402D-8D46-23F03EDA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B77FC-763E-4DAD-B42E-16FDC322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CD6D5-9415-453E-8C84-0B520658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FD68C-05B0-4773-9C63-267A230E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C8F9F-47FD-4EB5-A58E-FDFAA14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1A856-1396-45CE-83FC-483A1B4F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0ED43-11C8-4B4C-B377-ECEE0A24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D557B-AE3B-4EB1-9EB2-44AF5BE5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247FB-758A-4D4F-93F3-10EC7604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4D16D-4A54-4A27-9DAF-48992D93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2D2-9940-4C9A-B610-6FE1D475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E70F7-C3D8-467B-A654-AB410EDA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88C36-236C-420C-8909-DF8B355D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6F353-5204-44A9-9796-9444FFE1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6E115-8B91-44CB-B287-F9F62889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54BB7-449C-46DE-BFD6-BABADB6A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63748-92D4-4635-B43F-59FE16A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A7AA6-95D3-4624-A449-A8197A7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8C42D-14D1-495E-A041-C46D9C8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9F6E5-EEE0-476B-81E2-C0EE5D9D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B7E43-2C53-4D51-ABEA-23A9589F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B6F-28D2-4588-AE74-CA0C76F4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6E727-4034-46B9-8767-B735BD53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30DE-2E8E-49B6-9537-28492060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27AD-70E8-4AFE-90BE-07D9F245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560C-CE12-4D85-AEF5-4446EE0F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936E-B973-44DB-A36A-E671426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44CF-110C-4045-8B23-FD844479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359E-A2E8-46A2-BDBB-96347B1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242F-630E-4A22-92DD-E5D30EFE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0A3A0-1CF5-4753-86A9-37A90B6F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A345-F8BA-4D5C-98FB-786DFD3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FDE-16CB-4666-91A0-2920275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B4B59-2318-47DE-B821-A0464E1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FE1BD-4C47-4473-8942-46870558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0EBA8-F4A6-443D-B0EA-E9366117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7E3C3-2507-4DB1-A238-22703437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703E4-7293-47BA-822B-BD9256A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D0D4B-8B0B-4109-9879-C0F09B17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C58D4-CFE7-47A9-8FBB-51D19F91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678DC-19D0-49F3-8FA6-FF20A2E9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EB893-57A7-412F-9F97-E2B384A4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561B2-0C61-472C-83ED-ADC3830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61B-5D4C-4AE6-8E51-29608B14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F7786-AB1E-4C64-9D7F-6A1EA83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72C53-5D25-4BE2-B5C2-4FE6F3C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2054E5-4EFA-4C69-8C73-6AEB98BC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B1E76-636E-44EE-A10F-C6499D2B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E1B85-2D89-4901-A314-C2E23AB5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BC2D7-5C79-4EEF-9E1C-7D4CCDFC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3CB7-3380-4122-81DF-AF4F10F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9B132-E14D-46C0-B53E-95B1A4A5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E3522-71E2-444D-9E84-CACE5E2E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D554-0742-4869-A5A8-B17873FF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A5B-B2C5-4DDA-9F08-C76DF41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6917E-B6A6-422C-9255-1BBD9D1D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344D2-BA36-4C5C-B4F9-6F3801F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A8CA0-E688-4D71-81C5-FED100A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CB575-D8D9-463E-A2B5-D28A2CA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FD46F-8995-41CC-B195-EC5A4E3A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819D-2D34-4A4D-83EF-F59B9986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CB51-8676-4B77-8215-7CC12590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BB10-646A-4DA2-AEAA-6D711046BF1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2FF3-23B0-4972-8DB1-B7C232932C52}" type="slidenum">
              <a:rPr b="1" lang="ru-RU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C884-6D0F-4FCA-9E78-B57CDF27C0E2}" type="slidenum">
              <a:rPr b="1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5701-47E2-4A31-9DE1-CD27025698B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8D49-225B-4C08-9184-607050622A5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FB66-FD06-4C82-B1A0-B61200D44E90}" type="slidenum">
              <a:rPr b="1" lang="ru-RU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5486-9755-4922-922D-87BDB1F64A44}" type="slidenum">
              <a:rPr b="1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7F56-CEA1-43C9-B839-3C1DDB8E9B7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28.jpeg"/><Relationship Id="rId5" Type="http://schemas.openxmlformats.org/officeDocument/2006/relationships/image" Target="../media/image42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WEATHER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" descr="C:\Documents and Settings\Admin\Рабочий стол\Still Waters, Eagle River, Alaska.jpg"/>
          <p:cNvPicPr/>
          <p:nvPr/>
        </p:nvPicPr>
        <p:blipFill>
          <a:blip r:embed="rId1"/>
          <a:stretch/>
        </p:blipFill>
        <p:spPr>
          <a:xfrm>
            <a:off x="817560" y="1700280"/>
            <a:ext cx="3925800" cy="2508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Documents and Settings\Admin\Рабочий стол\Seasonal Beauty, Mount Rainier, Washington - 160.jpg"/>
          <p:cNvPicPr/>
          <p:nvPr/>
        </p:nvPicPr>
        <p:blipFill>
          <a:blip r:embed="rId2"/>
          <a:stretch/>
        </p:blipFill>
        <p:spPr>
          <a:xfrm>
            <a:off x="1403280" y="4487760"/>
            <a:ext cx="3229200" cy="2256120"/>
          </a:xfrm>
          <a:prstGeom prst="rect">
            <a:avLst/>
          </a:prstGeom>
          <a:ln w="0">
            <a:noFill/>
          </a:ln>
        </p:spPr>
      </p:pic>
      <p:pic>
        <p:nvPicPr>
          <p:cNvPr id="369" name="Содержимое 7" descr="June Lake, California - 1600x1200 - ID 33487.jpg"/>
          <p:cNvPicPr/>
          <p:nvPr/>
        </p:nvPicPr>
        <p:blipFill>
          <a:blip r:embed="rId3"/>
          <a:stretch/>
        </p:blipFill>
        <p:spPr>
          <a:xfrm>
            <a:off x="4427640" y="3573360"/>
            <a:ext cx="4037040" cy="2652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Documents and Settings\Admin\Рабочий стол\Tremont, Great Smoky Mountains National Park, Te.jpg"/>
          <p:cNvPicPr/>
          <p:nvPr/>
        </p:nvPicPr>
        <p:blipFill>
          <a:blip r:embed="rId4"/>
          <a:stretch/>
        </p:blipFill>
        <p:spPr>
          <a:xfrm>
            <a:off x="5076720" y="1555920"/>
            <a:ext cx="326556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1532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Bookman Old Style"/>
              </a:rPr>
              <a:t>Составьте предложения:</a:t>
            </a: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6480" y="1941480"/>
            <a:ext cx="312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When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3"/>
          <p:cNvSpPr/>
          <p:nvPr/>
        </p:nvSpPr>
        <p:spPr>
          <a:xfrm>
            <a:off x="5429160" y="366876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I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Рисунок 32" descr="Безымянный.jpg"/>
          <p:cNvPicPr/>
          <p:nvPr/>
        </p:nvPicPr>
        <p:blipFill>
          <a:blip r:embed="rId1"/>
          <a:stretch/>
        </p:blipFill>
        <p:spPr>
          <a:xfrm>
            <a:off x="3041640" y="407844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48" descr="4545.png"/>
          <p:cNvPicPr/>
          <p:nvPr/>
        </p:nvPicPr>
        <p:blipFill>
          <a:blip r:embed="rId2"/>
          <a:stretch/>
        </p:blipFill>
        <p:spPr>
          <a:xfrm>
            <a:off x="3127320" y="166356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9" descr="767865.png"/>
          <p:cNvPicPr/>
          <p:nvPr/>
        </p:nvPicPr>
        <p:blipFill>
          <a:blip r:embed="rId3"/>
          <a:stretch/>
        </p:blipFill>
        <p:spPr>
          <a:xfrm>
            <a:off x="2981160" y="5278320"/>
            <a:ext cx="1414800" cy="107964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4" descr=""/>
          <p:cNvPicPr/>
          <p:nvPr/>
        </p:nvPicPr>
        <p:blipFill>
          <a:blip r:embed="rId4"/>
          <a:stretch/>
        </p:blipFill>
        <p:spPr>
          <a:xfrm>
            <a:off x="7524720" y="5442120"/>
            <a:ext cx="1241280" cy="12301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5" descr=""/>
          <p:cNvPicPr/>
          <p:nvPr/>
        </p:nvPicPr>
        <p:blipFill>
          <a:blip r:embed="rId5"/>
          <a:stretch/>
        </p:blipFill>
        <p:spPr>
          <a:xfrm>
            <a:off x="7453440" y="1695600"/>
            <a:ext cx="1384200" cy="9205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6" descr=""/>
          <p:cNvPicPr/>
          <p:nvPr/>
        </p:nvPicPr>
        <p:blipFill>
          <a:blip r:embed="rId6"/>
          <a:stretch/>
        </p:blipFill>
        <p:spPr>
          <a:xfrm>
            <a:off x="7427880" y="2733840"/>
            <a:ext cx="1457280" cy="111888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7" descr=""/>
          <p:cNvPicPr/>
          <p:nvPr/>
        </p:nvPicPr>
        <p:blipFill>
          <a:blip r:embed="rId7"/>
          <a:stretch/>
        </p:blipFill>
        <p:spPr>
          <a:xfrm>
            <a:off x="5686560" y="5210280"/>
            <a:ext cx="976320" cy="146196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8" descr=""/>
          <p:cNvPicPr/>
          <p:nvPr/>
        </p:nvPicPr>
        <p:blipFill>
          <a:blip r:embed="rId8"/>
          <a:stretch/>
        </p:blipFill>
        <p:spPr>
          <a:xfrm>
            <a:off x="5645160" y="1682640"/>
            <a:ext cx="1225440" cy="131148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9" descr=""/>
          <p:cNvPicPr/>
          <p:nvPr/>
        </p:nvPicPr>
        <p:blipFill>
          <a:blip r:embed="rId9"/>
          <a:stretch/>
        </p:blipFill>
        <p:spPr>
          <a:xfrm>
            <a:off x="7524720" y="4111560"/>
            <a:ext cx="1360440" cy="101916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50" descr="7778.png"/>
          <p:cNvPicPr/>
          <p:nvPr/>
        </p:nvPicPr>
        <p:blipFill>
          <a:blip r:embed="rId10"/>
          <a:stretch/>
        </p:blipFill>
        <p:spPr>
          <a:xfrm>
            <a:off x="3103560" y="2724120"/>
            <a:ext cx="13352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489" name="Прямая со стрелкой 11"/>
          <p:cNvCxnSpPr/>
          <p:nvPr/>
        </p:nvCxnSpPr>
        <p:spPr>
          <a:xfrm flipV="1">
            <a:off x="2410920" y="2488320"/>
            <a:ext cx="794520" cy="11804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0" name="Прямая со стрелкой 51"/>
          <p:cNvCxnSpPr/>
          <p:nvPr/>
        </p:nvCxnSpPr>
        <p:spPr>
          <a:xfrm>
            <a:off x="2379240" y="4393800"/>
            <a:ext cx="826200" cy="133596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1" name="Прямая со стрелкой 52"/>
          <p:cNvCxnSpPr/>
          <p:nvPr/>
        </p:nvCxnSpPr>
        <p:spPr>
          <a:xfrm flipV="1">
            <a:off x="2531880" y="3168360"/>
            <a:ext cx="797400" cy="8546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2" name="Прямая со стрелкой 53"/>
          <p:cNvCxnSpPr/>
          <p:nvPr/>
        </p:nvCxnSpPr>
        <p:spPr>
          <a:xfrm>
            <a:off x="2523600" y="4066920"/>
            <a:ext cx="739080" cy="5166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3" name="Прямая со стрелкой 54"/>
          <p:cNvCxnSpPr/>
          <p:nvPr/>
        </p:nvCxnSpPr>
        <p:spPr>
          <a:xfrm>
            <a:off x="4235040" y="2217240"/>
            <a:ext cx="1235880" cy="15534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4" name="Прямая со стрелкой 55"/>
          <p:cNvCxnSpPr>
            <a:endCxn id="478" idx="1"/>
          </p:cNvCxnSpPr>
          <p:nvPr/>
        </p:nvCxnSpPr>
        <p:spPr>
          <a:xfrm>
            <a:off x="4205160" y="3250800"/>
            <a:ext cx="1131120" cy="7722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5" name="Прямая со стрелкой 59"/>
          <p:cNvCxnSpPr/>
          <p:nvPr/>
        </p:nvCxnSpPr>
        <p:spPr>
          <a:xfrm flipV="1">
            <a:off x="4148280" y="4144680"/>
            <a:ext cx="1187640" cy="5911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  <p:cxnSp>
        <p:nvCxnSpPr>
          <p:cNvPr id="496" name="Прямая со стрелкой 60"/>
          <p:cNvCxnSpPr/>
          <p:nvPr/>
        </p:nvCxnSpPr>
        <p:spPr>
          <a:xfrm flipV="1">
            <a:off x="4179960" y="4296600"/>
            <a:ext cx="1256400" cy="15944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stealth" w="med"/>
          </a:ln>
        </p:spPr>
      </p:cxn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1532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Bookman Old Style"/>
              </a:rPr>
              <a:t>When it is…   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I can…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6480" y="1941480"/>
            <a:ext cx="87087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fly a kite      </a:t>
            </a: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d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4400" spc="-1" strike="noStrike">
                <a:solidFill>
                  <a:srgbClr val="00b050"/>
                </a:solidFill>
                <a:latin typeface="Bookman Old Style"/>
              </a:rPr>
              <a:t>ski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skate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dance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play the guita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	</a:t>
            </a: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	</a:t>
            </a:r>
            <a:r>
              <a:rPr b="1" lang="en-US" sz="4400" spc="-1" strike="noStrike">
                <a:solidFill>
                  <a:srgbClr val="00b050"/>
                </a:solidFill>
                <a:latin typeface="Bookman Old Style"/>
              </a:rPr>
              <a:t>jump</a:t>
            </a: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     </a:t>
            </a: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   </a:t>
            </a:r>
            <a:r>
              <a:rPr b="1" lang="en-US" sz="4400" spc="-1" strike="noStrike">
                <a:solidFill>
                  <a:srgbClr val="00b050"/>
                </a:solidFill>
                <a:latin typeface="Bookman Old Style"/>
              </a:rPr>
              <a:t>play tennis</a:t>
            </a: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        </a:t>
            </a: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drive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302a"/>
                </a:solidFill>
                <a:latin typeface="Bookman Old Style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walk  </a:t>
            </a: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     </a:t>
            </a:r>
            <a:r>
              <a:rPr b="1" lang="en-US" sz="4000" spc="-1" strike="noStrike">
                <a:solidFill>
                  <a:srgbClr val="00b050"/>
                </a:solidFill>
                <a:latin typeface="Bookman Old Style"/>
              </a:rPr>
              <a:t>watch T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3"/>
          <p:cNvSpPr/>
          <p:nvPr/>
        </p:nvSpPr>
        <p:spPr>
          <a:xfrm>
            <a:off x="5865120" y="3429000"/>
            <a:ext cx="28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ride a b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2"/>
          <p:cNvSpPr/>
          <p:nvPr/>
        </p:nvSpPr>
        <p:spPr>
          <a:xfrm>
            <a:off x="4857840" y="414324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sw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1532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Bookman Old Style"/>
              </a:rPr>
              <a:t>Составьте предложения:</a:t>
            </a: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480" y="1941480"/>
            <a:ext cx="456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When it is</a:t>
            </a:r>
            <a:r>
              <a:rPr b="1" lang="ru-RU" sz="4000" spc="-1" strike="noStrike">
                <a:solidFill>
                  <a:srgbClr val="3c302a"/>
                </a:solidFill>
                <a:latin typeface="Bookman Old Style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3"/>
          <p:cNvSpPr/>
          <p:nvPr/>
        </p:nvSpPr>
        <p:spPr>
          <a:xfrm>
            <a:off x="5665680" y="285768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I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2"/>
          <p:cNvSpPr/>
          <p:nvPr/>
        </p:nvSpPr>
        <p:spPr>
          <a:xfrm>
            <a:off x="4857840" y="414324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  </a:t>
            </a: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Ann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5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WordArt 8"/>
          <p:cNvSpPr txBox="1"/>
          <p:nvPr/>
        </p:nvSpPr>
        <p:spPr>
          <a:xfrm>
            <a:off x="2195640" y="549360"/>
            <a:ext cx="489744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THANK YOU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509" name="WordArt 9"/>
          <p:cNvSpPr txBox="1"/>
          <p:nvPr/>
        </p:nvSpPr>
        <p:spPr>
          <a:xfrm>
            <a:off x="2158920" y="2565360"/>
            <a:ext cx="4971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OOD LUCK!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0" name="WordArt 10"/>
          <p:cNvSpPr txBox="1"/>
          <p:nvPr/>
        </p:nvSpPr>
        <p:spPr>
          <a:xfrm>
            <a:off x="4087800" y="3789360"/>
            <a:ext cx="1114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AND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511" name="WordArt 11"/>
          <p:cNvSpPr txBox="1"/>
          <p:nvPr/>
        </p:nvSpPr>
        <p:spPr>
          <a:xfrm>
            <a:off x="2556000" y="4662360"/>
            <a:ext cx="44481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GOOD-BUY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Bookman Old Style"/>
              </a:rPr>
              <a:t>The weather can be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4260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unny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ra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n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lo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5748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win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fog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Рисунок 9" descr="Безымянный.jpg"/>
          <p:cNvPicPr/>
          <p:nvPr/>
        </p:nvPicPr>
        <p:blipFill>
          <a:blip r:embed="rId1"/>
          <a:stretch/>
        </p:blipFill>
        <p:spPr>
          <a:xfrm>
            <a:off x="2554200" y="1841400"/>
            <a:ext cx="1365480" cy="10242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0" descr="4545.png"/>
          <p:cNvPicPr/>
          <p:nvPr/>
        </p:nvPicPr>
        <p:blipFill>
          <a:blip r:embed="rId2"/>
          <a:stretch/>
        </p:blipFill>
        <p:spPr>
          <a:xfrm>
            <a:off x="2425680" y="285912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1" descr="767865.png"/>
          <p:cNvPicPr/>
          <p:nvPr/>
        </p:nvPicPr>
        <p:blipFill>
          <a:blip r:embed="rId3"/>
          <a:stretch/>
        </p:blipFill>
        <p:spPr>
          <a:xfrm>
            <a:off x="2408400" y="3790800"/>
            <a:ext cx="1407960" cy="10861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12" descr="45786.png"/>
          <p:cNvPicPr/>
          <p:nvPr/>
        </p:nvPicPr>
        <p:blipFill>
          <a:blip r:embed="rId4"/>
          <a:stretch/>
        </p:blipFill>
        <p:spPr>
          <a:xfrm>
            <a:off x="2395440" y="5005440"/>
            <a:ext cx="1401840" cy="10843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3" descr="7778.png"/>
          <p:cNvPicPr/>
          <p:nvPr/>
        </p:nvPicPr>
        <p:blipFill>
          <a:blip r:embed="rId5"/>
          <a:stretch/>
        </p:blipFill>
        <p:spPr>
          <a:xfrm>
            <a:off x="6559560" y="1835280"/>
            <a:ext cx="1341360" cy="106668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4" descr="235.png"/>
          <p:cNvPicPr/>
          <p:nvPr/>
        </p:nvPicPr>
        <p:blipFill>
          <a:blip r:embed="rId6"/>
          <a:stretch/>
        </p:blipFill>
        <p:spPr>
          <a:xfrm>
            <a:off x="6492960" y="285912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15" descr="456635.png"/>
          <p:cNvPicPr/>
          <p:nvPr/>
        </p:nvPicPr>
        <p:blipFill>
          <a:blip r:embed="rId7"/>
          <a:stretch/>
        </p:blipFill>
        <p:spPr>
          <a:xfrm>
            <a:off x="6559560" y="3998880"/>
            <a:ext cx="1346040" cy="10238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6" descr="78787.png"/>
          <p:cNvPicPr/>
          <p:nvPr/>
        </p:nvPicPr>
        <p:blipFill>
          <a:blip r:embed="rId8"/>
          <a:stretch/>
        </p:blipFill>
        <p:spPr>
          <a:xfrm>
            <a:off x="6559560" y="4932360"/>
            <a:ext cx="1388880" cy="10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Bookman Old Style"/>
              </a:rPr>
              <a:t>The weather can be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260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85748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Рисунок 9" descr="Безымянный.jpg"/>
          <p:cNvPicPr/>
          <p:nvPr/>
        </p:nvPicPr>
        <p:blipFill>
          <a:blip r:embed="rId1"/>
          <a:stretch/>
        </p:blipFill>
        <p:spPr>
          <a:xfrm>
            <a:off x="2554200" y="1841400"/>
            <a:ext cx="1365480" cy="102420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0" descr="4545.png"/>
          <p:cNvPicPr/>
          <p:nvPr/>
        </p:nvPicPr>
        <p:blipFill>
          <a:blip r:embed="rId2"/>
          <a:stretch/>
        </p:blipFill>
        <p:spPr>
          <a:xfrm>
            <a:off x="2425680" y="285912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1" descr="767865.png"/>
          <p:cNvPicPr/>
          <p:nvPr/>
        </p:nvPicPr>
        <p:blipFill>
          <a:blip r:embed="rId3"/>
          <a:stretch/>
        </p:blipFill>
        <p:spPr>
          <a:xfrm>
            <a:off x="2408400" y="3790800"/>
            <a:ext cx="1407960" cy="108612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2" descr="45786.png"/>
          <p:cNvPicPr/>
          <p:nvPr/>
        </p:nvPicPr>
        <p:blipFill>
          <a:blip r:embed="rId4"/>
          <a:stretch/>
        </p:blipFill>
        <p:spPr>
          <a:xfrm>
            <a:off x="2395440" y="5005440"/>
            <a:ext cx="1401840" cy="10843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3" descr="7778.png"/>
          <p:cNvPicPr/>
          <p:nvPr/>
        </p:nvPicPr>
        <p:blipFill>
          <a:blip r:embed="rId5"/>
          <a:stretch/>
        </p:blipFill>
        <p:spPr>
          <a:xfrm>
            <a:off x="6559560" y="1835280"/>
            <a:ext cx="1341360" cy="106668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14" descr="235.png"/>
          <p:cNvPicPr/>
          <p:nvPr/>
        </p:nvPicPr>
        <p:blipFill>
          <a:blip r:embed="rId6"/>
          <a:stretch/>
        </p:blipFill>
        <p:spPr>
          <a:xfrm>
            <a:off x="6492960" y="285912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56635.png"/>
          <p:cNvPicPr/>
          <p:nvPr/>
        </p:nvPicPr>
        <p:blipFill>
          <a:blip r:embed="rId7"/>
          <a:stretch/>
        </p:blipFill>
        <p:spPr>
          <a:xfrm>
            <a:off x="6559560" y="3998880"/>
            <a:ext cx="1346040" cy="1023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6" descr="78787.png"/>
          <p:cNvPicPr/>
          <p:nvPr/>
        </p:nvPicPr>
        <p:blipFill>
          <a:blip r:embed="rId8"/>
          <a:stretch/>
        </p:blipFill>
        <p:spPr>
          <a:xfrm>
            <a:off x="6559560" y="4932360"/>
            <a:ext cx="1388880" cy="10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Bookman Old Style"/>
              </a:rPr>
              <a:t>The weather can be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260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unny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ra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n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lo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857480" y="157176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win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fog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Рисунок 9" descr="Безымянный.jpg"/>
          <p:cNvPicPr/>
          <p:nvPr/>
        </p:nvPicPr>
        <p:blipFill>
          <a:blip r:embed="rId1"/>
          <a:stretch/>
        </p:blipFill>
        <p:spPr>
          <a:xfrm>
            <a:off x="2554200" y="1841400"/>
            <a:ext cx="1365480" cy="10242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0" descr="4545.png"/>
          <p:cNvPicPr/>
          <p:nvPr/>
        </p:nvPicPr>
        <p:blipFill>
          <a:blip r:embed="rId2"/>
          <a:stretch/>
        </p:blipFill>
        <p:spPr>
          <a:xfrm>
            <a:off x="2425680" y="285912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1" descr="767865.png"/>
          <p:cNvPicPr/>
          <p:nvPr/>
        </p:nvPicPr>
        <p:blipFill>
          <a:blip r:embed="rId3"/>
          <a:stretch/>
        </p:blipFill>
        <p:spPr>
          <a:xfrm>
            <a:off x="2408400" y="3790800"/>
            <a:ext cx="1407960" cy="10861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2" descr="45786.png"/>
          <p:cNvPicPr/>
          <p:nvPr/>
        </p:nvPicPr>
        <p:blipFill>
          <a:blip r:embed="rId4"/>
          <a:stretch/>
        </p:blipFill>
        <p:spPr>
          <a:xfrm>
            <a:off x="2395440" y="5005440"/>
            <a:ext cx="1401840" cy="10843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13" descr="7778.png"/>
          <p:cNvPicPr/>
          <p:nvPr/>
        </p:nvPicPr>
        <p:blipFill>
          <a:blip r:embed="rId5"/>
          <a:stretch/>
        </p:blipFill>
        <p:spPr>
          <a:xfrm>
            <a:off x="6559560" y="1835280"/>
            <a:ext cx="1341360" cy="10666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4" descr="235.png"/>
          <p:cNvPicPr/>
          <p:nvPr/>
        </p:nvPicPr>
        <p:blipFill>
          <a:blip r:embed="rId6"/>
          <a:stretch/>
        </p:blipFill>
        <p:spPr>
          <a:xfrm>
            <a:off x="6492960" y="285912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5" descr="456635.png"/>
          <p:cNvPicPr/>
          <p:nvPr/>
        </p:nvPicPr>
        <p:blipFill>
          <a:blip r:embed="rId7"/>
          <a:stretch/>
        </p:blipFill>
        <p:spPr>
          <a:xfrm>
            <a:off x="6559560" y="3998880"/>
            <a:ext cx="1346040" cy="10238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6" descr="78787.png"/>
          <p:cNvPicPr/>
          <p:nvPr/>
        </p:nvPicPr>
        <p:blipFill>
          <a:blip r:embed="rId8"/>
          <a:stretch/>
        </p:blipFill>
        <p:spPr>
          <a:xfrm>
            <a:off x="6559560" y="4932360"/>
            <a:ext cx="1388880" cy="10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Bookman Old Style"/>
              </a:rPr>
              <a:t>What is the weather like</a:t>
            </a:r>
            <a:r>
              <a:rPr b="1" lang="ru-RU" sz="4400" spc="-1" strike="noStrike">
                <a:solidFill>
                  <a:srgbClr val="775f55"/>
                </a:solidFill>
                <a:latin typeface="Bookman Old Style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28400" y="1785960"/>
            <a:ext cx="378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The weather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4462560" y="198900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02a"/>
                </a:solidFill>
                <a:latin typeface="Bookman Old Style"/>
              </a:rPr>
              <a:t>sn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1"/>
          <p:cNvSpPr/>
          <p:nvPr/>
        </p:nvSpPr>
        <p:spPr>
          <a:xfrm>
            <a:off x="4449600" y="327168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02a"/>
                </a:solidFill>
                <a:latin typeface="Bookman Old Style"/>
              </a:rPr>
              <a:t>clo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2"/>
          <p:cNvSpPr/>
          <p:nvPr/>
        </p:nvSpPr>
        <p:spPr>
          <a:xfrm>
            <a:off x="4479840" y="43448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02a"/>
                </a:solidFill>
                <a:latin typeface="Bookman Old Style"/>
              </a:rPr>
              <a:t>s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5" descr="767865.png"/>
          <p:cNvPicPr/>
          <p:nvPr/>
        </p:nvPicPr>
        <p:blipFill>
          <a:blip r:embed="rId1"/>
          <a:stretch/>
        </p:blipFill>
        <p:spPr>
          <a:xfrm>
            <a:off x="4376880" y="1481040"/>
            <a:ext cx="1506240" cy="145116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45786.png"/>
          <p:cNvPicPr/>
          <p:nvPr/>
        </p:nvPicPr>
        <p:blipFill>
          <a:blip r:embed="rId2"/>
          <a:stretch/>
        </p:blipFill>
        <p:spPr>
          <a:xfrm>
            <a:off x="4322880" y="2773440"/>
            <a:ext cx="1560240" cy="151740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Безымянный.jpg"/>
          <p:cNvPicPr/>
          <p:nvPr/>
        </p:nvPicPr>
        <p:blipFill>
          <a:blip r:embed="rId3"/>
          <a:stretch/>
        </p:blipFill>
        <p:spPr>
          <a:xfrm>
            <a:off x="4363920" y="4048200"/>
            <a:ext cx="1487520" cy="13651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13"/>
          <p:cNvSpPr/>
          <p:nvPr/>
        </p:nvSpPr>
        <p:spPr>
          <a:xfrm>
            <a:off x="4572000" y="554976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02a"/>
                </a:solidFill>
                <a:latin typeface="Bookman Old Style"/>
              </a:rPr>
              <a:t>ra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7" descr="4545.png"/>
          <p:cNvPicPr/>
          <p:nvPr/>
        </p:nvPicPr>
        <p:blipFill>
          <a:blip r:embed="rId4"/>
          <a:stretch/>
        </p:blipFill>
        <p:spPr>
          <a:xfrm>
            <a:off x="4363920" y="5297400"/>
            <a:ext cx="150048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9207E-006 L 0.16528 -0.00162 E">
                                      <p:cBhvr>
                                        <p:cTn id="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0037 L 0.16354 0.00208 E">
                                      <p:cBhvr>
                                        <p:cTn id="10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9207E-006 L 0.16528 -0.00162 E">
                                      <p:cBhvr>
                                        <p:cTn id="14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0111 L 0.16354 0.00948 E">
                                      <p:cBhvr>
                                        <p:cTn id="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2128680" y="148284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3786120" y="25621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2048040" y="36432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135320" y="49388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2178000" y="58752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СНЕЖНО"/>
          <p:cNvPicPr/>
          <p:nvPr/>
        </p:nvPicPr>
        <p:blipFill>
          <a:blip r:embed="rId1"/>
          <a:stretch/>
        </p:blipFill>
        <p:spPr>
          <a:xfrm>
            <a:off x="4794120" y="23464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ОБЛАЧНО"/>
          <p:cNvPicPr/>
          <p:nvPr/>
        </p:nvPicPr>
        <p:blipFill>
          <a:blip r:embed="rId2"/>
          <a:stretch/>
        </p:blipFill>
        <p:spPr>
          <a:xfrm>
            <a:off x="2994120" y="3570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ДОЖДЬ"/>
          <p:cNvPicPr/>
          <p:nvPr/>
        </p:nvPicPr>
        <p:blipFill>
          <a:blip r:embed="rId3"/>
          <a:stretch/>
        </p:blipFill>
        <p:spPr>
          <a:xfrm>
            <a:off x="5143680" y="4867200"/>
            <a:ext cx="1371600" cy="800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ВЕТРЕННО"/>
          <p:cNvPicPr/>
          <p:nvPr/>
        </p:nvPicPr>
        <p:blipFill>
          <a:blip r:embed="rId4"/>
          <a:stretch/>
        </p:blipFill>
        <p:spPr>
          <a:xfrm>
            <a:off x="3114720" y="5659560"/>
            <a:ext cx="1352520" cy="99036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4"/>
          <p:cNvSpPr/>
          <p:nvPr/>
        </p:nvSpPr>
        <p:spPr>
          <a:xfrm>
            <a:off x="4361040" y="1482840"/>
            <a:ext cx="165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nn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СОЛНЦЕ"/>
          <p:cNvPicPr/>
          <p:nvPr/>
        </p:nvPicPr>
        <p:blipFill>
          <a:blip r:embed="rId5"/>
          <a:stretch/>
        </p:blipFill>
        <p:spPr>
          <a:xfrm>
            <a:off x="3137040" y="1338120"/>
            <a:ext cx="1296720" cy="9367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9"/>
          <p:cNvSpPr/>
          <p:nvPr/>
        </p:nvSpPr>
        <p:spPr>
          <a:xfrm>
            <a:off x="6305400" y="2562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now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4649760" y="36432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ou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1"/>
          <p:cNvSpPr/>
          <p:nvPr/>
        </p:nvSpPr>
        <p:spPr>
          <a:xfrm>
            <a:off x="6583320" y="4938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2"/>
          <p:cNvSpPr/>
          <p:nvPr/>
        </p:nvSpPr>
        <p:spPr>
          <a:xfrm>
            <a:off x="4626000" y="5946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91800" y="404280"/>
            <a:ext cx="57675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26868"/>
                </a:solidFill>
                <a:latin typeface="Times New Roman"/>
              </a:rPr>
              <a:t>Закончите предложения: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6840" y="549000"/>
            <a:ext cx="81532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Bookman Old Style"/>
              </a:rPr>
              <a:t>Ответьте на вопрос:</a:t>
            </a: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8000" y="1925640"/>
            <a:ext cx="164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Is 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1907640" y="1614240"/>
            <a:ext cx="65725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fog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sn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ra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02a"/>
                </a:solidFill>
                <a:latin typeface="Bookman Old Style"/>
              </a:rPr>
              <a:t>clo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Рисунок 12" descr="Безымянный.jpg"/>
          <p:cNvPicPr/>
          <p:nvPr/>
        </p:nvPicPr>
        <p:blipFill>
          <a:blip r:embed="rId1"/>
          <a:stretch/>
        </p:blipFill>
        <p:spPr>
          <a:xfrm>
            <a:off x="3724200" y="251784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3" descr="4545.png"/>
          <p:cNvPicPr/>
          <p:nvPr/>
        </p:nvPicPr>
        <p:blipFill>
          <a:blip r:embed="rId2"/>
          <a:stretch/>
        </p:blipFill>
        <p:spPr>
          <a:xfrm>
            <a:off x="3780000" y="1670040"/>
            <a:ext cx="1365120" cy="10303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4" descr="767865.png"/>
          <p:cNvPicPr/>
          <p:nvPr/>
        </p:nvPicPr>
        <p:blipFill>
          <a:blip r:embed="rId3"/>
          <a:stretch/>
        </p:blipFill>
        <p:spPr>
          <a:xfrm>
            <a:off x="3693960" y="5016600"/>
            <a:ext cx="1414440" cy="10857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5" descr="45786.png"/>
          <p:cNvPicPr/>
          <p:nvPr/>
        </p:nvPicPr>
        <p:blipFill>
          <a:blip r:embed="rId4"/>
          <a:stretch/>
        </p:blipFill>
        <p:spPr>
          <a:xfrm>
            <a:off x="3565440" y="5877000"/>
            <a:ext cx="1408320" cy="10778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8" descr="456635.png"/>
          <p:cNvPicPr/>
          <p:nvPr/>
        </p:nvPicPr>
        <p:blipFill>
          <a:blip r:embed="rId5"/>
          <a:stretch/>
        </p:blipFill>
        <p:spPr>
          <a:xfrm>
            <a:off x="3724200" y="3359160"/>
            <a:ext cx="1341360" cy="10238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9" descr="78787.png"/>
          <p:cNvPicPr/>
          <p:nvPr/>
        </p:nvPicPr>
        <p:blipFill>
          <a:blip r:embed="rId6"/>
          <a:stretch/>
        </p:blipFill>
        <p:spPr>
          <a:xfrm>
            <a:off x="3693960" y="4127400"/>
            <a:ext cx="1390680" cy="106056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5915160" y="1925640"/>
            <a:ext cx="1654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226280" y="1925640"/>
            <a:ext cx="1917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164200" y="1779480"/>
            <a:ext cx="377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5919840" y="2941560"/>
            <a:ext cx="1654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7232760" y="2941560"/>
            <a:ext cx="1911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5164200" y="2805120"/>
            <a:ext cx="377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5964120" y="3808440"/>
            <a:ext cx="1654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7275600" y="3808440"/>
            <a:ext cx="1868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208480" y="3672000"/>
            <a:ext cx="3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008760" y="4641840"/>
            <a:ext cx="165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7321680" y="4641840"/>
            <a:ext cx="19303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5254560" y="4505400"/>
            <a:ext cx="376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6016680" y="5373720"/>
            <a:ext cx="165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7329600" y="5373720"/>
            <a:ext cx="1922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5262480" y="5237280"/>
            <a:ext cx="3762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6016680" y="6308640"/>
            <a:ext cx="165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Yes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7329600" y="6308640"/>
            <a:ext cx="192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, </a:t>
            </a:r>
            <a:r>
              <a:rPr b="1" lang="en-US" sz="2000" spc="-1" strike="noStrike">
                <a:solidFill>
                  <a:srgbClr val="3c302a"/>
                </a:solidFill>
                <a:latin typeface="Bookman Old Style"/>
              </a:rPr>
              <a:t>it i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5262480" y="6172200"/>
            <a:ext cx="376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302a"/>
                </a:solidFill>
                <a:latin typeface="Bookman Old Style"/>
              </a:rPr>
              <a:t>WEATHER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C:\Documents and Settings\Admin\Рабочий стол\Still Waters, Eagle River, Alaska.jpg"/>
          <p:cNvPicPr/>
          <p:nvPr/>
        </p:nvPicPr>
        <p:blipFill>
          <a:blip r:embed="rId1"/>
          <a:stretch/>
        </p:blipFill>
        <p:spPr>
          <a:xfrm>
            <a:off x="817560" y="1700280"/>
            <a:ext cx="3925800" cy="2508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Admin\Рабочий стол\Seasonal Beauty, Mount Rainier, Washington - 160.jpg"/>
          <p:cNvPicPr/>
          <p:nvPr/>
        </p:nvPicPr>
        <p:blipFill>
          <a:blip r:embed="rId2"/>
          <a:stretch/>
        </p:blipFill>
        <p:spPr>
          <a:xfrm>
            <a:off x="1403280" y="4487760"/>
            <a:ext cx="3229200" cy="2256120"/>
          </a:xfrm>
          <a:prstGeom prst="rect">
            <a:avLst/>
          </a:prstGeom>
          <a:ln w="0">
            <a:noFill/>
          </a:ln>
        </p:spPr>
      </p:pic>
      <p:pic>
        <p:nvPicPr>
          <p:cNvPr id="461" name="Содержимое 7" descr="June Lake, California - 1600x1200 - ID 33487.jpg"/>
          <p:cNvPicPr/>
          <p:nvPr/>
        </p:nvPicPr>
        <p:blipFill>
          <a:blip r:embed="rId3"/>
          <a:stretch/>
        </p:blipFill>
        <p:spPr>
          <a:xfrm>
            <a:off x="4427640" y="3573360"/>
            <a:ext cx="4037040" cy="26528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C:\Documents and Settings\Admin\Рабочий стол\Tremont, Great Smoky Mountains National Park, Te.jpg"/>
          <p:cNvPicPr/>
          <p:nvPr/>
        </p:nvPicPr>
        <p:blipFill>
          <a:blip r:embed="rId4"/>
          <a:stretch/>
        </p:blipFill>
        <p:spPr>
          <a:xfrm>
            <a:off x="5076720" y="1555920"/>
            <a:ext cx="326556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08000" y="1925640"/>
            <a:ext cx="164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 can…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65" name="Рисунок 4" descr=""/>
          <p:cNvPicPr/>
          <p:nvPr/>
        </p:nvPicPr>
        <p:blipFill>
          <a:blip r:embed="rId1"/>
          <a:stretch/>
        </p:blipFill>
        <p:spPr>
          <a:xfrm>
            <a:off x="6858000" y="4500720"/>
            <a:ext cx="1908000" cy="189072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6" descr=""/>
          <p:cNvPicPr/>
          <p:nvPr/>
        </p:nvPicPr>
        <p:blipFill>
          <a:blip r:embed="rId2"/>
          <a:stretch/>
        </p:blipFill>
        <p:spPr>
          <a:xfrm>
            <a:off x="7259760" y="642960"/>
            <a:ext cx="1884240" cy="144792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7" descr=""/>
          <p:cNvPicPr/>
          <p:nvPr/>
        </p:nvPicPr>
        <p:blipFill>
          <a:blip r:embed="rId3"/>
          <a:stretch/>
        </p:blipFill>
        <p:spPr>
          <a:xfrm>
            <a:off x="4929120" y="2571840"/>
            <a:ext cx="1428840" cy="2139840"/>
          </a:xfrm>
          <a:prstGeom prst="rect">
            <a:avLst/>
          </a:prstGeom>
          <a:ln w="0">
            <a:noFill/>
          </a:ln>
        </p:spPr>
      </p:pic>
      <p:pic>
        <p:nvPicPr>
          <p:cNvPr id="468" name="Рисунок 8" descr=""/>
          <p:cNvPicPr/>
          <p:nvPr/>
        </p:nvPicPr>
        <p:blipFill>
          <a:blip r:embed="rId4"/>
          <a:stretch/>
        </p:blipFill>
        <p:spPr>
          <a:xfrm>
            <a:off x="2928960" y="1214280"/>
            <a:ext cx="1797120" cy="192276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"/>
          <p:cNvPicPr/>
          <p:nvPr/>
        </p:nvPicPr>
        <p:blipFill>
          <a:blip r:embed="rId5"/>
          <a:stretch/>
        </p:blipFill>
        <p:spPr>
          <a:xfrm>
            <a:off x="7072200" y="2500200"/>
            <a:ext cx="2071800" cy="1552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Go-go\Desktop\открытый урок\бег.jpg"/>
          <p:cNvPicPr/>
          <p:nvPr/>
        </p:nvPicPr>
        <p:blipFill>
          <a:blip r:embed="rId6"/>
          <a:stretch/>
        </p:blipFill>
        <p:spPr>
          <a:xfrm>
            <a:off x="428760" y="1000080"/>
            <a:ext cx="2016000" cy="1500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C:\Users\Go-go\Desktop\открытый урок\ныряние.jpg"/>
          <p:cNvPicPr/>
          <p:nvPr/>
        </p:nvPicPr>
        <p:blipFill>
          <a:blip r:embed="rId7"/>
          <a:stretch/>
        </p:blipFill>
        <p:spPr>
          <a:xfrm>
            <a:off x="714240" y="2714760"/>
            <a:ext cx="1455840" cy="21873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C:\Users\Go-go\Desktop\открытый урок\пианино.jpg"/>
          <p:cNvPicPr/>
          <p:nvPr/>
        </p:nvPicPr>
        <p:blipFill>
          <a:blip r:embed="rId8"/>
          <a:stretch/>
        </p:blipFill>
        <p:spPr>
          <a:xfrm>
            <a:off x="5072040" y="1071720"/>
            <a:ext cx="1828800" cy="1212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C:\Users\Go-go\Desktop\открытый урок\гитара.jpg"/>
          <p:cNvPicPr/>
          <p:nvPr/>
        </p:nvPicPr>
        <p:blipFill>
          <a:blip r:embed="rId9"/>
          <a:stretch/>
        </p:blipFill>
        <p:spPr>
          <a:xfrm>
            <a:off x="4572000" y="4929120"/>
            <a:ext cx="2039760" cy="153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C:\Users\Go-go\Desktop\открытый урок\плавание.jpg"/>
          <p:cNvPicPr/>
          <p:nvPr/>
        </p:nvPicPr>
        <p:blipFill>
          <a:blip r:embed="rId10"/>
          <a:stretch/>
        </p:blipFill>
        <p:spPr>
          <a:xfrm>
            <a:off x="785880" y="5143680"/>
            <a:ext cx="1936800" cy="1442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C:\Users\Go-go\Desktop\открытый урок\рисование.jpg"/>
          <p:cNvPicPr/>
          <p:nvPr/>
        </p:nvPicPr>
        <p:blipFill>
          <a:blip r:embed="rId11"/>
          <a:stretch/>
        </p:blipFill>
        <p:spPr>
          <a:xfrm>
            <a:off x="2786040" y="3429000"/>
            <a:ext cx="1612800" cy="215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2:32Z</dcterms:created>
  <dc:creator>F. Lampard</dc:creator>
  <dc:description/>
  <dc:language>en-US</dc:language>
  <cp:lastModifiedBy>Go-go</cp:lastModifiedBy>
  <dcterms:modified xsi:type="dcterms:W3CDTF">2013-11-18T10:06:12Z</dcterms:modified>
  <cp:revision>105</cp:revision>
  <dc:subject/>
  <dc:title>SEASONS</dc:title>
</cp:coreProperties>
</file>