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4.wmf" ContentType="image/x-wmf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DAB-FCE5-4BED-8B53-1076EF4F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C65-EF68-4566-97F8-DD1FF12E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711-23A3-4893-8A19-F31D7EF6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756-201C-483D-8B50-975EE89A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70CB-00B0-44C4-9944-CF5B85F7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E19-53BE-4917-9D3F-BA6C786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3D6-1DD1-4AA4-9AE1-C9D3657A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5FFD-A837-4F98-9E77-263D9FA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9295-6610-430B-A4A6-64321341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034-D731-4581-92DD-1E6F1A8E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87D-03F3-461B-AD76-8BEB2F0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5BD-62CA-466D-8EEE-6EB58A0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0BA8-C09C-4A08-B735-790A1E1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B4D-60D8-4832-B7B0-1AB6863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7B00-56A3-4222-BF6C-599BF7D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C430-6983-4AF9-BBBC-35DFB77B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5CB7-C62F-4BB3-BB55-8575404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70A74-8C89-472D-A579-69EFEBF9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954E5-78BD-43C9-BAFA-C4CAD74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B3530-7EE2-4EA4-B9BD-C0C0528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E5D7C-BBD6-416B-ACEC-B730621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43E7A-CE67-485B-95F6-1AC210F3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29C-CB0B-4EE4-A975-6047A67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6D2D3-8E6E-46B3-8589-C044A783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00033-3B12-4914-BD0E-E17D74C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80441-0545-4F18-A9F1-E775F4E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9434B-55A8-4E15-A310-484DA1E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BAADF-1852-4A4E-B9EC-78CB52AE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DE3F2-2D26-4697-A5F2-BAFCAC01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132F9-0E36-458F-8FED-16B9F19B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1697D-4EC7-4CED-9A94-9220E3E2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C56D1-B083-4E5F-89D5-A35D2BC7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F305D-1072-4E13-AA00-90C49052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8B0-456E-467E-85FF-0420004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491D2-7C3B-4A92-A4D0-F769E53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258C9-9626-4398-B2E3-AB780DA1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E7E8F-0FEC-45C4-AD78-D6162B2F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F1B43-1C59-411F-A40C-785A206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EDCDB-6FD5-465A-9090-BA52E0F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77EF7-7A86-4E0A-8C7A-6A908F5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41045-DAAC-4A2E-AE5B-8E97AEA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6DE1F-CBEA-4ABB-9B67-68485F2E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202DF-7DCA-42FF-963C-F8D16CB9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81675-A1CD-46DF-ACB1-21454F4E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2C5-D95B-44EA-B943-981C127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43EF1-62D9-49B0-8D1C-1575887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F67E1-1CFC-4B57-84FF-17440415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116D0-5A66-41F2-B373-1EC28AB3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7245C-983E-4562-A2B3-55230FA9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6B72A-8DEC-4AF3-9A8D-4C046FBD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10BC9-BF4B-407C-8366-647E94D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3252E-D127-406E-AF03-9E866C3E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82782-DB18-44E4-AA3F-FBCC67DA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667D2-0126-473E-AC75-7280D7B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32CD1-F799-4E4E-B275-EECC0678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67A-42FB-422B-AD19-8BC94FE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5FC94-5487-4409-A6A7-75861D94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BBDA-F146-4618-AE3A-22278292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A9A3-B4B9-41A8-98D5-42727D39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4828-F46E-4284-87D8-B18F15B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1BA0-1951-4331-A7EA-E40015E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175A-76A4-4C8B-A816-3215775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A417-54DB-4793-9F9A-9EFBC3F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97D6-17C6-449C-B1DF-14184D2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AF47-BE39-45B9-9C5F-00CD1026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EA75-33E1-4ACF-B589-D2F0675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81D-9ED2-45BC-9171-09F5242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4B87-03CB-4258-AF6F-3A3D14F6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A18B-F5BE-4C50-A41C-871BD221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FCF2-AC85-418F-A5BD-ADBF5F35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3D7DB-132F-415E-AB3B-4CECDD7F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8E4C7-2650-4686-BE40-1ECC666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332AE-B34E-4321-BAD2-49E4B6E6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F92EE-B339-4FC5-8717-0F9327A4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4C4C9-A409-4C1A-86C4-B091967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464EF-A984-4C12-B2BA-E5E6350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CA098-5BA3-4142-8C09-7531A10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4FC-CB4A-47A8-992C-E67E980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F716D-7B63-4352-ADD5-17B3279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BEC16-96B7-4CF1-86A0-93E3CF9B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36A57-54E5-4E97-9EA3-E8C8EA1D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CEEEE-279F-4EF5-BDDB-43304091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BA323-8E42-4E1C-BF49-6C04939B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E579F-6F31-4424-AB34-4289C881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B1C0-DEBD-4CBC-8A68-BDC5433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4BB5-02B8-4E51-836A-C69D5EE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A42D-4D62-4006-850C-D6F7FE7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55991-CA2C-411B-A422-7D4293B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6D1-B036-4CB3-BDCA-87862A7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828A-8C6E-430D-878A-E663EB34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30CA-47C3-43AB-8CC0-DF0B624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643D-98BA-4F51-9D67-D8D2A6E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DB24-9CE2-4801-8C73-BD87504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F3170-4419-4569-9C1A-71055CC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16457-09F5-471B-91B6-894DFD19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C5CB-546A-45E6-A8D5-3A1ACBBE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A7A6-A172-4E32-AC60-443E89BE233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2A9-EA5D-43CC-9F35-BA63F259F8D8}" type="slidenum">
              <a:rPr b="1" lang="ru-RU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688-BD22-414F-A3E3-B3D8B07F78A3}" type="slidenum">
              <a:rPr b="1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EA7-1B74-42C6-B7CE-22784AC6816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2DE-50E2-4A30-95A4-E5A946C90D0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D52-B4D8-48BD-A207-9D505071DE76}" type="slidenum">
              <a:rPr b="1" lang="ru-RU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DCE-76C6-4051-8605-AFC58DFB7977}" type="slidenum">
              <a:rPr b="1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C46-D8BA-4D42-BDDE-10914A52333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28.jpeg"/><Relationship Id="rId5" Type="http://schemas.openxmlformats.org/officeDocument/2006/relationships/image" Target="../media/image42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EATHER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C:\Documents and Settings\Admin\Рабочий стол\Still Waters, Eagle River, Alaska.jpg"/>
          <p:cNvPicPr/>
          <p:nvPr/>
        </p:nvPicPr>
        <p:blipFill>
          <a:blip r:embed="rId1"/>
          <a:stretch/>
        </p:blipFill>
        <p:spPr>
          <a:xfrm>
            <a:off x="817560" y="1700280"/>
            <a:ext cx="3925800" cy="2508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Admin\Рабочий стол\Seasonal Beauty, Mount Rainier, Washington - 160.jpg"/>
          <p:cNvPicPr/>
          <p:nvPr/>
        </p:nvPicPr>
        <p:blipFill>
          <a:blip r:embed="rId2"/>
          <a:stretch/>
        </p:blipFill>
        <p:spPr>
          <a:xfrm>
            <a:off x="1403280" y="4487760"/>
            <a:ext cx="3229200" cy="225612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7" descr="June Lake, California - 1600x1200 - ID 33487.jpg"/>
          <p:cNvPicPr/>
          <p:nvPr/>
        </p:nvPicPr>
        <p:blipFill>
          <a:blip r:embed="rId3"/>
          <a:stretch/>
        </p:blipFill>
        <p:spPr>
          <a:xfrm>
            <a:off x="4427640" y="3573360"/>
            <a:ext cx="4037040" cy="2652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Documents and Settings\Admin\Рабочий стол\Tremont, Great Smoky Mountains National Park, Te.jpg"/>
          <p:cNvPicPr/>
          <p:nvPr/>
        </p:nvPicPr>
        <p:blipFill>
          <a:blip r:embed="rId4"/>
          <a:stretch/>
        </p:blipFill>
        <p:spPr>
          <a:xfrm>
            <a:off x="5076720" y="1555920"/>
            <a:ext cx="326556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Составьте предложения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6480" y="1941480"/>
            <a:ext cx="312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hen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5429160" y="366876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32" descr="Безымянный.jpg"/>
          <p:cNvPicPr/>
          <p:nvPr/>
        </p:nvPicPr>
        <p:blipFill>
          <a:blip r:embed="rId1"/>
          <a:stretch/>
        </p:blipFill>
        <p:spPr>
          <a:xfrm>
            <a:off x="3041640" y="407844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48" descr="4545.png"/>
          <p:cNvPicPr/>
          <p:nvPr/>
        </p:nvPicPr>
        <p:blipFill>
          <a:blip r:embed="rId2"/>
          <a:stretch/>
        </p:blipFill>
        <p:spPr>
          <a:xfrm>
            <a:off x="3127320" y="166356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9" descr="767865.png"/>
          <p:cNvPicPr/>
          <p:nvPr/>
        </p:nvPicPr>
        <p:blipFill>
          <a:blip r:embed="rId3"/>
          <a:stretch/>
        </p:blipFill>
        <p:spPr>
          <a:xfrm>
            <a:off x="2981160" y="5278320"/>
            <a:ext cx="1414800" cy="107964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4" descr=""/>
          <p:cNvPicPr/>
          <p:nvPr/>
        </p:nvPicPr>
        <p:blipFill>
          <a:blip r:embed="rId4"/>
          <a:stretch/>
        </p:blipFill>
        <p:spPr>
          <a:xfrm>
            <a:off x="7524720" y="5442120"/>
            <a:ext cx="1241280" cy="12301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5" descr=""/>
          <p:cNvPicPr/>
          <p:nvPr/>
        </p:nvPicPr>
        <p:blipFill>
          <a:blip r:embed="rId5"/>
          <a:stretch/>
        </p:blipFill>
        <p:spPr>
          <a:xfrm>
            <a:off x="7453440" y="1695600"/>
            <a:ext cx="1384200" cy="9205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6" descr=""/>
          <p:cNvPicPr/>
          <p:nvPr/>
        </p:nvPicPr>
        <p:blipFill>
          <a:blip r:embed="rId6"/>
          <a:stretch/>
        </p:blipFill>
        <p:spPr>
          <a:xfrm>
            <a:off x="7427880" y="2733840"/>
            <a:ext cx="1457280" cy="111888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7" descr=""/>
          <p:cNvPicPr/>
          <p:nvPr/>
        </p:nvPicPr>
        <p:blipFill>
          <a:blip r:embed="rId7"/>
          <a:stretch/>
        </p:blipFill>
        <p:spPr>
          <a:xfrm>
            <a:off x="5686560" y="5210280"/>
            <a:ext cx="976320" cy="146196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8" descr=""/>
          <p:cNvPicPr/>
          <p:nvPr/>
        </p:nvPicPr>
        <p:blipFill>
          <a:blip r:embed="rId8"/>
          <a:stretch/>
        </p:blipFill>
        <p:spPr>
          <a:xfrm>
            <a:off x="5645160" y="1682640"/>
            <a:ext cx="1225440" cy="131148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9" descr=""/>
          <p:cNvPicPr/>
          <p:nvPr/>
        </p:nvPicPr>
        <p:blipFill>
          <a:blip r:embed="rId9"/>
          <a:stretch/>
        </p:blipFill>
        <p:spPr>
          <a:xfrm>
            <a:off x="7524720" y="4111560"/>
            <a:ext cx="1360440" cy="101916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50" descr="7778.png"/>
          <p:cNvPicPr/>
          <p:nvPr/>
        </p:nvPicPr>
        <p:blipFill>
          <a:blip r:embed="rId10"/>
          <a:stretch/>
        </p:blipFill>
        <p:spPr>
          <a:xfrm>
            <a:off x="3103560" y="2724120"/>
            <a:ext cx="13352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489" name="Прямая со стрелкой 11"/>
          <p:cNvCxnSpPr/>
          <p:nvPr/>
        </p:nvCxnSpPr>
        <p:spPr>
          <a:xfrm flipV="1">
            <a:off x="2410920" y="2488320"/>
            <a:ext cx="794520" cy="11804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0" name="Прямая со стрелкой 51"/>
          <p:cNvCxnSpPr/>
          <p:nvPr/>
        </p:nvCxnSpPr>
        <p:spPr>
          <a:xfrm>
            <a:off x="2379240" y="4393800"/>
            <a:ext cx="826200" cy="133596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1" name="Прямая со стрелкой 52"/>
          <p:cNvCxnSpPr/>
          <p:nvPr/>
        </p:nvCxnSpPr>
        <p:spPr>
          <a:xfrm flipV="1">
            <a:off x="2531880" y="3168360"/>
            <a:ext cx="797400" cy="8546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2" name="Прямая со стрелкой 53"/>
          <p:cNvCxnSpPr/>
          <p:nvPr/>
        </p:nvCxnSpPr>
        <p:spPr>
          <a:xfrm>
            <a:off x="2523600" y="4066920"/>
            <a:ext cx="739080" cy="5166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3" name="Прямая со стрелкой 54"/>
          <p:cNvCxnSpPr/>
          <p:nvPr/>
        </p:nvCxnSpPr>
        <p:spPr>
          <a:xfrm>
            <a:off x="4235040" y="2217240"/>
            <a:ext cx="1235880" cy="15534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4" name="Прямая со стрелкой 55"/>
          <p:cNvCxnSpPr>
            <a:endCxn id="478" idx="1"/>
          </p:cNvCxnSpPr>
          <p:nvPr/>
        </p:nvCxnSpPr>
        <p:spPr>
          <a:xfrm>
            <a:off x="4205160" y="3250800"/>
            <a:ext cx="1131120" cy="772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5" name="Прямая со стрелкой 59"/>
          <p:cNvCxnSpPr/>
          <p:nvPr/>
        </p:nvCxnSpPr>
        <p:spPr>
          <a:xfrm flipV="1">
            <a:off x="4148280" y="4144680"/>
            <a:ext cx="1187640" cy="5911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6" name="Прямая со стрелкой 60"/>
          <p:cNvCxnSpPr/>
          <p:nvPr/>
        </p:nvCxnSpPr>
        <p:spPr>
          <a:xfrm flipV="1">
            <a:off x="4179960" y="4296600"/>
            <a:ext cx="1256400" cy="15944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When it is…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I can…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480" y="1941480"/>
            <a:ext cx="87087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fly a kite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d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ski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skate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dance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play the guita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	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	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jump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play tennis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drive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walk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   </a:t>
            </a:r>
            <a:r>
              <a:rPr b="1" lang="en-US" sz="4000" spc="-1" strike="noStrike">
                <a:solidFill>
                  <a:srgbClr val="00b050"/>
                </a:solidFill>
                <a:latin typeface="Bookman Old Style"/>
              </a:rPr>
              <a:t>watch T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5865120" y="3429000"/>
            <a:ext cx="28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ride a 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2"/>
          <p:cNvSpPr/>
          <p:nvPr/>
        </p:nvSpPr>
        <p:spPr>
          <a:xfrm>
            <a:off x="4857840" y="41432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Составьте предложения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480" y="1941480"/>
            <a:ext cx="456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hen it is</a:t>
            </a:r>
            <a:r>
              <a:rPr b="1" lang="ru-RU" sz="4000" spc="-1" strike="noStrike">
                <a:solidFill>
                  <a:srgbClr val="3c302a"/>
                </a:solidFill>
                <a:latin typeface="Bookman Old Style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3"/>
          <p:cNvSpPr/>
          <p:nvPr/>
        </p:nvSpPr>
        <p:spPr>
          <a:xfrm>
            <a:off x="5665680" y="285768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2"/>
          <p:cNvSpPr/>
          <p:nvPr/>
        </p:nvSpPr>
        <p:spPr>
          <a:xfrm>
            <a:off x="4857840" y="41432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Ann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5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WordArt 8"/>
          <p:cNvSpPr txBox="1"/>
          <p:nvPr/>
        </p:nvSpPr>
        <p:spPr>
          <a:xfrm>
            <a:off x="2195640" y="549360"/>
            <a:ext cx="48974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THANK YOU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09" name="WordArt 9"/>
          <p:cNvSpPr txBox="1"/>
          <p:nvPr/>
        </p:nvSpPr>
        <p:spPr>
          <a:xfrm>
            <a:off x="2158920" y="2565360"/>
            <a:ext cx="4971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OOD LUCK!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0" name="WordArt 10"/>
          <p:cNvSpPr txBox="1"/>
          <p:nvPr/>
        </p:nvSpPr>
        <p:spPr>
          <a:xfrm>
            <a:off x="4087800" y="3789360"/>
            <a:ext cx="1114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AND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511" name="WordArt 11"/>
          <p:cNvSpPr txBox="1"/>
          <p:nvPr/>
        </p:nvSpPr>
        <p:spPr>
          <a:xfrm>
            <a:off x="2556000" y="4662360"/>
            <a:ext cx="4448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GOOD-BUY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What is the weather like</a:t>
            </a: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8400" y="1785960"/>
            <a:ext cx="378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The weath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4462560" y="198900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4449600" y="32716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4479840" y="43448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5" descr="767865.png"/>
          <p:cNvPicPr/>
          <p:nvPr/>
        </p:nvPicPr>
        <p:blipFill>
          <a:blip r:embed="rId1"/>
          <a:stretch/>
        </p:blipFill>
        <p:spPr>
          <a:xfrm>
            <a:off x="4376880" y="1481040"/>
            <a:ext cx="1506240" cy="14511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45786.png"/>
          <p:cNvPicPr/>
          <p:nvPr/>
        </p:nvPicPr>
        <p:blipFill>
          <a:blip r:embed="rId2"/>
          <a:stretch/>
        </p:blipFill>
        <p:spPr>
          <a:xfrm>
            <a:off x="4322880" y="2773440"/>
            <a:ext cx="1560240" cy="15174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Безымянный.jpg"/>
          <p:cNvPicPr/>
          <p:nvPr/>
        </p:nvPicPr>
        <p:blipFill>
          <a:blip r:embed="rId3"/>
          <a:stretch/>
        </p:blipFill>
        <p:spPr>
          <a:xfrm>
            <a:off x="4363920" y="4048200"/>
            <a:ext cx="1487520" cy="13651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3"/>
          <p:cNvSpPr/>
          <p:nvPr/>
        </p:nvSpPr>
        <p:spPr>
          <a:xfrm>
            <a:off x="4572000" y="554976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7" descr="4545.png"/>
          <p:cNvPicPr/>
          <p:nvPr/>
        </p:nvPicPr>
        <p:blipFill>
          <a:blip r:embed="rId4"/>
          <a:stretch/>
        </p:blipFill>
        <p:spPr>
          <a:xfrm>
            <a:off x="4363920" y="5297400"/>
            <a:ext cx="150048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9207E-006 L 0.16528 -0.00162 E">
                                      <p:cBhvr>
                                        <p:cTn id="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037 L 0.16354 0.00208 E">
                                      <p:cBhvr>
                                        <p:cTn id="1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9207E-006 L 0.16528 -0.00162 E">
                                      <p:cBhvr>
                                        <p:cTn id="14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111 L 0.16354 0.00948 E">
                                      <p:cBhvr>
                                        <p:cTn id="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2128680" y="14828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786120" y="25621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2048040" y="36432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135320" y="49388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2178000" y="58752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СНЕЖНО"/>
          <p:cNvPicPr/>
          <p:nvPr/>
        </p:nvPicPr>
        <p:blipFill>
          <a:blip r:embed="rId1"/>
          <a:stretch/>
        </p:blipFill>
        <p:spPr>
          <a:xfrm>
            <a:off x="4794120" y="2346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ОБЛАЧНО"/>
          <p:cNvPicPr/>
          <p:nvPr/>
        </p:nvPicPr>
        <p:blipFill>
          <a:blip r:embed="rId2"/>
          <a:stretch/>
        </p:blipFill>
        <p:spPr>
          <a:xfrm>
            <a:off x="2994120" y="3570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ДОЖДЬ"/>
          <p:cNvPicPr/>
          <p:nvPr/>
        </p:nvPicPr>
        <p:blipFill>
          <a:blip r:embed="rId3"/>
          <a:stretch/>
        </p:blipFill>
        <p:spPr>
          <a:xfrm>
            <a:off x="5143680" y="4867200"/>
            <a:ext cx="1371600" cy="800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ВЕТРЕННО"/>
          <p:cNvPicPr/>
          <p:nvPr/>
        </p:nvPicPr>
        <p:blipFill>
          <a:blip r:embed="rId4"/>
          <a:stretch/>
        </p:blipFill>
        <p:spPr>
          <a:xfrm>
            <a:off x="3114720" y="5659560"/>
            <a:ext cx="1352520" cy="9903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4"/>
          <p:cNvSpPr/>
          <p:nvPr/>
        </p:nvSpPr>
        <p:spPr>
          <a:xfrm>
            <a:off x="4361040" y="1482840"/>
            <a:ext cx="165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n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СОЛНЦЕ"/>
          <p:cNvPicPr/>
          <p:nvPr/>
        </p:nvPicPr>
        <p:blipFill>
          <a:blip r:embed="rId5"/>
          <a:stretch/>
        </p:blipFill>
        <p:spPr>
          <a:xfrm>
            <a:off x="3137040" y="1338120"/>
            <a:ext cx="1296720" cy="9367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9"/>
          <p:cNvSpPr/>
          <p:nvPr/>
        </p:nvSpPr>
        <p:spPr>
          <a:xfrm>
            <a:off x="6305400" y="2562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now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4649760" y="3643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6583320" y="4938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2"/>
          <p:cNvSpPr/>
          <p:nvPr/>
        </p:nvSpPr>
        <p:spPr>
          <a:xfrm>
            <a:off x="4626000" y="5946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91800" y="404280"/>
            <a:ext cx="5767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26868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6840" y="549000"/>
            <a:ext cx="81532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Ответьте на вопрос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925640"/>
            <a:ext cx="16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s 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907640" y="1614240"/>
            <a:ext cx="65725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Рисунок 12" descr="Безымянный.jpg"/>
          <p:cNvPicPr/>
          <p:nvPr/>
        </p:nvPicPr>
        <p:blipFill>
          <a:blip r:embed="rId1"/>
          <a:stretch/>
        </p:blipFill>
        <p:spPr>
          <a:xfrm>
            <a:off x="3724200" y="251784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3" descr="4545.png"/>
          <p:cNvPicPr/>
          <p:nvPr/>
        </p:nvPicPr>
        <p:blipFill>
          <a:blip r:embed="rId2"/>
          <a:stretch/>
        </p:blipFill>
        <p:spPr>
          <a:xfrm>
            <a:off x="3780000" y="1670040"/>
            <a:ext cx="1365120" cy="10303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4" descr="767865.png"/>
          <p:cNvPicPr/>
          <p:nvPr/>
        </p:nvPicPr>
        <p:blipFill>
          <a:blip r:embed="rId3"/>
          <a:stretch/>
        </p:blipFill>
        <p:spPr>
          <a:xfrm>
            <a:off x="3693960" y="5016600"/>
            <a:ext cx="1414440" cy="10857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5" descr="45786.png"/>
          <p:cNvPicPr/>
          <p:nvPr/>
        </p:nvPicPr>
        <p:blipFill>
          <a:blip r:embed="rId4"/>
          <a:stretch/>
        </p:blipFill>
        <p:spPr>
          <a:xfrm>
            <a:off x="3565440" y="5877000"/>
            <a:ext cx="1408320" cy="10778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8" descr="456635.png"/>
          <p:cNvPicPr/>
          <p:nvPr/>
        </p:nvPicPr>
        <p:blipFill>
          <a:blip r:embed="rId5"/>
          <a:stretch/>
        </p:blipFill>
        <p:spPr>
          <a:xfrm>
            <a:off x="3724200" y="3359160"/>
            <a:ext cx="1341360" cy="10238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9" descr="78787.png"/>
          <p:cNvPicPr/>
          <p:nvPr/>
        </p:nvPicPr>
        <p:blipFill>
          <a:blip r:embed="rId6"/>
          <a:stretch/>
        </p:blipFill>
        <p:spPr>
          <a:xfrm>
            <a:off x="3693960" y="4127400"/>
            <a:ext cx="1390680" cy="106056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5915160" y="192564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226280" y="1925640"/>
            <a:ext cx="1917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164200" y="1779480"/>
            <a:ext cx="37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5919840" y="294156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7232760" y="2941560"/>
            <a:ext cx="1911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5164200" y="2805120"/>
            <a:ext cx="3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5964120" y="380844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7275600" y="3808440"/>
            <a:ext cx="1868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208480" y="3672000"/>
            <a:ext cx="3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008760" y="4641840"/>
            <a:ext cx="165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7321680" y="4641840"/>
            <a:ext cx="19303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5254560" y="4505400"/>
            <a:ext cx="376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6016680" y="5373720"/>
            <a:ext cx="165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7329600" y="5373720"/>
            <a:ext cx="1922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5262480" y="5237280"/>
            <a:ext cx="376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016680" y="6308640"/>
            <a:ext cx="165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329600" y="6308640"/>
            <a:ext cx="192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5262480" y="6172200"/>
            <a:ext cx="376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EATHER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Still Waters, Eagle River, Alaska.jpg"/>
          <p:cNvPicPr/>
          <p:nvPr/>
        </p:nvPicPr>
        <p:blipFill>
          <a:blip r:embed="rId1"/>
          <a:stretch/>
        </p:blipFill>
        <p:spPr>
          <a:xfrm>
            <a:off x="817560" y="1700280"/>
            <a:ext cx="3925800" cy="2508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Admin\Рабочий стол\Seasonal Beauty, Mount Rainier, Washington - 160.jpg"/>
          <p:cNvPicPr/>
          <p:nvPr/>
        </p:nvPicPr>
        <p:blipFill>
          <a:blip r:embed="rId2"/>
          <a:stretch/>
        </p:blipFill>
        <p:spPr>
          <a:xfrm>
            <a:off x="1403280" y="4487760"/>
            <a:ext cx="3229200" cy="2256120"/>
          </a:xfrm>
          <a:prstGeom prst="rect">
            <a:avLst/>
          </a:prstGeom>
          <a:ln w="0">
            <a:noFill/>
          </a:ln>
        </p:spPr>
      </p:pic>
      <p:pic>
        <p:nvPicPr>
          <p:cNvPr id="461" name="Содержимое 7" descr="June Lake, California - 1600x1200 - ID 33487.jpg"/>
          <p:cNvPicPr/>
          <p:nvPr/>
        </p:nvPicPr>
        <p:blipFill>
          <a:blip r:embed="rId3"/>
          <a:stretch/>
        </p:blipFill>
        <p:spPr>
          <a:xfrm>
            <a:off x="4427640" y="3573360"/>
            <a:ext cx="4037040" cy="2652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C:\Documents and Settings\Admin\Рабочий стол\Tremont, Great Smoky Mountains National Park, Te.jpg"/>
          <p:cNvPicPr/>
          <p:nvPr/>
        </p:nvPicPr>
        <p:blipFill>
          <a:blip r:embed="rId4"/>
          <a:stretch/>
        </p:blipFill>
        <p:spPr>
          <a:xfrm>
            <a:off x="5076720" y="1555920"/>
            <a:ext cx="326556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08000" y="1925640"/>
            <a:ext cx="16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 can…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5" name="Рисунок 4" descr=""/>
          <p:cNvPicPr/>
          <p:nvPr/>
        </p:nvPicPr>
        <p:blipFill>
          <a:blip r:embed="rId1"/>
          <a:stretch/>
        </p:blipFill>
        <p:spPr>
          <a:xfrm>
            <a:off x="6858000" y="4500720"/>
            <a:ext cx="1908000" cy="189072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6" descr=""/>
          <p:cNvPicPr/>
          <p:nvPr/>
        </p:nvPicPr>
        <p:blipFill>
          <a:blip r:embed="rId2"/>
          <a:stretch/>
        </p:blipFill>
        <p:spPr>
          <a:xfrm>
            <a:off x="7259760" y="642960"/>
            <a:ext cx="1884240" cy="144792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7" descr=""/>
          <p:cNvPicPr/>
          <p:nvPr/>
        </p:nvPicPr>
        <p:blipFill>
          <a:blip r:embed="rId3"/>
          <a:stretch/>
        </p:blipFill>
        <p:spPr>
          <a:xfrm>
            <a:off x="4929120" y="2571840"/>
            <a:ext cx="1428840" cy="213984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8" descr=""/>
          <p:cNvPicPr/>
          <p:nvPr/>
        </p:nvPicPr>
        <p:blipFill>
          <a:blip r:embed="rId4"/>
          <a:stretch/>
        </p:blipFill>
        <p:spPr>
          <a:xfrm>
            <a:off x="2928960" y="1214280"/>
            <a:ext cx="1797120" cy="19227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"/>
          <p:cNvPicPr/>
          <p:nvPr/>
        </p:nvPicPr>
        <p:blipFill>
          <a:blip r:embed="rId5"/>
          <a:stretch/>
        </p:blipFill>
        <p:spPr>
          <a:xfrm>
            <a:off x="7072200" y="2500200"/>
            <a:ext cx="2071800" cy="1552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Go-go\Desktop\открытый урок\бег.jpg"/>
          <p:cNvPicPr/>
          <p:nvPr/>
        </p:nvPicPr>
        <p:blipFill>
          <a:blip r:embed="rId6"/>
          <a:stretch/>
        </p:blipFill>
        <p:spPr>
          <a:xfrm>
            <a:off x="428760" y="1000080"/>
            <a:ext cx="2016000" cy="1500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C:\Users\Go-go\Desktop\открытый урок\ныряние.jpg"/>
          <p:cNvPicPr/>
          <p:nvPr/>
        </p:nvPicPr>
        <p:blipFill>
          <a:blip r:embed="rId7"/>
          <a:stretch/>
        </p:blipFill>
        <p:spPr>
          <a:xfrm>
            <a:off x="714240" y="2714760"/>
            <a:ext cx="1455840" cy="21873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C:\Users\Go-go\Desktop\открытый урок\пианино.jpg"/>
          <p:cNvPicPr/>
          <p:nvPr/>
        </p:nvPicPr>
        <p:blipFill>
          <a:blip r:embed="rId8"/>
          <a:stretch/>
        </p:blipFill>
        <p:spPr>
          <a:xfrm>
            <a:off x="5072040" y="107172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Go-go\Desktop\открытый урок\гитара.jpg"/>
          <p:cNvPicPr/>
          <p:nvPr/>
        </p:nvPicPr>
        <p:blipFill>
          <a:blip r:embed="rId9"/>
          <a:stretch/>
        </p:blipFill>
        <p:spPr>
          <a:xfrm>
            <a:off x="4572000" y="4929120"/>
            <a:ext cx="2039760" cy="153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C:\Users\Go-go\Desktop\открытый урок\плавание.jpg"/>
          <p:cNvPicPr/>
          <p:nvPr/>
        </p:nvPicPr>
        <p:blipFill>
          <a:blip r:embed="rId10"/>
          <a:stretch/>
        </p:blipFill>
        <p:spPr>
          <a:xfrm>
            <a:off x="785880" y="5143680"/>
            <a:ext cx="1936800" cy="1442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Users\Go-go\Desktop\открытый урок\рисование.jpg"/>
          <p:cNvPicPr/>
          <p:nvPr/>
        </p:nvPicPr>
        <p:blipFill>
          <a:blip r:embed="rId11"/>
          <a:stretch/>
        </p:blipFill>
        <p:spPr>
          <a:xfrm>
            <a:off x="2786040" y="3429000"/>
            <a:ext cx="1612800" cy="215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2:32Z</dcterms:created>
  <dc:creator>F. Lampard</dc:creator>
  <dc:description/>
  <dc:language>en-US</dc:language>
  <cp:lastModifiedBy>Go-go</cp:lastModifiedBy>
  <dcterms:modified xsi:type="dcterms:W3CDTF">2013-11-18T10:06:12Z</dcterms:modified>
  <cp:revision>105</cp:revision>
  <dc:subject/>
  <dc:title>SEASONS</dc:title>
</cp:coreProperties>
</file>