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B309-A9BC-41E6-9E5B-D786D925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6AF1-05CA-4CF0-AE1A-DD791E2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1B13-F861-4E3A-A260-9310DD04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F7FA-BC60-4C25-9FFD-53FB9C9A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F6B7-14F0-4824-B781-A503DBE4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E51-781D-4275-963C-3763148E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3690-60DF-4684-BCEF-14FA5022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AF59-96B2-457F-914A-AF13572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5B2C-FA9D-44C2-A0AC-C2F0BC00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4B59-95FF-4CFA-96A4-1BDDCF0B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A41C-A7F4-4855-980B-E4977FA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EC20-C894-4FFB-8C8F-731137D7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C3F-9D78-4DC2-B24E-4AD8418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D008-1439-4264-AA49-892F2AA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3E1-EE03-4573-A951-A7631F36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EA8-0121-4AEC-BAFF-958879D5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9B4E-6258-447E-BA20-CF7481B4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5554-6916-40F1-AD4A-E32C79C0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126C-4403-4960-B20B-C85559E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C8AB-F90D-419C-B3D2-168EFBD5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0476-D51D-43A5-BB23-64FDF1BA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910F-BDC9-4307-84AA-F927833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1B0B-C386-4CE9-B58B-EA1C8B65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4544-C9DD-42DD-ABD6-5CF101D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AA3E-277C-4F92-B76F-EC11BF9583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5D85-DC1C-4D96-B0C0-06EEAA1BE0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1T17:13:16Z</dcterms:created>
  <dc:creator>Катюша</dc:creator>
  <dc:description/>
  <dc:language>en-US</dc:language>
  <cp:lastModifiedBy>Катюша</cp:lastModifiedBy>
  <dcterms:modified xsi:type="dcterms:W3CDTF">2017-09-16T17:26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