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4800-6255-493B-ADB8-31470F6A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01B8-50C5-4A11-BA09-85B21287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CD26-0AD8-4D27-8562-C2EFDA74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C62F-562F-4B1D-95F7-FE6263FE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6052-DFF8-44B6-A234-0756B5D3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1C8B-B8ED-4093-9FCD-3C65E37B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5B88-BBAD-4BF5-9EAA-505FA07B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DCB0-5751-473D-A73C-B4397D93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A0AA-5231-4A23-96DD-0DB7FCA9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6CEB-6B1A-42E3-8549-8DC647A9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3D2A-0BC2-4335-A31C-70886F1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C2ED-8F5B-456D-81DB-E0B51556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4014-4E4B-4117-A41E-6E1AFE7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A6F3-121D-44A2-AA65-F4FB1CFA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FAD5-4E05-43A2-A0E0-FF9ED78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9448-C512-42BE-BADC-7AEF2770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D528-6ECE-47E5-A79E-86F15A29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B7D2-1035-4781-AF37-F6E2B07D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6F94-A097-4073-8ABA-A573FE46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98B7-58F9-424E-98DD-AD076116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5469-A995-41CB-BB13-7CDDCFF8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D1AD-59F5-4430-968E-5A48CD6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5132-DE9C-443D-8F8A-49AA469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057A-0CD1-4991-9034-93E4024F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EAC2-5E08-4858-AA50-0ED11C73F1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DFC0-1927-4385-9AC3-ED4C3DB401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1T17:13:16Z</dcterms:created>
  <dc:creator>Катюша</dc:creator>
  <dc:description/>
  <dc:language>en-US</dc:language>
  <cp:lastModifiedBy>Катюша</cp:lastModifiedBy>
  <dcterms:modified xsi:type="dcterms:W3CDTF">2017-09-16T17:26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