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E60-B680-4533-A6A8-F90B72DAC1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1825-51F6-4BE0-8057-6650E3CCBC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48A5-618E-48E3-9164-5E125871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DD73-B8E9-4C4E-B155-5422EF5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31D9-C87D-428F-A812-71B27A1D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340C-0D7F-4A4A-BC25-D4E54BC3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B04-EEAC-4A85-BEFD-BC43A0BE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0F3-FE66-4735-929B-332220D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4D15-D995-4C81-93D7-F18D995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D2FC-8296-4158-A235-E630191D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50EA-C108-43C9-BCAC-5FA82F4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520-4C2D-48FD-B239-128DC1D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D595-A1B5-46C2-B71C-793521B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9D04-9DC6-4151-B7AC-7D434C5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EFB-F3CC-472F-96E7-D2A9D2B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41FD-7231-46F0-AFDB-D78A69C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4A5-EF2E-4E9D-BA72-3F5BC1E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94D8-A705-476E-8CAF-2CEDD2AE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5DE-60AC-4EF5-AA33-BC065A6E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E359-77BC-456D-9E43-2E7754D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20E1-A8EB-4141-B0C7-1EFE561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0B34-234A-4C06-B001-825CE269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BD36-CFD2-4125-9791-E1F2A6A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A596-95F1-40DD-94DC-88B919D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08CD-DA1C-495A-81B0-EEBE307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FC84-163E-4393-927C-254B597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182-406F-4F8B-834A-66FD9CC3B0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9DE-1930-4380-B76B-14E4126927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ионеры-герои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Отечественной Войн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4764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2 июня 1941 – 9 мая 194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381400" cy="3447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15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15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1080" cy="5761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788000" y="0"/>
            <a:ext cx="412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427640" y="836640"/>
            <a:ext cx="43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йна застала ленинградскую пионерку Зину Портнову в деревне Зуя, куда она приехала на каникулы. С 1942 года член подпольной организации. Участвовала в дерзких операциях против врага, в диверсиях, распространяла листовки, вела развед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ая в столовой для немецких офицеров по указанию подполья отравила пищ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екабре 1943 года, возвращаясь с задания, отважная юная пионерка была схвачена и замучена фашистами, но до последней минуты оставалась стойкой, мужественной, несгибаем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ертно награждена орденом Ленина, присвоено зв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я Советского Сою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-37080" y="616572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 февраля 1926 г – 10 января 1944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24000" y="40464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нем Зины Портновой названы Музей комсомольской славы и школа в деревне Зуя. Многие пионерские дружины и отряды в школах Белоруссии носили имя юной Героини. Именем Зины Портновой названы улица в городе-герое Ленинграде, теплоход. В столице Белоруссии - городе-герое Минске установлен бюст Зины Портновой, а около посёлка Оболь - обелис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9" descr="Информация о памятнике"/>
          <p:cNvPicPr/>
          <p:nvPr/>
        </p:nvPicPr>
        <p:blipFill>
          <a:blip r:embed="rId1"/>
          <a:stretch/>
        </p:blipFill>
        <p:spPr>
          <a:xfrm>
            <a:off x="5148360" y="476280"/>
            <a:ext cx="30636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68920" cy="576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4788000" y="189000"/>
            <a:ext cx="362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356000" y="1197000"/>
            <a:ext cx="446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орусскому школьнику Марату Казею было чуть больше тринадцати лет, когда он ушел к партизанам вместе со своей сестрой. Марат стал разведчиком.  Кроме разведок, участвовал в подрывных работах и диверс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е 1944 года, возвращаясь из разведки и попав в засаду, отстреливался до последнего патрона. Когда у Марата осталась одна граната, он подпустил врагов поближе и выдернул че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ён Орденом Ленина, Орденом Отечественной войны I степени, , медалями «За отвагу» и «За боевые заслуги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ертно присвоено зв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я Советского Сою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17440" y="62373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9 октября 1929 г – 11 мая 1944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40464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е Минске поставлен памятник Марату Казе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одной деревне героя создан музей М. Казея, его именем названа средняя шко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9" descr="Фотографии на Парк имени Марата Казея - Минск"/>
          <p:cNvPicPr/>
          <p:nvPr/>
        </p:nvPicPr>
        <p:blipFill>
          <a:blip r:embed="rId1"/>
          <a:stretch/>
        </p:blipFill>
        <p:spPr>
          <a:xfrm>
            <a:off x="4211640" y="54936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9"/>
          <p:cNvSpPr/>
          <p:nvPr/>
        </p:nvSpPr>
        <p:spPr>
          <a:xfrm>
            <a:off x="0" y="3789360"/>
            <a:ext cx="43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встречу им в своё бессмертье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сделал несколько шагов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грохнул взрыв, и грозным смерч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ло озлобленных враг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%D0%97%D0%BD%D0%B0%D0%BC%D1%8F_%D0%9F%D0%BE%D0%B1%D0%B5%D0%B"/>
          <p:cNvPicPr/>
          <p:nvPr/>
        </p:nvPicPr>
        <p:blipFill>
          <a:blip r:embed="rId1"/>
          <a:stretch/>
        </p:blipFill>
        <p:spPr>
          <a:xfrm>
            <a:off x="1763640" y="765000"/>
            <a:ext cx="5184720" cy="5832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2984400" y="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БЕДА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92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92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192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192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5" descr="http://blokada.otrok.ru/txthe/mos/0/pi1l.jpg"/>
          <p:cNvPicPr/>
          <p:nvPr/>
        </p:nvPicPr>
        <p:blipFill>
          <a:blip r:embed="rId1"/>
          <a:stretch/>
        </p:blipFill>
        <p:spPr>
          <a:xfrm>
            <a:off x="1692360" y="333360"/>
            <a:ext cx="5711760" cy="50389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6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деньги, собранные московскими пионерами, у павильона №8 на ВДНХ 1 июня 1960 г., в Международный день защиты детей, были установлены четыре бронзовых бюста юных Героев Советского Союза: Лёни Голикова, Вали Котика, Зины Портновой и Марата Козе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792760" cy="45244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-91800" y="549360"/>
            <a:ext cx="93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икто не забыт, ничто не забы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9" descr="http://www.poklonnayagora.ru/ord_img/big/1369412080_27.jpg"/>
          <p:cNvPicPr/>
          <p:nvPr/>
        </p:nvPicPr>
        <p:blipFill>
          <a:blip r:embed="rId1"/>
          <a:stretch/>
        </p:blipFill>
        <p:spPr>
          <a:xfrm>
            <a:off x="324000" y="333360"/>
            <a:ext cx="255888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БЛОГ ДОКТОРА И ГРАЖДАНИНА - Довоенный быт - 4."/>
          <p:cNvPicPr/>
          <p:nvPr/>
        </p:nvPicPr>
        <p:blipFill>
          <a:blip r:embed="rId2"/>
          <a:stretch/>
        </p:blipFill>
        <p:spPr>
          <a:xfrm>
            <a:off x="6300720" y="4797360"/>
            <a:ext cx="25621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http://www.poklonnayagora.ru/ord_img/big/1369412079_67.jpg"/>
          <p:cNvPicPr/>
          <p:nvPr/>
        </p:nvPicPr>
        <p:blipFill>
          <a:blip r:embed="rId3"/>
          <a:stretch/>
        </p:blipFill>
        <p:spPr>
          <a:xfrm>
            <a:off x="324000" y="4797360"/>
            <a:ext cx="254448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2" descr="http://www.poklonnayagora.ru/ord_img/big/1369412080_02.jpg"/>
          <p:cNvPicPr/>
          <p:nvPr/>
        </p:nvPicPr>
        <p:blipFill>
          <a:blip r:embed="rId4"/>
          <a:stretch/>
        </p:blipFill>
        <p:spPr>
          <a:xfrm>
            <a:off x="6156360" y="333360"/>
            <a:ext cx="2671560" cy="1798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43280" y="277920"/>
            <a:ext cx="3457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ичто не предвещало бе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Рисунок 8" descr="Архив топа записей в блогах за 2012-12-02"/>
          <p:cNvPicPr/>
          <p:nvPr/>
        </p:nvPicPr>
        <p:blipFill>
          <a:blip r:embed="rId5"/>
          <a:stretch/>
        </p:blipFill>
        <p:spPr>
          <a:xfrm>
            <a:off x="1979640" y="1773360"/>
            <a:ext cx="4968720" cy="352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6" descr="http://istorya.ru/forum/uploads/gallery/album_17/gallery_1199_17_62997.jpg"/>
          <p:cNvPicPr/>
          <p:nvPr/>
        </p:nvPicPr>
        <p:blipFill>
          <a:blip r:embed="rId1"/>
          <a:stretch/>
        </p:blipFill>
        <p:spPr>
          <a:xfrm>
            <a:off x="2124000" y="1844640"/>
            <a:ext cx="5135760" cy="36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https://im3-tub-ru.yandex.net/i?id=8574d9033d6f60052474a640d3873f41&amp;n=21"/>
          <p:cNvPicPr/>
          <p:nvPr/>
        </p:nvPicPr>
        <p:blipFill>
          <a:blip r:embed="rId2"/>
          <a:stretch/>
        </p:blipFill>
        <p:spPr>
          <a:xfrm>
            <a:off x="250920" y="472428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https://im2-tub-ru.yandex.net/i?id=4c4e011e7e16a62f3e03b0b8eaa25aca&amp;n=21"/>
          <p:cNvPicPr/>
          <p:nvPr/>
        </p:nvPicPr>
        <p:blipFill>
          <a:blip r:embed="rId3"/>
          <a:stretch/>
        </p:blipFill>
        <p:spPr>
          <a:xfrm>
            <a:off x="250920" y="333360"/>
            <a:ext cx="2400120" cy="179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6" descr="Дети войны - Картинка 4173/23"/>
          <p:cNvPicPr/>
          <p:nvPr/>
        </p:nvPicPr>
        <p:blipFill>
          <a:blip r:embed="rId4"/>
          <a:stretch/>
        </p:blipFill>
        <p:spPr>
          <a:xfrm>
            <a:off x="6516720" y="404640"/>
            <a:ext cx="225900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Общество Тверь24"/>
          <p:cNvPicPr/>
          <p:nvPr/>
        </p:nvPicPr>
        <p:blipFill>
          <a:blip r:embed="rId5"/>
          <a:stretch/>
        </p:blipFill>
        <p:spPr>
          <a:xfrm>
            <a:off x="6084720" y="4797360"/>
            <a:ext cx="276552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43280" y="277920"/>
            <a:ext cx="3457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й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 тылу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11" descr="Дневник Просто Эдуард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250920" y="3357720"/>
            <a:ext cx="382428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Ролики из категории &quot;Войны&quot; - Оружие как оно есть"/>
          <p:cNvPicPr/>
          <p:nvPr/>
        </p:nvPicPr>
        <p:blipFill>
          <a:blip r:embed="rId2"/>
          <a:stretch/>
        </p:blipFill>
        <p:spPr>
          <a:xfrm>
            <a:off x="5003640" y="3357720"/>
            <a:ext cx="382428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Эврика"/>
          <p:cNvPicPr/>
          <p:nvPr/>
        </p:nvPicPr>
        <p:blipFill>
          <a:blip r:embed="rId3"/>
          <a:stretch/>
        </p:blipFill>
        <p:spPr>
          <a:xfrm>
            <a:off x="250920" y="404640"/>
            <a:ext cx="3417840" cy="251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1020603"/>
          <p:cNvPicPr/>
          <p:nvPr/>
        </p:nvPicPr>
        <p:blipFill>
          <a:blip r:embed="rId4"/>
          <a:stretch/>
        </p:blipFill>
        <p:spPr>
          <a:xfrm>
            <a:off x="5435640" y="404640"/>
            <a:ext cx="3416400" cy="251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4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9"/>
          <p:cNvSpPr/>
          <p:nvPr/>
        </p:nvSpPr>
        <p:spPr>
          <a:xfrm>
            <a:off x="468360" y="6048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 фронт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9" descr="Б2"/>
          <p:cNvPicPr/>
          <p:nvPr/>
        </p:nvPicPr>
        <p:blipFill>
          <a:blip r:embed="rId1"/>
          <a:stretch/>
        </p:blipFill>
        <p:spPr>
          <a:xfrm>
            <a:off x="2556000" y="126828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Общественная организация &quot;Дети войны&quot;"/>
          <p:cNvPicPr/>
          <p:nvPr/>
        </p:nvPicPr>
        <p:blipFill>
          <a:blip r:embed="rId2"/>
          <a:stretch/>
        </p:blipFill>
        <p:spPr>
          <a:xfrm>
            <a:off x="468360" y="69228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Партизанские дети. Продолжение поста &quot;Дети войны&quot;."/>
          <p:cNvPicPr/>
          <p:nvPr/>
        </p:nvPicPr>
        <p:blipFill>
          <a:blip r:embed="rId3"/>
          <a:stretch/>
        </p:blipFill>
        <p:spPr>
          <a:xfrm>
            <a:off x="684360" y="2708280"/>
            <a:ext cx="1226880" cy="18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Дети войны10238 - Славянская культура"/>
          <p:cNvPicPr/>
          <p:nvPr/>
        </p:nvPicPr>
        <p:blipFill>
          <a:blip r:embed="rId4"/>
          <a:stretch/>
        </p:blipFill>
        <p:spPr>
          <a:xfrm>
            <a:off x="7236000" y="62064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Дети войны - Картинка 4129/2"/>
          <p:cNvPicPr/>
          <p:nvPr/>
        </p:nvPicPr>
        <p:blipFill>
          <a:blip r:embed="rId5"/>
          <a:stretch/>
        </p:blipFill>
        <p:spPr>
          <a:xfrm>
            <a:off x="7236000" y="2637000"/>
            <a:ext cx="1444320" cy="180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https://im3-tub-ru.yandex.net/i?id=303e2e1f166cc3025ed249b98a9e7f24&amp;n=21"/>
          <p:cNvPicPr/>
          <p:nvPr/>
        </p:nvPicPr>
        <p:blipFill>
          <a:blip r:embed="rId6"/>
          <a:stretch/>
        </p:blipFill>
        <p:spPr>
          <a:xfrm>
            <a:off x="53964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Дети войны (18 фото)"/>
          <p:cNvPicPr/>
          <p:nvPr/>
        </p:nvPicPr>
        <p:blipFill>
          <a:blip r:embed="rId7"/>
          <a:stretch/>
        </p:blipFill>
        <p:spPr>
          <a:xfrm>
            <a:off x="7236000" y="472428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24000" y="26028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00720" y="404640"/>
            <a:ext cx="446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лся в д.Лукино Новгородской обла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ужил в партизанском отряде. Участвовал в 27 боевых операц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го им уничтожено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8 фашист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железнодорожных и 12 шоссейных мосто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продовольственно-фуражных склад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10 автомашин с боеприпас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провождал обоз с продовольствием (250 подвод) в блокадный Ленингра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4 января 1943 года в неравном бою в селе Острая Лука Псковской области Леонид Голиков погиб смертью храбры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награждён орденом Ленина, орденом Боевого Красного Знамени и медалью «За отвагу»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ертно присвоено зв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я Советского Сою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06400" y="595008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26 г – 24 января 1943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Рисунок 15" descr="C:\Documents and Settings\iddqd\My documents\Мои рисунки\pioneersa.jpg"/>
          <p:cNvPicPr/>
          <p:nvPr/>
        </p:nvPicPr>
        <p:blipFill>
          <a:blip r:embed="rId1"/>
          <a:stretch/>
        </p:blipFill>
        <p:spPr>
          <a:xfrm>
            <a:off x="250920" y="1268280"/>
            <a:ext cx="4103640" cy="455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2" descr="Международный реестр мемориалов, кладбищ, воинских захоронений, братских могил: Мемориал - Памятник Лёне Голикову в городе Велик"/>
          <p:cNvPicPr/>
          <p:nvPr/>
        </p:nvPicPr>
        <p:blipFill>
          <a:blip r:embed="rId1"/>
          <a:stretch/>
        </p:blipFill>
        <p:spPr>
          <a:xfrm>
            <a:off x="4500720" y="692280"/>
            <a:ext cx="439704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250920" y="692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городе Новгороде установлен памятник юному гер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24000" y="486900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ановлением Совета Министров РСФСР одному из кораблей Советского флота присвоино имя Лёни Голико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4788000" y="333360"/>
            <a:ext cx="39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767120" y="15001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200560" y="1284120"/>
            <a:ext cx="37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643280" y="1197000"/>
            <a:ext cx="424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лентин Котик родился в маленьком украинском селе Хмелев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имал активное участие в партизанском движении. Сначала был связным, участвовал в подрывных работах. Им было уничтожено шесть эшелонов с боеприпасами, снаряжением и живой силой против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ля участвовал в боях, был дважды ранен, погиб в бою за город Изяслав в Хмельницкой обл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 награждён Оденом Ленина,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деном Отечественной войны I степени, Медалью Партизану Отечественной войны II степени Посмертно присвоено зв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я Советского Союз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-28080" y="609300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 февраля 1930 г – 17 февраля 1944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Рисунок 1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902040" cy="547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Котик Валентин Александрович"/>
          <p:cNvPicPr/>
          <p:nvPr/>
        </p:nvPicPr>
        <p:blipFill>
          <a:blip r:embed="rId1"/>
          <a:stretch/>
        </p:blipFill>
        <p:spPr>
          <a:xfrm>
            <a:off x="5292720" y="333360"/>
            <a:ext cx="3375000" cy="5399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250920" y="333360"/>
            <a:ext cx="482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нем Вали Котика были названы улицы во многих городах, школы, теплохо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советский поэт Михаил Светлов посвятил юному партизану стихи: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Мы вспоминаем о боях недавних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них совершен был подвиг не один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ошел в семью героев наших славных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ажный мальчик – Котик Валентин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н, как при жизни, утверждает смело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Бессмертна молодость, 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ссмертно наше дел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3:08:00Z</dcterms:created>
  <dc:creator>UserXP</dc:creator>
  <dc:description/>
  <dc:language>en-US</dc:language>
  <cp:lastModifiedBy>Пользователь</cp:lastModifiedBy>
  <dcterms:modified xsi:type="dcterms:W3CDTF">2015-04-22T21:59:27Z</dcterms:modified>
  <cp:revision>48</cp:revision>
  <dc:subject/>
  <dc:title>ВЕЛИКАЯ ОТЕЧЕСТВЕННАЯ ВОЙНА</dc:title>
</cp:coreProperties>
</file>