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6D5-C30D-4537-98CC-1256B67F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2D2-01D0-4D7D-A957-F701F95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5AD-492D-4C56-8239-D09634EA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4A6-D28A-4249-91EB-0E12AAA2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DA9-455D-4D1C-8093-5967854A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CD4-45C9-40B3-BEDD-7CB8FD10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521-7F95-412D-AD09-DF4421D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7E4-E790-4A42-BCC3-A06954A1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FDE-0C83-4A2E-B906-CA18186D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358-640C-4F58-84A2-7A4C4361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6A3-493E-4DCD-82FA-A4850F8E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B52-B8C7-463E-A3FD-3C62B1E7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9FB-99BC-4783-B42D-A1CFA8D57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7576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42" name="Содержимое 6" descr="пушкин.jpg"/>
          <p:cNvPicPr/>
          <p:nvPr/>
        </p:nvPicPr>
        <p:blipFill>
          <a:blip r:embed="rId1"/>
          <a:stretch/>
        </p:blipFill>
        <p:spPr>
          <a:xfrm>
            <a:off x="6804000" y="571680"/>
            <a:ext cx="1717560" cy="2554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60280"/>
            <a:ext cx="36831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лександр Сергеевич Пушки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(1799-1837гг.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830 год: еда двор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Итальянские спагет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7" descr="kyhn2.jpg"/>
          <p:cNvPicPr/>
          <p:nvPr/>
        </p:nvPicPr>
        <p:blipFill>
          <a:blip r:embed="rId1"/>
          <a:stretch/>
        </p:blipFill>
        <p:spPr>
          <a:xfrm>
            <a:off x="468360" y="2421000"/>
            <a:ext cx="2519280" cy="1995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Швейцарский фонд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6" descr="фондю.jpg"/>
          <p:cNvPicPr/>
          <p:nvPr/>
        </p:nvPicPr>
        <p:blipFill>
          <a:blip r:embed="rId2"/>
          <a:stretch/>
        </p:blipFill>
        <p:spPr>
          <a:xfrm>
            <a:off x="4788000" y="2492280"/>
            <a:ext cx="23763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ушанья куп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Стерляжья уха на шампанс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Дичь под соусом бе-шам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6" descr="20110926_Snayders_Cook.jpg"/>
          <p:cNvPicPr/>
          <p:nvPr/>
        </p:nvPicPr>
        <p:blipFill>
          <a:blip r:embed="rId1"/>
          <a:stretch/>
        </p:blipFill>
        <p:spPr>
          <a:xfrm>
            <a:off x="4716360" y="2205000"/>
            <a:ext cx="2592360" cy="2544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8" descr="стерлядь.jpg"/>
          <p:cNvPicPr/>
          <p:nvPr/>
        </p:nvPicPr>
        <p:blipFill>
          <a:blip r:embed="rId2"/>
          <a:stretch/>
        </p:blipFill>
        <p:spPr>
          <a:xfrm>
            <a:off x="539640" y="2349360"/>
            <a:ext cx="2448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Буржуа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чень по - строганов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6" descr="печень.jpg"/>
          <p:cNvPicPr/>
          <p:nvPr/>
        </p:nvPicPr>
        <p:blipFill>
          <a:blip r:embed="rId1"/>
          <a:stretch/>
        </p:blipFill>
        <p:spPr>
          <a:xfrm>
            <a:off x="500040" y="2286000"/>
            <a:ext cx="2776680" cy="2706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ольник из потрош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8" descr="41-11403439-1799.jpg"/>
          <p:cNvPicPr/>
          <p:nvPr/>
        </p:nvPicPr>
        <p:blipFill>
          <a:blip r:embed="rId2"/>
          <a:stretch/>
        </p:blipFill>
        <p:spPr>
          <a:xfrm>
            <a:off x="4572000" y="2349360"/>
            <a:ext cx="26640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User\Desktop\вика\греча.jpg"/>
          <p:cNvPicPr/>
          <p:nvPr/>
        </p:nvPicPr>
        <p:blipFill>
          <a:blip r:embed="rId1"/>
          <a:stretch/>
        </p:blipFill>
        <p:spPr>
          <a:xfrm rot="20848800">
            <a:off x="466560" y="785520"/>
            <a:ext cx="3319560" cy="181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User\Desktop\вика\пшено.jpg"/>
          <p:cNvPicPr/>
          <p:nvPr/>
        </p:nvPicPr>
        <p:blipFill>
          <a:blip r:embed="rId2"/>
          <a:stretch/>
        </p:blipFill>
        <p:spPr>
          <a:xfrm rot="1118400">
            <a:off x="4952520" y="785880"/>
            <a:ext cx="3048120" cy="192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User\Desktop\вика\i.jpg"/>
          <p:cNvPicPr/>
          <p:nvPr/>
        </p:nvPicPr>
        <p:blipFill>
          <a:blip r:embed="rId3"/>
          <a:stretch/>
        </p:blipFill>
        <p:spPr>
          <a:xfrm rot="1694400">
            <a:off x="936360" y="3632040"/>
            <a:ext cx="3152520" cy="1895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User\Desktop\i.jpg"/>
          <p:cNvPicPr/>
          <p:nvPr/>
        </p:nvPicPr>
        <p:blipFill>
          <a:blip r:embed="rId4"/>
          <a:stretch/>
        </p:blipFill>
        <p:spPr>
          <a:xfrm rot="20827200">
            <a:off x="5140440" y="3696840"/>
            <a:ext cx="2595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Calibri"/>
              </a:rPr>
              <a:t>Толоконная каша (овсяна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овсянка.jpg"/>
          <p:cNvPicPr/>
          <p:nvPr/>
        </p:nvPicPr>
        <p:blipFill>
          <a:blip r:embed="rId1"/>
          <a:stretch/>
        </p:blipFill>
        <p:spPr>
          <a:xfrm>
            <a:off x="2484360" y="1628640"/>
            <a:ext cx="34322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Чёрная каша (гречнева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гречка.jpg"/>
          <p:cNvPicPr/>
          <p:nvPr/>
        </p:nvPicPr>
        <p:blipFill>
          <a:blip r:embed="rId1"/>
          <a:stretch/>
        </p:blipFill>
        <p:spPr>
          <a:xfrm>
            <a:off x="1879560" y="1600200"/>
            <a:ext cx="538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Пшённая ка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пшёнка.jpg"/>
          <p:cNvPicPr/>
          <p:nvPr/>
        </p:nvPicPr>
        <p:blipFill>
          <a:blip r:embed="rId1"/>
          <a:stretch/>
        </p:blipFill>
        <p:spPr>
          <a:xfrm>
            <a:off x="2700360" y="184464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шеничная ка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i (2).jpg"/>
          <p:cNvPicPr/>
          <p:nvPr/>
        </p:nvPicPr>
        <p:blipFill>
          <a:blip r:embed="rId1"/>
          <a:stretch/>
        </p:blipFill>
        <p:spPr>
          <a:xfrm>
            <a:off x="971640" y="1844640"/>
            <a:ext cx="2305080" cy="235764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5" descr="75932_29755-200x150x.jpg"/>
          <p:cNvPicPr/>
          <p:nvPr/>
        </p:nvPicPr>
        <p:blipFill>
          <a:blip r:embed="rId2"/>
          <a:stretch/>
        </p:blipFill>
        <p:spPr>
          <a:xfrm>
            <a:off x="5219640" y="2060640"/>
            <a:ext cx="2376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49966fb3ac77766c0f2222ad612c97cd.jpg"/>
          <p:cNvPicPr/>
          <p:nvPr/>
        </p:nvPicPr>
        <p:blipFill>
          <a:blip r:embed="rId1"/>
          <a:stretch/>
        </p:blipFill>
        <p:spPr>
          <a:xfrm>
            <a:off x="1332000" y="1628640"/>
            <a:ext cx="4608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цепт приготовления каши из пол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начала зерна надо 1 час замачивать в воде, чтобы очистить их неровную оболочку от пыли и дать им размякнуть. После того, как крупа разбухла, ее можно варить. На 1 часть зерна-2 части воды, как в любой другой каши. Варят полбу 15 минут, добавляют соль, масло и оставляют под крышкой томиться еще на 20 минут. Каша готов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следовательская работа по произведению А.С.Пушкина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«СКАЗКА О ПОПЕ И РАБОТНИКЕ ЕГО БАЛДЕ»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усское блюдо «Полба»: правда или выдумка великого поэта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29120" y="4142880"/>
            <a:ext cx="392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нарина Н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следовательская групп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мирнов Сергей (9 «А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ишина Валентина (9 «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уховской Владимир (9 «А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9" descr="497134.jpg"/>
          <p:cNvPicPr/>
          <p:nvPr/>
        </p:nvPicPr>
        <p:blipFill>
          <a:blip r:embed="rId1"/>
          <a:stretch/>
        </p:blipFill>
        <p:spPr>
          <a:xfrm>
            <a:off x="1116000" y="1628640"/>
            <a:ext cx="266400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161_pole14.jpg"/>
          <p:cNvPicPr/>
          <p:nvPr/>
        </p:nvPicPr>
        <p:blipFill>
          <a:blip r:embed="rId2"/>
          <a:stretch/>
        </p:blipFill>
        <p:spPr>
          <a:xfrm>
            <a:off x="5508720" y="2060640"/>
            <a:ext cx="2232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Мы доказали, что полба в сказке не выдумка. И мы узнали, почему она пропала из нашего рациона!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briola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Информация о раб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Цель и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Жизнь и быт людей в начале </a:t>
            </a:r>
            <a:r>
              <a:rPr b="1" lang="en-US" sz="2800" spc="-1" strike="noStrike">
                <a:solidFill>
                  <a:srgbClr val="000000"/>
                </a:solidFill>
                <a:latin typeface="Gabriola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 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Традиционные русские блюда начала </a:t>
            </a:r>
            <a:r>
              <a:rPr b="1" lang="en-US" sz="2800" spc="-1" strike="noStrike">
                <a:solidFill>
                  <a:srgbClr val="000000"/>
                </a:solidFill>
                <a:latin typeface="Gabriola"/>
              </a:rPr>
              <a:t>XIX </a:t>
            </a: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Та самая полб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Почему полба исчезла из рацио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Практическая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Рекоменд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Заклю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Ресур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040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уальность исследова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ается в том, что творчество А.С. Пушкина достаточно глубоко и полно исследовано как лингвистами, так и литературоведами, но при этом  некоторые слова и выражения   пушкинских произведений так и остаются  не  понятны  школьникам  во всей их полнот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052640"/>
            <a:ext cx="4041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потеза: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ринное русское блюдо «полба»  – выдумка или прав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bbb59"/>
                </a:solidFill>
                <a:latin typeface="Calibri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зучение научной литературы и интернет – ресурс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нкетный опрос обучающихся школ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сследование исторических свед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89000"/>
            <a:ext cx="4040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Calibri"/>
              </a:rPr>
              <a:t>Цель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ать общее представление о старинном русском народном блюде -  «полба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333000"/>
            <a:ext cx="404172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Calibri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413000"/>
            <a:ext cx="4041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- познакомить с жизнью и бытом русского народа в начал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снить причины исчезновения русского блюда «полба» из раци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вести исследование традиционных народных куш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знакомить обучающихся с историей русской народной кух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Calibri"/>
              </a:rPr>
              <a:t>Тип проекта: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руппово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0402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565000"/>
            <a:ext cx="40402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инное русское блюдо «полба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413000"/>
            <a:ext cx="4041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мет и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924280"/>
            <a:ext cx="40417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висимость изменения национальных блюд от внешних факторов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e7f3ce1207ce4ea0cd0d9a4a2b3a151e.jpg"/>
          <p:cNvPicPr/>
          <p:nvPr/>
        </p:nvPicPr>
        <p:blipFill>
          <a:blip r:embed="rId1"/>
          <a:stretch/>
        </p:blipFill>
        <p:spPr>
          <a:xfrm>
            <a:off x="2693880" y="1981080"/>
            <a:ext cx="318312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ы опроса обучающихся 5-9 кла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16:33:39Z</dcterms:created>
  <dc:creator>Roman</dc:creator>
  <dc:description/>
  <dc:language>en-US</dc:language>
  <cp:lastModifiedBy>User</cp:lastModifiedBy>
  <dcterms:modified xsi:type="dcterms:W3CDTF">2017-09-16T07:13:38Z</dcterms:modified>
  <cp:revision>27</cp:revision>
  <dc:subject/>
  <dc:title>Слайд 1</dc:title>
</cp:coreProperties>
</file>