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228-9669-4FA6-8220-852A553E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A7F-F895-4D90-90B8-41F5F873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11C-C421-4481-96DC-858B709D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BAC-FB27-43E6-AFAF-FD02890C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5D6-6C9A-488C-BF78-E3128A3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CAA-E548-461D-A937-0D534B0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82C-22C5-4372-99E2-217AFB9E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125-4E1C-47A5-A107-8E239EE7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AC2-55B0-4C90-96B2-96143D8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5E1-DF1F-4F74-A573-4057522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DA1-49E4-449C-995F-305BFE3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AD3-4D46-42E5-9B1B-88C0241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EC83-D085-49D8-81E0-3253F8E69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7576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42" name="Содержимое 6" descr="пушкин.jpg"/>
          <p:cNvPicPr/>
          <p:nvPr/>
        </p:nvPicPr>
        <p:blipFill>
          <a:blip r:embed="rId1"/>
          <a:stretch/>
        </p:blipFill>
        <p:spPr>
          <a:xfrm>
            <a:off x="6804000" y="571680"/>
            <a:ext cx="1717560" cy="255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60280"/>
            <a:ext cx="3683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лександр Сергеевич Пушк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(1799-1837гг.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830 год: еда двор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Итальянские спагет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7" descr="kyhn2.jpg"/>
          <p:cNvPicPr/>
          <p:nvPr/>
        </p:nvPicPr>
        <p:blipFill>
          <a:blip r:embed="rId1"/>
          <a:stretch/>
        </p:blipFill>
        <p:spPr>
          <a:xfrm>
            <a:off x="468360" y="2421000"/>
            <a:ext cx="2519280" cy="1995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Швейцарский фонд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фондю.jpg"/>
          <p:cNvPicPr/>
          <p:nvPr/>
        </p:nvPicPr>
        <p:blipFill>
          <a:blip r:embed="rId2"/>
          <a:stretch/>
        </p:blipFill>
        <p:spPr>
          <a:xfrm>
            <a:off x="4788000" y="2492280"/>
            <a:ext cx="23763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ушанья куп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Стерляжья уха на шампанс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Дичь под соусом бе-шам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20110926_Snayders_Cook.jpg"/>
          <p:cNvPicPr/>
          <p:nvPr/>
        </p:nvPicPr>
        <p:blipFill>
          <a:blip r:embed="rId1"/>
          <a:stretch/>
        </p:blipFill>
        <p:spPr>
          <a:xfrm>
            <a:off x="4716360" y="2205000"/>
            <a:ext cx="2592360" cy="2544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8" descr="стерлядь.jpg"/>
          <p:cNvPicPr/>
          <p:nvPr/>
        </p:nvPicPr>
        <p:blipFill>
          <a:blip r:embed="rId2"/>
          <a:stretch/>
        </p:blipFill>
        <p:spPr>
          <a:xfrm>
            <a:off x="539640" y="2349360"/>
            <a:ext cx="2448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Буржуа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чень по - строганов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6" descr="печень.jpg"/>
          <p:cNvPicPr/>
          <p:nvPr/>
        </p:nvPicPr>
        <p:blipFill>
          <a:blip r:embed="rId1"/>
          <a:stretch/>
        </p:blipFill>
        <p:spPr>
          <a:xfrm>
            <a:off x="500040" y="2286000"/>
            <a:ext cx="2776680" cy="2706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ольник из потрош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8" descr="41-11403439-1799.jpg"/>
          <p:cNvPicPr/>
          <p:nvPr/>
        </p:nvPicPr>
        <p:blipFill>
          <a:blip r:embed="rId2"/>
          <a:stretch/>
        </p:blipFill>
        <p:spPr>
          <a:xfrm>
            <a:off x="4572000" y="2349360"/>
            <a:ext cx="26640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User\Desktop\вика\греча.jpg"/>
          <p:cNvPicPr/>
          <p:nvPr/>
        </p:nvPicPr>
        <p:blipFill>
          <a:blip r:embed="rId1"/>
          <a:stretch/>
        </p:blipFill>
        <p:spPr>
          <a:xfrm rot="20848800">
            <a:off x="466560" y="785520"/>
            <a:ext cx="3319560" cy="181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User\Desktop\вика\пшено.jpg"/>
          <p:cNvPicPr/>
          <p:nvPr/>
        </p:nvPicPr>
        <p:blipFill>
          <a:blip r:embed="rId2"/>
          <a:stretch/>
        </p:blipFill>
        <p:spPr>
          <a:xfrm rot="1118400">
            <a:off x="4952520" y="785880"/>
            <a:ext cx="3048120" cy="19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User\Desktop\вика\i.jpg"/>
          <p:cNvPicPr/>
          <p:nvPr/>
        </p:nvPicPr>
        <p:blipFill>
          <a:blip r:embed="rId3"/>
          <a:stretch/>
        </p:blipFill>
        <p:spPr>
          <a:xfrm rot="1694400">
            <a:off x="936360" y="3632040"/>
            <a:ext cx="3152520" cy="1895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User\Desktop\i.jpg"/>
          <p:cNvPicPr/>
          <p:nvPr/>
        </p:nvPicPr>
        <p:blipFill>
          <a:blip r:embed="rId4"/>
          <a:stretch/>
        </p:blipFill>
        <p:spPr>
          <a:xfrm rot="20827200">
            <a:off x="5140440" y="3696840"/>
            <a:ext cx="2595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Calibri"/>
              </a:rPr>
              <a:t>Толоконная каша (овсяна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овсянка.jpg"/>
          <p:cNvPicPr/>
          <p:nvPr/>
        </p:nvPicPr>
        <p:blipFill>
          <a:blip r:embed="rId1"/>
          <a:stretch/>
        </p:blipFill>
        <p:spPr>
          <a:xfrm>
            <a:off x="2484360" y="1628640"/>
            <a:ext cx="34322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Чёрная каша (гречнева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гречка.jpg"/>
          <p:cNvPicPr/>
          <p:nvPr/>
        </p:nvPicPr>
        <p:blipFill>
          <a:blip r:embed="rId1"/>
          <a:stretch/>
        </p:blipFill>
        <p:spPr>
          <a:xfrm>
            <a:off x="1879560" y="1600200"/>
            <a:ext cx="538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Пшённая к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пшёнка.jpg"/>
          <p:cNvPicPr/>
          <p:nvPr/>
        </p:nvPicPr>
        <p:blipFill>
          <a:blip r:embed="rId1"/>
          <a:stretch/>
        </p:blipFill>
        <p:spPr>
          <a:xfrm>
            <a:off x="2700360" y="184464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шеничная к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i (2).jpg"/>
          <p:cNvPicPr/>
          <p:nvPr/>
        </p:nvPicPr>
        <p:blipFill>
          <a:blip r:embed="rId1"/>
          <a:stretch/>
        </p:blipFill>
        <p:spPr>
          <a:xfrm>
            <a:off x="971640" y="1844640"/>
            <a:ext cx="2305080" cy="23576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5" descr="75932_29755-200x150x.jpg"/>
          <p:cNvPicPr/>
          <p:nvPr/>
        </p:nvPicPr>
        <p:blipFill>
          <a:blip r:embed="rId2"/>
          <a:stretch/>
        </p:blipFill>
        <p:spPr>
          <a:xfrm>
            <a:off x="5219640" y="2060640"/>
            <a:ext cx="2376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49966fb3ac77766c0f2222ad612c97cd.jpg"/>
          <p:cNvPicPr/>
          <p:nvPr/>
        </p:nvPicPr>
        <p:blipFill>
          <a:blip r:embed="rId1"/>
          <a:stretch/>
        </p:blipFill>
        <p:spPr>
          <a:xfrm>
            <a:off x="1332000" y="1628640"/>
            <a:ext cx="4608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цепт приготовления каши из пол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начала зерна надо 1 час замачивать в воде, чтобы очистить их неровную оболочку от пыли и дать им размякнуть. После того, как крупа разбухла, ее можно варить. На 1 часть зерна-2 части воды, как в любой другой каши. Варят полбу 15 минут, добавляют соль, масло и оставляют под крышкой томиться еще на 20 минут. Каша готов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следовательская работа по произведению А.С.Пушкина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«СКАЗКА О ПОПЕ И РАБОТНИКЕ ЕГО БАЛДЕ»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сское блюдо «Полба»: правда или выдумка великого поэта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29120" y="4142880"/>
            <a:ext cx="392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арина Н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тельская груп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ирнов Сергей (9 «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шина Валентина (9 «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уховской Владимир (9 «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9" descr="497134.jpg"/>
          <p:cNvPicPr/>
          <p:nvPr/>
        </p:nvPicPr>
        <p:blipFill>
          <a:blip r:embed="rId1"/>
          <a:stretch/>
        </p:blipFill>
        <p:spPr>
          <a:xfrm>
            <a:off x="1116000" y="1628640"/>
            <a:ext cx="266400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161_pole14.jpg"/>
          <p:cNvPicPr/>
          <p:nvPr/>
        </p:nvPicPr>
        <p:blipFill>
          <a:blip r:embed="rId2"/>
          <a:stretch/>
        </p:blipFill>
        <p:spPr>
          <a:xfrm>
            <a:off x="5508720" y="2060640"/>
            <a:ext cx="2232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Мы доказали, что полба в сказке не выдумка. И мы узнали, почему она пропала из нашего рациона!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briola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Информация о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Цель и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Жизнь и быт людей в начале </a:t>
            </a:r>
            <a:r>
              <a:rPr b="1" lang="en-US" sz="2800" spc="-1" strike="noStrike">
                <a:solidFill>
                  <a:srgbClr val="000000"/>
                </a:solidFill>
                <a:latin typeface="Gabriola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Традиционные русские блюда начала </a:t>
            </a:r>
            <a:r>
              <a:rPr b="1" lang="en-US" sz="2800" spc="-1" strike="noStrike">
                <a:solidFill>
                  <a:srgbClr val="000000"/>
                </a:solidFill>
                <a:latin typeface="Gabriola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Та самая пол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Почему полба исчезла из рацио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Практическая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Рекоменд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040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уальность исследова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ается в том, что творчество А.С. Пушкина достаточно глубоко и полно исследовано как лингвистами, так и литературоведами, но при этом  некоторые слова и выражения   пушкинских произведений так и остаются  не  понятны  школьникам  во всей их полнот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052640"/>
            <a:ext cx="4041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отеза: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инное русское блюдо «полба»  – выдумка или прав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bbb59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зучение научной литературы и интернет – ресурс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нкетный опрос обучающихся школ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сследование исторических свед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8900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Цель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ать общее представление о старинном русском народном блюде -  «полб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333000"/>
            <a:ext cx="404172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413000"/>
            <a:ext cx="4041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 познакомить с жизнью и бытом русского народа в начал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снить причины исчезновения русского блюда «полба» из раци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вести исследование традиционных народных куш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знакомить обучающихся с историей русской народной кух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Тип проекта: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руппово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0402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565000"/>
            <a:ext cx="40402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ое русское блюдо «полба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413000"/>
            <a:ext cx="4041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мет и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924280"/>
            <a:ext cx="40417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висимость изменения национальных блюд от внешних факторов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e7f3ce1207ce4ea0cd0d9a4a2b3a151e.jpg"/>
          <p:cNvPicPr/>
          <p:nvPr/>
        </p:nvPicPr>
        <p:blipFill>
          <a:blip r:embed="rId1"/>
          <a:stretch/>
        </p:blipFill>
        <p:spPr>
          <a:xfrm>
            <a:off x="2693880" y="1981080"/>
            <a:ext cx="31831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ы опроса обучающихся 5-9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6:33:39Z</dcterms:created>
  <dc:creator>Roman</dc:creator>
  <dc:description/>
  <dc:language>en-US</dc:language>
  <cp:lastModifiedBy>User</cp:lastModifiedBy>
  <dcterms:modified xsi:type="dcterms:W3CDTF">2017-09-16T07:13:38Z</dcterms:modified>
  <cp:revision>27</cp:revision>
  <dc:subject/>
  <dc:title>Слайд 1</dc:title>
</cp:coreProperties>
</file>