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D11-BFA3-4318-A1D0-DE0265BE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D67-CF4D-40D9-8B4E-0C8704F3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5CC-0037-4D6E-AD52-C66E1313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7A0-76D8-429A-A068-0CAB5FDC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1FD-E27B-4385-8594-15AB56C2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7BE-4376-4F6A-9835-055B1BE6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5C6-772C-4A4F-88CA-13CC138D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F45-02C7-41B6-A27F-96D1E0AB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5C7-5E74-4BA1-91F5-09EC1FA0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ED3-67B7-4B05-90D7-657CC4E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D8F-60A8-46F0-91CC-B718798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700-30CC-498E-963B-62F6ACF0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8A06-D4E1-4C0F-AB0C-D56D9FCC1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depositphotos_1289770-stock-illustration-blue-teddy-bear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780000" y="5084640"/>
            <a:ext cx="1800000" cy="15512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5292720" y="1499760"/>
            <a:ext cx="3637080" cy="50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ladimir Script"/>
                <a:ea typeface="Arial"/>
              </a:rPr>
              <a:t>Спасибо за улыбки, спасибо за тепло,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Vladimir Script"/>
                <a:ea typeface="Arial"/>
              </a:rPr>
              <a:t>Воспитывать ребенка ведь очень тяжело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Vladimir Script"/>
                <a:ea typeface="Arial"/>
              </a:rPr>
              <a:t>Пусть каждый воспитатель, за труд свой и любовь,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Vladimir Script"/>
                <a:ea typeface="Arial"/>
              </a:rPr>
              <a:t>Получит в этот праздник большой букет цветов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Vladimir Script"/>
                <a:ea typeface="Arial"/>
              </a:rPr>
              <a:t>И детские ручонки обнимут вас за то,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Vladimir Script"/>
                <a:ea typeface="Arial"/>
              </a:rPr>
              <a:t>Что слезки вытирали, когда им тяжело!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Vladimir Script"/>
                <a:ea typeface="Arial"/>
              </a:rPr>
              <a:t>Сердечно поздравляем вас с праздником все мы,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Vladimir Script"/>
                <a:ea typeface="Arial"/>
              </a:rPr>
              <a:t>Желаем вам здоровья, успеха и любви!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студентка 143 группы Сюсюкина  Елена Дмитриевна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987640" y="549360"/>
            <a:ext cx="3384720" cy="457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250920" y="549360"/>
            <a:ext cx="5257800" cy="99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Impact"/>
              </a:rPr>
              <a:t>С Днём Воспитателя!</a:t>
            </a:r>
            <a:endParaRPr b="0" i="1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14" descr="alenkiy_cvet"/>
          <p:cNvPicPr/>
          <p:nvPr/>
        </p:nvPicPr>
        <p:blipFill>
          <a:blip r:embed="rId2"/>
          <a:stretch/>
        </p:blipFill>
        <p:spPr>
          <a:xfrm>
            <a:off x="179280" y="5322960"/>
            <a:ext cx="2448000" cy="153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Picture 18" descr="den-vospitatelya-i-vseh-doshkolnyh-rabotnikov"/>
          <p:cNvPicPr/>
          <p:nvPr/>
        </p:nvPicPr>
        <p:blipFill>
          <a:blip r:embed="rId3"/>
          <a:stretch/>
        </p:blipFill>
        <p:spPr>
          <a:xfrm rot="21336000">
            <a:off x="7165440" y="10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587566683"/>
          <p:cNvPicPr/>
          <p:nvPr/>
        </p:nvPicPr>
        <p:blipFill>
          <a:blip r:embed="rId4"/>
          <a:stretch/>
        </p:blipFill>
        <p:spPr>
          <a:xfrm>
            <a:off x="468360" y="1125360"/>
            <a:ext cx="460836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3T09:54:07Z</dcterms:created>
  <dc:creator>кристя</dc:creator>
  <dc:description/>
  <dc:language>en-US</dc:language>
  <cp:lastModifiedBy>Windows User</cp:lastModifiedBy>
  <dcterms:modified xsi:type="dcterms:W3CDTF">2017-09-16T01:15:23Z</dcterms:modified>
  <cp:revision>7</cp:revision>
  <dc:subject/>
  <dc:title>С  днём воспитателя </dc:title>
</cp:coreProperties>
</file>