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9D31-9749-4524-AAED-36F43E300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1FD6-952C-4B45-9576-6F8A4F4B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66B5-E50F-4C5C-B3C4-87AAD3022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E203-F766-491B-8F4E-1CD9010B9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CC33-AA10-4A28-B9F3-20E792B3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79D4-7881-43E9-897B-CBEA4576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278C-1213-4BB7-8E87-BCA1E02C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F966-E4AE-4D76-8F7A-6803926F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8DF4-7639-49FE-AC5C-204C33D8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3F50-1903-47D7-A084-5624B040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9B64-1DFD-44C5-BEFE-4E1ACBC4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9CA3-DA29-4AFA-9A53-05099E24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3C78-6F20-4E83-85DF-E6D5C8E0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0EF2-DB04-41E7-95E8-96D1D521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C552-E400-4B81-B68F-E3507002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BE92-3716-4390-893F-48AB5AB71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225C-72DF-4362-8B9B-57FC5C3CB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42BDB-3DED-4B7A-B844-2546BD2AA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2B14F-DA55-4393-A009-2FC6EEA3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399A9-B3A7-4E3B-8B15-BC8010E8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4CBFA-F5E5-47B8-B22B-9B29B65E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3C2D8-3F65-4B10-A07C-F6C4A77D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D30D-5F17-424C-A848-A369DF46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59ABF-1F5C-43EB-B35B-E3A4D887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CFA9C-A281-4378-A922-2FE5D5C3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3E4B4-0A53-4674-AC17-962CA55E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C69C1-300B-4DBE-971C-55B39F5A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9E2AA-F800-4CAA-95F0-CBC65EDF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6B3CC-AE61-4F07-B9C6-51EA20231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8164A-F687-4BE8-B393-50D294A0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CB41-2308-4F64-B0D6-C230055C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A2C3-556D-483D-B446-D1257EF7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2527-BAF1-4CDC-91AE-2539E266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CBD4-879E-4973-87B4-A38D31E8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CAC6-0C9F-4CFA-B16E-1F49B9F9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3678-BB17-49CF-9AD5-892B539F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8F64-4128-4C28-82AE-B1BFF5B9EC8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E9AC-8745-46D6-8F48-37F423EED37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416E-E2EF-42CA-86BF-9376BDB8EEB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99640" y="1411920"/>
            <a:ext cx="7341840" cy="103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ЕТОДИКА И ОРГАНИЗАЦИЯ ФИЗКУЛЬТУРНО-ОЗДОРОВИТЕЛЬНОЙ РАБОТЫ В ДОШКОЛЬНОМ ОБРАЗОВАТЕЛЬНОМ УЧРЕЖДЕНИИ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340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66"/>
                </a:solidFill>
                <a:latin typeface="Arial"/>
              </a:rPr>
              <a:t>Выполнила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66"/>
                </a:solidFill>
                <a:latin typeface="Arial"/>
              </a:rPr>
              <a:t>Рябцева Тамара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66"/>
                </a:solidFill>
                <a:latin typeface="Arial"/>
              </a:rPr>
              <a:t>Евгеньевн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14716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1341360"/>
          <a:ext cx="8424720" cy="5327640"/>
        </p:xfrm>
        <a:graphic>
          <a:graphicData uri="http://schemas.openxmlformats.org/drawingml/2006/table">
            <a:tbl>
              <a:tblPr/>
              <a:tblGrid>
                <a:gridCol w="506160"/>
                <a:gridCol w="4083120"/>
                <a:gridCol w="1301760"/>
                <a:gridCol w="1138320"/>
                <a:gridCol w="1395360"/>
              </a:tblGrid>
              <a:tr h="309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шкалы оце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ес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ысокий уровень (осознанная компетентность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          прочные, глубокие, системные знания в области самореализации детей старшего дошкольного возраста; - творческий подход, инновационность, целенаправленность, умелое использование разнообразных средств и способов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смысловая наполняемость, активность в саморазвитии и достижении профессионального успе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опустимый уровень (осознанная некомпетентность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едостаточно полные представления о самореализации дошкольников, сомнения в своих профессиональных знаниях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подражание авторитетным коллегам; недостаточная объективность в оценке своей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36 до 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Критический уровень (неосознанная компетентность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верхностные представления о самореализации детей старшего дошкольного возраста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сложно дается принятие критических замечаний; неосознанность своей профессиональной некомпетентности, потребность в достижении профессионального успеха слабо выраж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0 до 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164"/>
          <p:cNvSpPr/>
          <p:nvPr/>
        </p:nvSpPr>
        <p:spPr>
          <a:xfrm>
            <a:off x="741600" y="979920"/>
            <a:ext cx="749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блица 1  - Уровни и шкалы для оценки профессиональной компетентности педаго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65"/>
          <p:cNvSpPr/>
          <p:nvPr/>
        </p:nvSpPr>
        <p:spPr>
          <a:xfrm>
            <a:off x="0" y="257040"/>
            <a:ext cx="896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педагогическом эксперименте принимали участие 14 педагогов, 40 родителей и 40 детей старшего дошкольного возрас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Диаграмма 18"/>
          <p:cNvGraphicFramePr/>
          <p:nvPr/>
        </p:nvGraphicFramePr>
        <p:xfrm>
          <a:off x="755640" y="1916280"/>
          <a:ext cx="7775640" cy="43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Диаграмма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16280"/>
                    <a:ext cx="777564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6"/>
          <p:cNvSpPr/>
          <p:nvPr/>
        </p:nvSpPr>
        <p:spPr>
          <a:xfrm>
            <a:off x="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24000" y="122040"/>
            <a:ext cx="817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вень интереса родителей к физкультурно-оздоровительной работе с ребенком в детском саду и в семь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Диаграмма 18"/>
          <p:cNvGraphicFramePr/>
          <p:nvPr/>
        </p:nvGraphicFramePr>
        <p:xfrm>
          <a:off x="539640" y="1844640"/>
          <a:ext cx="802800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Диаграмма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844640"/>
                    <a:ext cx="802800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Rectangle 6"/>
          <p:cNvSpPr/>
          <p:nvPr/>
        </p:nvSpPr>
        <p:spPr>
          <a:xfrm>
            <a:off x="0" y="479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611280" y="47592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вень физического развития детей старшего дошкольного возра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395280" y="612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ель  основных средств физкультурно-оздоровительной работы  с детьми дошкольного возрас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5"/>
          <p:cNvGrpSpPr/>
          <p:nvPr/>
        </p:nvGrpSpPr>
        <p:grpSpPr>
          <a:xfrm>
            <a:off x="1476360" y="1341360"/>
            <a:ext cx="6388200" cy="5329440"/>
            <a:chOff x="1476360" y="1341360"/>
            <a:chExt cx="6388200" cy="5329440"/>
          </a:xfrm>
        </p:grpSpPr>
        <p:sp>
          <p:nvSpPr>
            <p:cNvPr id="173" name="AutoShape 6"/>
            <p:cNvSpPr/>
            <p:nvPr/>
          </p:nvSpPr>
          <p:spPr>
            <a:xfrm>
              <a:off x="1476360" y="1341360"/>
              <a:ext cx="6388200" cy="532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7"/>
            <p:cNvSpPr/>
            <p:nvPr/>
          </p:nvSpPr>
          <p:spPr>
            <a:xfrm>
              <a:off x="3487320" y="1577160"/>
              <a:ext cx="1892520" cy="59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Рациональное пит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8"/>
            <p:cNvSpPr/>
            <p:nvPr/>
          </p:nvSpPr>
          <p:spPr>
            <a:xfrm>
              <a:off x="2659320" y="2405880"/>
              <a:ext cx="1419120" cy="354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Режи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9"/>
            <p:cNvSpPr/>
            <p:nvPr/>
          </p:nvSpPr>
          <p:spPr>
            <a:xfrm>
              <a:off x="4552200" y="2287080"/>
              <a:ext cx="1773720" cy="710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Гигиена одежды и помещ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0"/>
            <p:cNvSpPr/>
            <p:nvPr/>
          </p:nvSpPr>
          <p:spPr>
            <a:xfrm>
              <a:off x="3274200" y="3115440"/>
              <a:ext cx="224784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Гигиенические факто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1"/>
            <p:cNvSpPr/>
            <p:nvPr/>
          </p:nvSpPr>
          <p:spPr>
            <a:xfrm>
              <a:off x="3250800" y="3707280"/>
              <a:ext cx="2246400" cy="47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РЕДСТВА ФИЗИЧЕСКОГО ВОСПИТ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2"/>
            <p:cNvSpPr/>
            <p:nvPr/>
          </p:nvSpPr>
          <p:spPr>
            <a:xfrm>
              <a:off x="2659320" y="4416840"/>
              <a:ext cx="1537560" cy="472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Закалив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3"/>
            <p:cNvSpPr/>
            <p:nvPr/>
          </p:nvSpPr>
          <p:spPr>
            <a:xfrm>
              <a:off x="4788360" y="4416840"/>
              <a:ext cx="1537560" cy="59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Физические упражн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4"/>
            <p:cNvSpPr/>
            <p:nvPr/>
          </p:nvSpPr>
          <p:spPr>
            <a:xfrm>
              <a:off x="1476360" y="5007600"/>
              <a:ext cx="1893600" cy="59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 повседневной жизн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5"/>
            <p:cNvSpPr/>
            <p:nvPr/>
          </p:nvSpPr>
          <p:spPr>
            <a:xfrm>
              <a:off x="1712520" y="5718240"/>
              <a:ext cx="2010960" cy="59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пециальные меры закалив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6"/>
            <p:cNvSpPr/>
            <p:nvPr/>
          </p:nvSpPr>
          <p:spPr>
            <a:xfrm>
              <a:off x="3960360" y="5126400"/>
              <a:ext cx="1419120" cy="59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портивные иг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7"/>
            <p:cNvSpPr/>
            <p:nvPr/>
          </p:nvSpPr>
          <p:spPr>
            <a:xfrm>
              <a:off x="3842640" y="5836320"/>
              <a:ext cx="1773720" cy="83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ОД по физической  культур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"/>
            <p:cNvSpPr/>
            <p:nvPr/>
          </p:nvSpPr>
          <p:spPr>
            <a:xfrm>
              <a:off x="5616360" y="5126400"/>
              <a:ext cx="1893600" cy="59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Утренняя гимнасти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9"/>
            <p:cNvSpPr/>
            <p:nvPr/>
          </p:nvSpPr>
          <p:spPr>
            <a:xfrm>
              <a:off x="5616360" y="5836320"/>
              <a:ext cx="1893600" cy="59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Развивающие иг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0"/>
            <p:cNvSpPr/>
            <p:nvPr/>
          </p:nvSpPr>
          <p:spPr>
            <a:xfrm>
              <a:off x="4314960" y="216900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21"/>
            <p:cNvSpPr/>
            <p:nvPr/>
          </p:nvSpPr>
          <p:spPr>
            <a:xfrm>
              <a:off x="4314960" y="3588480"/>
              <a:ext cx="0" cy="11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22"/>
            <p:cNvSpPr/>
            <p:nvPr/>
          </p:nvSpPr>
          <p:spPr>
            <a:xfrm flipH="1">
              <a:off x="3486960" y="4179960"/>
              <a:ext cx="827640" cy="23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3"/>
            <p:cNvSpPr/>
            <p:nvPr/>
          </p:nvSpPr>
          <p:spPr>
            <a:xfrm>
              <a:off x="4314960" y="4179960"/>
              <a:ext cx="946800" cy="23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4"/>
            <p:cNvSpPr/>
            <p:nvPr/>
          </p:nvSpPr>
          <p:spPr>
            <a:xfrm flipH="1" flipV="1">
              <a:off x="3368880" y="2760480"/>
              <a:ext cx="472320" cy="35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5"/>
            <p:cNvSpPr/>
            <p:nvPr/>
          </p:nvSpPr>
          <p:spPr>
            <a:xfrm flipV="1">
              <a:off x="4788360" y="2997000"/>
              <a:ext cx="35424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6"/>
            <p:cNvSpPr/>
            <p:nvPr/>
          </p:nvSpPr>
          <p:spPr>
            <a:xfrm>
              <a:off x="3132000" y="4889520"/>
              <a:ext cx="72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7"/>
            <p:cNvSpPr/>
            <p:nvPr/>
          </p:nvSpPr>
          <p:spPr>
            <a:xfrm>
              <a:off x="3487320" y="48895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8"/>
            <p:cNvSpPr/>
            <p:nvPr/>
          </p:nvSpPr>
          <p:spPr>
            <a:xfrm flipH="1">
              <a:off x="5024880" y="5007600"/>
              <a:ext cx="118080" cy="11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9"/>
            <p:cNvSpPr/>
            <p:nvPr/>
          </p:nvSpPr>
          <p:spPr>
            <a:xfrm>
              <a:off x="5616360" y="5007600"/>
              <a:ext cx="591480" cy="1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30"/>
            <p:cNvSpPr/>
            <p:nvPr/>
          </p:nvSpPr>
          <p:spPr>
            <a:xfrm>
              <a:off x="5379840" y="5007600"/>
              <a:ext cx="72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31"/>
            <p:cNvSpPr/>
            <p:nvPr/>
          </p:nvSpPr>
          <p:spPr>
            <a:xfrm>
              <a:off x="5498280" y="5007600"/>
              <a:ext cx="23616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08"/>
          <p:cNvSpPr/>
          <p:nvPr/>
        </p:nvSpPr>
        <p:spPr>
          <a:xfrm>
            <a:off x="1142280" y="-8875080"/>
            <a:ext cx="68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блица  2 -  Модель двигательного режима детей 5 – 7 лет в дошкольном учрежден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0" y="189000"/>
          <a:ext cx="4500720" cy="6264360"/>
        </p:xfrm>
        <a:graphic>
          <a:graphicData uri="http://schemas.openxmlformats.org/drawingml/2006/table">
            <a:tbl>
              <a:tblPr/>
              <a:tblGrid>
                <a:gridCol w="474840"/>
                <a:gridCol w="1509480"/>
                <a:gridCol w="251640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занят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Физкультурно-оздоровительные заня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ренняя гимнас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дневно на открытом воздухе или в зале. Длительность 10-12 ми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гательная размин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дневно во время большого перерыва между занятиями (с преобладанием статических поз). Длительность 7-10 ми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культмину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дневно, по мере необходимости, в зависимости от вида и содержания занятий. Длительность 3-5 ми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ижные игры и физические упражнения на прогулк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дневно во время утренней прогулки, подгруппами, подобранными с учетом уровня ДА детей. Длительность 25-30 ми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доровительный бе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а раза в неделю, подгруппами по 5-7 человек, во время утренней прогулки. Длительность 3-7 ми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ая работа по развитию движ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дневно во время вечерней прогулки. Длительность 12-15 ми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улки-походы в лес или близлежащий парк (пешие, лыжные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а-три раза в месяц, во время, отведенное для физкультурного занятия, организованных воспитателем игр и упражнений. Длительность 60-120 ми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500720" y="189000"/>
          <a:ext cx="4427280" cy="6264360"/>
        </p:xfrm>
        <a:graphic>
          <a:graphicData uri="http://schemas.openxmlformats.org/drawingml/2006/table">
            <a:tbl>
              <a:tblPr/>
              <a:tblGrid>
                <a:gridCol w="431640"/>
                <a:gridCol w="1212840"/>
                <a:gridCol w="2782800"/>
              </a:tblGrid>
              <a:tr h="114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мнастика после дневного сна в сочетании с контрастными воздушными ванн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а-три раза в неделю, по мере пробуждения и подъема детей. Длительность не более 10 ми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уна с контрастным обливанием тела и сухим массажем, а также последующими играми в бассейн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а раза в месяц, группами не более 10 человек, во второй половине дня. Длительность всего комплекса 35-40 ми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игирующая гимнастика в сочетании с гидромассаж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дневного сна, по одному сеансу в месяц, в течение 10 дней подряд с последующим перерывом в 2 недели. Проводиться по рекомендации врача Длительность 12-15 ми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ритмичная гимнас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а раза в неделю по подгруппам (проводится логопедом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Учебные заня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физической культур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 раза в неделю подгруппами, подобранными с учетом уровня ДО детей, проводятся в первой половине дня (одно на воздухе). Длительность 35-40 ми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лава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а раза в неделю, во второй половине дня, подгруппами не более 10-12 человек. Длительность 30-35 ми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250920" y="765000"/>
          <a:ext cx="4038480" cy="5616720"/>
        </p:xfrm>
        <a:graphic>
          <a:graphicData uri="http://schemas.openxmlformats.org/drawingml/2006/table">
            <a:tbl>
              <a:tblPr/>
              <a:tblGrid>
                <a:gridCol w="366480"/>
                <a:gridCol w="1175040"/>
                <a:gridCol w="2496960"/>
              </a:tblGrid>
              <a:tr h="304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амостоятельные заня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ая двигательная 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дневно, под руководством воспитателя, в помещении и на открытом воздухе. Продолжительность зависит от индивидуальных особенностей детей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Физкультурно-массовые заня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еля здоровья (каникул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а-три раза в год (последняя неделя квартала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культурный дос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-два раза в месяц на воздухе совместно со сверстниками одной - двух групп. Длительность 50-60 ми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культурно-спортивные праздники на открытом воздухе и на во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а-три раза в год, внутри детского сада или совместно со сверстниками соседнего дошкольного учреждения. Длительность 75-90 ми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- соревнования между возрастными группами или со школьниками начальных класс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-два раза в год на воздухе или в зале. Длительность не более 60 ми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артакиады вне детского са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раз в год в спортивном клубе или в школе своего микрорайона, участвуют дети с высоким уровнем физической подготовленности, по специальной программе. Длительность не более 120 ми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4427640" y="765000"/>
          <a:ext cx="4537080" cy="5616720"/>
        </p:xfrm>
        <a:graphic>
          <a:graphicData uri="http://schemas.openxmlformats.org/drawingml/2006/table">
            <a:tbl>
              <a:tblPr/>
              <a:tblGrid>
                <a:gridCol w="411120"/>
                <a:gridCol w="1320840"/>
                <a:gridCol w="2805120"/>
              </a:tblGrid>
              <a:tr h="384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Внегрупповые (дополнительные) виды занят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ы ОФ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желанию родителей и детей не более двух раз в неделю. Длительность 25-30 ми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ые кружки, тан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желанию родителей и детей не более двух раз в неделю. Длительность 35-40 ми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Совместная физкультурно-оздоровительная работа ДОУ и семь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ие зад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яются воспитател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культурные занятия детей совместно с родителями в дошкольных учрежд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желанию родителей, воспитателей и детей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5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ей 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культурно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доровительн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ов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ого сад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 время подготовки и проведения физкультурных досугов, праздников, недели здоровья, туристических походов, посещения открытых занятий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нализ проведенного анкетирования уровня профессиональной компетентности педагогов после внедрения программы физкультурно-оздоровительной направленности показал улучшение психолого-педагогических знаний, методических умений и профессиональных качеств на 25%. Так  высокий уровень (осознанная компетентность) составил 50%, допустимый уровень (осознанная некомпетентность)- 50% и критический уровень (неосознанная компетентность) – 0%.  В ходе анализа нами было выявлено, что все 100%  педагогов регулярно  реализуют  индивидуально-дифференцированный подход в работе с детьми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В результате проведенного опроса родителей мы определили, что большая  часть родителей 75% (35 человек) заинтересованы в организации   физкультурно-оздоровительной работы с ребенком в детском саду и в семье, но у них не всегда хватает времени и знаний для организации данной работы в условиях семьи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25% (5 человек) родителей  заинтересованы в организации   физкультурно-оздоровительной работы с ребенком в детском саду, но считают что в семье заниматься такой работой не нужно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роведенные педагогические исследования показали, что у 30 воспитанников(75%) высокий уровень, у 5 воспитанников(12,5%) средний уровень и у 5 воспитанников(12,5%) низкий уровен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ализация Программы по физкультурно-оздоровительной работе позволила создать Модель двигательного режима детей 5 – 7 лет в дошкольном учреждении (таблица 2) и Модель целостной системы здоровьесбережения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Цель исследован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: теоретически обосновать и опытно-поисковым путем проверить педагогические условия организации физкультурно-оздоровительной работы в ДОУ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бъектом исследован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является организация физкультурно-оздоровительной работы в дошкольном образовательном учреждени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едмет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педагогические условия организации физкультурно-оздоровительной работы в ДОУ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Гипотеза исследования: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организация физкультурно-оздоровительной работы в ДОУ будет более успешной, если реализовать следующие педагогические условия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- повысить профессиональную компетентность педагогов в области физического воспитания детей дошкольного возраста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- установить взаимодействие с родителями по физкультурно-оздоровительной работе с детьми старшего дошкольного возраста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- реализовывать индивидуально-дифференцированный подход в работе с деть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задачи исследования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. Провести анализ психолого-педагогической, методической литературы и научных публикаций по проблеме организации физкультурно-оздоровительной работы в ДО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. Изучить особенности организации физкультурно-оздоровительной работы с детьми дошкольного возраст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3. Определить основные педагогические условия успешности организации физкультурно-оздоровительной работы в ДО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4. Опытно-поисковым путем проверить педагогические условия, способствующие эффективности организации физкультурно-оздоровительной работы в ДО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исследовании были использованы следующие методы и методики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. Теоретические - изучение и анализ психолого-педагогической литературы по теме исследова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. Эмпирические - констатирующий эксперимент, психологическая диагностика свойств внимания старших  дошкольников с использованием следующих методик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Исследование было организовано и проведено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 базе Муниципального бюджетного дошкольного образовательного учреждения детский сад общеобразовательного вида № 31 п. Мирской Муниципального образования Кавказский район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едагогические исследования были организованны и проведены в три этапа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: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 первом этапе исследования теоретико-моделирующем (сентябрь-январь 2015 года) – осуществлялась поисково-исследовательская работа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торой этап – опытно-экспериментальный (февраль 2015 – март 2015 года) – был посвящен разработке, апробации и внедрению в экспериментальное дошкольное учреждение педагогических  условий организации физкультурно-оздоровительной работы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Третий этап – системно-обобщающий (март-апрель 2015 года) – включал: обобщение и описание опытно-экспериментальной работы; оценку результативности исследования, систематизацию его результатов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вень профессиональной компетентности 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4"/>
          <p:cNvGraphicFramePr/>
          <p:nvPr/>
        </p:nvGraphicFramePr>
        <p:xfrm>
          <a:off x="755640" y="1413000"/>
          <a:ext cx="7705800" cy="489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13000"/>
                    <a:ext cx="77058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Rectangle 6"/>
          <p:cNvSpPr/>
          <p:nvPr/>
        </p:nvSpPr>
        <p:spPr>
          <a:xfrm>
            <a:off x="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5T17:19:05Z</dcterms:created>
  <dc:creator>Наташа</dc:creator>
  <dc:description/>
  <dc:language>en-US</dc:language>
  <cp:lastModifiedBy>112323</cp:lastModifiedBy>
  <dcterms:modified xsi:type="dcterms:W3CDTF">2017-02-13T18:37:22Z</dcterms:modified>
  <cp:revision>9</cp:revision>
  <dc:subject/>
  <dc:title>МЕТОДИКА И ОРГАНИЗАЦИЯ ФИЗКУЛЬТУРНО-ОЗДОРОВИТЕЛЬНОЙ РАБОТЫ В ДОШКОЛЬНОМ ОБРАЗОВАТЕЛЬНОМ УЧРЕЖДЕНИИ</dc:title>
</cp:coreProperties>
</file>