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AF6-1F96-4EB2-BBA5-492611A5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F0B-00C3-4D50-8302-0D5985E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730-79B0-4276-B9F4-44A37AA7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168-F9F0-4926-B696-23F86F22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9288-7360-452B-A832-82FD5A6C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E8B7-9C7F-4639-849D-B2CE6F95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24EF-850E-457B-815F-A026697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D05B-736C-4B6B-A8DB-760115E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6165-407B-4BCB-B17C-3428E31B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816-C5FD-48D2-9C46-9BC9EDAF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966-A0F8-4418-AAD7-F0B003A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F09-7F07-4F5B-97EB-1CC0F2F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5910-1C31-489C-B3A1-A3092F60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5DCA-8A6B-4FF0-9F69-62D7D78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810F-E30E-41F3-80EE-DC9369FD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DAFB-234F-4AD3-8D6A-91E8B002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67B4-5EB0-4151-BE35-1CC0E864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735D-9CEA-4CD2-93B0-BCC7235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0D04-A056-4D90-9395-F1532269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DF7E-CD3C-497E-BF2C-1FA97708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392F-F3F6-4569-A6A1-A68685E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E35C-8AA5-4079-8752-3094DD95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F1E-B8CA-4588-B693-9A13335D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80B1-D914-4B52-BA6D-3970D98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75D9-E738-45DF-98C4-1FA34F28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1653-DD97-489B-9BF0-8E86F19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118D-5639-42DA-BD3A-20560199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3470-5CB0-4734-BFFA-3C30C911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60BE-659A-4651-A99B-A8C8579B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9146-AD42-42CB-A1CD-83978340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06B-6F6D-4B6D-AF5F-CF99C19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462-FFF2-4E1C-A241-A0058CA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DCA-CFBC-4F04-9933-9252389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A67-6FF8-47B4-9099-3B93C96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777-B559-4939-96B4-A8FFA3C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1F7-D323-426F-B146-7EDF016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950-D293-4283-9238-ADCAE0B15F8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9200-9282-406B-9F3C-6CA329FB071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F98-5204-4158-ADF0-27266D2C12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99640" y="141192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ЕТОДИКА И ОРГАНИЗАЦИЯ ФИЗКУЛЬТУРНО-ОЗДОРОВИТЕЛЬНОЙ РАБОТЫ В ДОШКОЛЬНОМ ОБРАЗОВАТЕЛЬНОМ УЧРЕЖДЕНИ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Рябцева Тамар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Евгеньевн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41360"/>
          <a:ext cx="8424720" cy="5327640"/>
        </p:xfrm>
        <a:graphic>
          <a:graphicData uri="http://schemas.openxmlformats.org/drawingml/2006/table">
            <a:tbl>
              <a:tblPr/>
              <a:tblGrid>
                <a:gridCol w="506160"/>
                <a:gridCol w="4083120"/>
                <a:gridCol w="1301760"/>
                <a:gridCol w="1138320"/>
                <a:gridCol w="1395360"/>
              </a:tblGrid>
              <a:tr h="309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шкалы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сокий уровень (осознанная компетентность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        прочные, глубокие, системные знания в области самореализации детей старшего дошкольного возраста; - творческий подход, инновационность, целенаправленность, умелое использование разнообразных средств и способ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смысловая наполняемость, активность в саморазвитии и достижении профессионального успе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пустимый уровень (осознанная некомпетентность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едостаточно полные представления о самореализации дошкольников, сомнения в своих профессиональных знания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подражание авторитетным коллегам; недостаточная объективность в оценке свое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6 до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итический уровень (неосознанная компетентность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ерхностные представления о самореализации детей старшего дошкольного возраст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сложно дается принятие критических замечаний; неосознанность своей профессиональной некомпетентности, потребность в достижении профессионального успеха слабо выраж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до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64"/>
          <p:cNvSpPr/>
          <p:nvPr/>
        </p:nvSpPr>
        <p:spPr>
          <a:xfrm>
            <a:off x="741600" y="979920"/>
            <a:ext cx="74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  - Уровни и шкалы для оценки профессиональной компетентности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5"/>
          <p:cNvSpPr/>
          <p:nvPr/>
        </p:nvSpPr>
        <p:spPr>
          <a:xfrm>
            <a:off x="0" y="25704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едагогическом эксперименте принимали участие 14 педагогов, 40 родителей и 40 детей старшего дошкольного возра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Диаграмма 18"/>
          <p:cNvGraphicFramePr/>
          <p:nvPr/>
        </p:nvGraphicFramePr>
        <p:xfrm>
          <a:off x="755640" y="1916280"/>
          <a:ext cx="777564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Диаграмма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77756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24000" y="122040"/>
            <a:ext cx="81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интереса родителей к физкультурно-оздоровительной работе с ребенком в детском саду и в сем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Диаграмма 18"/>
          <p:cNvGraphicFramePr/>
          <p:nvPr/>
        </p:nvGraphicFramePr>
        <p:xfrm>
          <a:off x="539640" y="1844640"/>
          <a:ext cx="802800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Диаграмма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28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"/>
          <p:cNvSpPr/>
          <p:nvPr/>
        </p:nvSpPr>
        <p:spPr>
          <a:xfrm>
            <a:off x="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4759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физического развития детей старшего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95280" y="612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  основных средств физкультурно-оздоровительной работы  с детьми дошкольного возра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1476360" y="1341360"/>
            <a:ext cx="6388200" cy="5329440"/>
            <a:chOff x="1476360" y="1341360"/>
            <a:chExt cx="6388200" cy="5329440"/>
          </a:xfrm>
        </p:grpSpPr>
        <p:sp>
          <p:nvSpPr>
            <p:cNvPr id="173" name="AutoShape 6"/>
            <p:cNvSpPr/>
            <p:nvPr/>
          </p:nvSpPr>
          <p:spPr>
            <a:xfrm>
              <a:off x="1476360" y="1341360"/>
              <a:ext cx="6388200" cy="53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3487320" y="1577160"/>
              <a:ext cx="189252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циональное пит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2659320" y="2405880"/>
              <a:ext cx="1419120" cy="3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ежи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4552200" y="2287080"/>
              <a:ext cx="1773720" cy="710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игиена одежды и помещ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3274200" y="3115440"/>
              <a:ext cx="22478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игиенические фак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250800" y="3707280"/>
              <a:ext cx="2246400" cy="4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РЕДСТВА ФИЗИЧЕСКОГО ВОСПИТ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2659320" y="4416840"/>
              <a:ext cx="1537560" cy="47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кали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4788360" y="4416840"/>
              <a:ext cx="153756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изические упраж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476360" y="5007600"/>
              <a:ext cx="189360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повседневной жиз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1712520" y="5718240"/>
              <a:ext cx="2010960" cy="59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ециальные меры закали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960360" y="5126400"/>
              <a:ext cx="141912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ивные иг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3842640" y="5836320"/>
              <a:ext cx="177372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ОД по физической  культу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616360" y="5126400"/>
              <a:ext cx="1893600" cy="59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тренняя гимнас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616360" y="5836320"/>
              <a:ext cx="1893600" cy="59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звивающие иг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0"/>
            <p:cNvSpPr/>
            <p:nvPr/>
          </p:nvSpPr>
          <p:spPr>
            <a:xfrm>
              <a:off x="4314960" y="216900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1"/>
            <p:cNvSpPr/>
            <p:nvPr/>
          </p:nvSpPr>
          <p:spPr>
            <a:xfrm>
              <a:off x="4314960" y="3588480"/>
              <a:ext cx="0" cy="11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 flipH="1">
              <a:off x="3486960" y="4179960"/>
              <a:ext cx="82764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3"/>
            <p:cNvSpPr/>
            <p:nvPr/>
          </p:nvSpPr>
          <p:spPr>
            <a:xfrm>
              <a:off x="4314960" y="4179960"/>
              <a:ext cx="94680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4"/>
            <p:cNvSpPr/>
            <p:nvPr/>
          </p:nvSpPr>
          <p:spPr>
            <a:xfrm flipH="1" flipV="1">
              <a:off x="3368880" y="2760480"/>
              <a:ext cx="472320" cy="35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5"/>
            <p:cNvSpPr/>
            <p:nvPr/>
          </p:nvSpPr>
          <p:spPr>
            <a:xfrm flipV="1">
              <a:off x="4788360" y="2997000"/>
              <a:ext cx="35424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6"/>
            <p:cNvSpPr/>
            <p:nvPr/>
          </p:nvSpPr>
          <p:spPr>
            <a:xfrm>
              <a:off x="3132000" y="4889520"/>
              <a:ext cx="7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7"/>
            <p:cNvSpPr/>
            <p:nvPr/>
          </p:nvSpPr>
          <p:spPr>
            <a:xfrm>
              <a:off x="3487320" y="48895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8"/>
            <p:cNvSpPr/>
            <p:nvPr/>
          </p:nvSpPr>
          <p:spPr>
            <a:xfrm flipH="1">
              <a:off x="5024880" y="5007600"/>
              <a:ext cx="118080" cy="11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9"/>
            <p:cNvSpPr/>
            <p:nvPr/>
          </p:nvSpPr>
          <p:spPr>
            <a:xfrm>
              <a:off x="5616360" y="5007600"/>
              <a:ext cx="5914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0"/>
            <p:cNvSpPr/>
            <p:nvPr/>
          </p:nvSpPr>
          <p:spPr>
            <a:xfrm>
              <a:off x="5379840" y="5007600"/>
              <a:ext cx="72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1"/>
            <p:cNvSpPr/>
            <p:nvPr/>
          </p:nvSpPr>
          <p:spPr>
            <a:xfrm>
              <a:off x="5498280" y="5007600"/>
              <a:ext cx="23616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8"/>
          <p:cNvSpPr/>
          <p:nvPr/>
        </p:nvSpPr>
        <p:spPr>
          <a:xfrm>
            <a:off x="1142280" y="-8875080"/>
            <a:ext cx="68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блица  2 -  Модель двигательного режима детей 5 – 7 лет в дошкольном учрежд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89000"/>
          <a:ext cx="4500720" cy="6264360"/>
        </p:xfrm>
        <a:graphic>
          <a:graphicData uri="http://schemas.openxmlformats.org/drawingml/2006/table">
            <a:tbl>
              <a:tblPr/>
              <a:tblGrid>
                <a:gridCol w="474840"/>
                <a:gridCol w="1509480"/>
                <a:gridCol w="25164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зан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Физкультурно-оздоровительн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на открытом воздухе или в зале. Длительность 10-12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ая разми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во время большого перерыва между занятиями (с преобладанием статических поз). Длительность 7-1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, по мере необходимости, в зависимости от вида и содержания занятий. Длительность 3-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 и физические упражнения на прогул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во время утренней прогулки, подгруппами, подобранными с учетом уровня ДА детей. Длительность 25-3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доровительный бе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неделю, подгруппами по 5-7 человек, во время утренней прогулки. Длительность 3-7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развитию дви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во время вечерней прогулки. Длительность 12-1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и-походы в лес или близлежащий парк (пешие, лыж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месяц, во время, отведенное для физкультурного занятия, организованных воспитателем игр и упражнений. Длительность 60-12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00720" y="189000"/>
          <a:ext cx="4427280" cy="6264360"/>
        </p:xfrm>
        <a:graphic>
          <a:graphicData uri="http://schemas.openxmlformats.org/drawingml/2006/table">
            <a:tbl>
              <a:tblPr/>
              <a:tblGrid>
                <a:gridCol w="431640"/>
                <a:gridCol w="1212840"/>
                <a:gridCol w="2782800"/>
              </a:tblGrid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после дневного сна в сочетании с контрастными воздушными ванн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неделю, по мере пробуждения и подъема детей. Длительность не более 1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на с контрастным обливанием тела и сухим массажем, а также последующими играми в бассей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месяц, группами не более 10 человек, во второй половине дня. Длительность всего комплекса 35-4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игирующая гимнастика в сочетании с гидромассаж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дневного сна, по одному сеансу в месяц, в течение 10 дней подряд с последующим перерывом в 2 недели. Проводиться по рекомендации врача Длительность 12-1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ритмичн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неделю по подгруппам (проводится логопедом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чебн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физической культу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 раза в неделю подгруппами, подобранными с учетом уровня ДО детей, проводятся в первой половине дня (одно на воздухе). Длительность 35-4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раза в неделю, во второй половине дня, подгруппами не более 10-12 человек. Длительность 30-35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50920" y="765000"/>
          <a:ext cx="4038480" cy="5616720"/>
        </p:xfrm>
        <a:graphic>
          <a:graphicData uri="http://schemas.openxmlformats.org/drawingml/2006/table">
            <a:tbl>
              <a:tblPr/>
              <a:tblGrid>
                <a:gridCol w="366480"/>
                <a:gridCol w="1175040"/>
                <a:gridCol w="2496960"/>
              </a:tblGrid>
              <a:tr h="30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стоятельн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двигательная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, под руководством воспитателя, в помещении и на открытом воздухе. Продолжительность зависит от индивидуальных особенностей дете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изкультурно-массовые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я здоровья (каникул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год (последняя неделя квартала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ый дос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-два раза в месяц на воздухе совместно со сверстниками одной - двух групп. Длительность 50-6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о-спортивные праздники на открытом воздухе и на в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-три раза в год, внутри детского сада или совместно со сверстниками соседнего дошкольного учреждения. Длительность 75-9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- соревнования между возрастными группами или со школьниками начальных клас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-два раза в год на воздухе или в зале. Длительность не более 6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артакиады вне детского са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раз в год в спортивном клубе или в школе своего микрорайона, участвуют дети с высоким уровнем физической подготовленности, по специальной программе. Длительность не более 12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427640" y="765000"/>
          <a:ext cx="4537080" cy="5616720"/>
        </p:xfrm>
        <a:graphic>
          <a:graphicData uri="http://schemas.openxmlformats.org/drawingml/2006/table">
            <a:tbl>
              <a:tblPr/>
              <a:tblGrid>
                <a:gridCol w="411120"/>
                <a:gridCol w="1320840"/>
                <a:gridCol w="2805120"/>
              </a:tblGrid>
              <a:tr h="38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негрупповые (дополнительные) виды зан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ОФ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желанию родителей и детей не более двух раз в неделю. Длительность 25-3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е кружки, тан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желанию родителей и детей не более двух раз в неделю. Длительность 35-4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вместная физкультурно-оздоровительная работа ДОУ и сем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 зад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ся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ые занятия детей совместно с родителями в дошкольных учреж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желанию родителей, воспитателей и дете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ей 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доровитель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го са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подготовки и проведения физкультурных досугов, праздников, недели здоровья, туристических походов, посещения открытых занят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нализ проведенного анкетирования уровня профессиональной компетентности педагогов после внедрения программы физкультурно-оздоровительной направленности показал улучшение психолого-педагогических знаний, методических умений и профессиональных качеств на 25%. Так  высокий уровень (осознанная компетентность) составил 50%, допустимый уровень (осознанная некомпетентность)- 50% и критический уровень (неосознанная компетентность) – 0%.  В ходе анализа нами было выявлено, что все 100%  педагогов регулярно  реализуют  индивидуально-дифференцированный подход в работе с детьм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 результате проведенного опроса родителей мы определили, что большая  часть родителей 75% (35 человек) заинтересованы в организации   физкультурно-оздоровительной работы с ребенком в детском саду и в семье, но у них не всегда хватает времени и знаний для организации данной работы в условиях семь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5% (5 человек) родителей  заинтересованы в организации   физкультурно-оздоровительной работы с ребенком в детском саду, но считают что в семье заниматься такой работой не нужно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оведенные педагогические исследования показали, что у 30 воспитанников(75%) высокий уровень, у 5 воспитанников(12,5%) средний уровень и у 5 воспитанников(12,5%) низкий уровен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Программы по физкультурно-оздоровительной работе позволила создать Модель двигательного режима детей 5 – 7 лет в дошкольном учреждении (таблица 2) и Модель целостной системы здоровьесбереж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ь исследова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 теоретически обосновать и опытно-поисковым путем проверить педагогические условия организации физкультурно-оздоровительной работы в ДО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ъектом исследова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является организация физкультурно-оздоровительной работы в дошкольном образовательном учрежден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едмет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едагогические условия организации физкультурно-оздоровительной работы в ДО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ипотеза исследования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организация физкультурно-оздоровительной работы в ДОУ будет более успешной, если реализовать следующие педагогические услов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повысить профессиональную компетентность педагогов в области физического воспитания детей дошкольного возраст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установить взаимодействие с родителями по физкультурно-оздоровительной работе с детьми старшего дошкольного возраст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реализовывать индивидуально-дифференцированный подход в работе с деть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дачи исслед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Провести анализ психолого-педагогической, методической литературы и научных публикаций по проблеме организации физкультурно-оздоровительной работы в Д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Изучить особенности организации физкультурно-оздоровительной работы с детьми дошкольного возрас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Определить основные педагогические условия успешности организации физкультурно-оздоровительной работы в Д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Опытно-поисковым путем проверить педагогические условия, способствующие эффективности организации физкультурно-оздоровительной работы в Д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исследовании были использованы следующие методы и методи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 Теоретические - изучение и анализ психолого-педагогической литературы по теме исслед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Эмпирические - констатирующий эксперимент, психологическая диагностика свойств внимания старших  дошкольников с использованием следующих методик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следование было организовано и проведено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 базе Муниципального бюджетного дошкольного образовательного учреждения детский сад общеобразовательного вида № 31 п. Мирской Муниципального образования Кавказский район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дагогические исследования были организованны и проведены в три этап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первом этапе исследования теоретико-моделирующем (сентябрь-январь 2015 года) – осуществлялась поисково-исследовательская работ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торой этап – опытно-экспериментальный (февраль 2015 – март 2015 года) – был посвящен разработке, апробации и внедрению в экспериментальное дошкольное учреждение педагогических  условий организации физкультурно-оздоровительной работы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етий этап – системно-обобщающий (март-апрель 2015 года) – включал: обобщение и описание опытно-экспериментальной работы; оценку результативности исследования, систематизацию его результат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профессиональной компетентност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755640" y="1413000"/>
          <a:ext cx="7705800" cy="48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7058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6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19:05Z</dcterms:created>
  <dc:creator>Наташа</dc:creator>
  <dc:description/>
  <dc:language>en-US</dc:language>
  <cp:lastModifiedBy>112323</cp:lastModifiedBy>
  <dcterms:modified xsi:type="dcterms:W3CDTF">2017-02-13T18:37:22Z</dcterms:modified>
  <cp:revision>9</cp:revision>
  <dc:subject/>
  <dc:title>МЕТОДИКА И ОРГАНИЗАЦИЯ ФИЗКУЛЬТУРНО-ОЗДОРОВИТЕЛЬНОЙ РАБОТЫ В ДОШКОЛЬНОМ ОБРАЗОВАТЕЛЬНОМ УЧРЕЖДЕНИИ</dc:title>
</cp:coreProperties>
</file>