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D5C-0314-429E-BF7E-B5B73632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91C-D09D-4AE6-9E9E-7F64095D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892-0D14-4532-9E2E-4A8D57A5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609-9761-432E-B45D-ACD74D47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4258-92BF-4B03-8CD9-73191F81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623B-D221-4C02-B160-6419CD1E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29BC-C4AB-4849-9AC4-1159193A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1F20-EE1D-49D2-B984-3BD5B081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E4EA-C040-4C29-8C1E-22B5437F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E4CD-0623-4262-8EF4-D25FB519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A429-9B74-4262-8C0C-0E3FC159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E29-DBAA-4705-B29E-79FB547C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5CEB-E18D-4ECE-B693-94054991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C979-7CED-403D-AD5F-B5798C79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3D8D-4DBA-4BE4-85D9-4D261647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0E79-2A0F-418F-BA30-CB6A7540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2EE6-0322-4B2B-AF9B-A34DE7E6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788-798B-4B94-B450-9220FEAF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F95-382C-4553-9251-DD97E656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7F6-8D98-4652-8A9F-8FDF92E3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0D9-D0C0-4E2A-807D-C577906B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6BA-C5C9-49BA-A7B4-EC07939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9D5-872A-433E-92C1-9A4E5A3A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8B0-0562-4DEF-A40A-E97D74DB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00A4-71D8-4E8A-B170-7D7A8D6FEC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BED7-F5D0-47F5-8C4B-98163A954B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3534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Мастер-класс   «Использование игровых ситуаций на уроках геометрии при подготовке к ГИА»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99640" y="3860280"/>
            <a:ext cx="727236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азработала учитель математики Морозова Надежд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Памятка для учителя по использованию игровых технологий на уроках</a:t>
            </a: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ки с использованием иг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пособствуют яркому эмоциональному восприятию   учеб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азвивают творческие способности школьников и уч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ывают веру ученика в собственные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учат школьника радоваться общению с педагогом и товарищ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формируют внимание и стремление к самостоя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аставляют взрослого и детей импровизиро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активизируют самостоятельную деятельность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учат школьников отстаи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оздают психологический комфорт в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ызывают интерес у всех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Предмет математики столь серьезен, что не следует упускать ни одной возможности сделать его более занимательным. (Б. Паскаль) </a:t>
            </a:r>
            <a:br>
              <a:rPr sz="3800"/>
            </a:b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7238520"/>
            <a:ext cx="77724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24000" y="3284640"/>
            <a:ext cx="518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Игра «Аукцион – 1»</a:t>
            </a:r>
            <a:br>
              <a:rPr sz="2800"/>
            </a:b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повторение теоретического материала по теме «Площадь многоугольника»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орги выносится теоретический материал по теме «Площадь многоуголь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еугольника, параллелограмма, трапе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гре участвуют 4 команды, которые должны за отведённое врем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.) подготовиться отвечать по заявленной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рёдность ответа устанавливается по жреб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итан команды, которая начинает отвечать первой, выбирает очерёдность 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должен быть полным и аргументир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ждает тот, кто отвечает послед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гра «Аукцион 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»</a:t>
            </a:r>
            <a:br>
              <a:rPr sz="2800"/>
            </a:b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(повторение теоретического материала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игры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м предлагаются 2 чертежа. Они должны за отведенное время найти значение как можно большего числа величин. Побеждает тот, кто отвечает последним. При ответе ученик должен дать формулировки определений или теорем, которыми воспользовался. 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10                                                A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         b=6      A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3860640"/>
            <a:ext cx="1297080" cy="1656000"/>
          </a:xfrm>
          <a:prstGeom prst="rtTriangl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4005360"/>
            <a:ext cx="1440000" cy="1871640"/>
          </a:xfrm>
          <a:prstGeom prst="diamond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94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4005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Игра «Аукцион – 3»</a:t>
            </a:r>
            <a:br>
              <a:rPr sz="2800"/>
            </a:b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решение задач по теме «Площадь многоугольника»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орги выносятся задания по теме «Площадь многоугольника». На экран проецируются ЛОТ № 1, 2, 3 – по пять заданий на данную тему). Каждое задание имеет цену от 1 до 5 баллов. Если задание решено верно, команде начисляются баллы – цена этого задания, если неверно, то эти баллы сним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итаны распределяют задачи между членами команд, возникшие вопросы решаются сооб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а, первая справившаяся со всеми заданиями, поднимает руку. После чего игра прекращ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шении задач из ЛОТа №1 участникам игры предлагается решить любые 4 задачи, из ЛОТа № 2 любые три задачи, а из ЛОТа № 3 любые дв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оги подводятся сразу и заносятся в электронную табл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Лот № 1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77724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йти площадь параллелограмма, если две его стороны равны 12 и11, а угол между ними равен 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1 бал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йти сторону квадрата, площадь которого равна площади прямоугольника со сторонами 1 и 961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2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лощадь прямоугольного треугольника равна 69. Один из его катетов равен 23. Найти другой катет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3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йти площадь ромба, если его стороны равны 5, а один из углов равен 1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4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йти диагональ квадрата, если его площадь равна 4,5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5 бал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Лот № 2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1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площадь треугольника, две стороны которого равны 19 и 18, а угол между ними равен 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1 бал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гол при вершине, противолежащей основанию равнобедренного треугольника, равен 1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Боковая сторона треугольника равна 2. Найдите площадь этого треугольника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2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иметр прямоугольника равен 34, а диагональ равна 13. Найдите площадь этого прямоугольника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3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ны два квадрата, диагонали которых равны 12 и 13. Найдите диагональ квадрата, площадь которого равна разности площадей данных квадратов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4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метры двух подобных многоугольников относятся как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Площадь меньшего многоугольника равна 9. Найдите площадь большего многоугольника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5 бал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Лот № 3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йти площадь ромба, если его диагонали равны 13 и 6.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(1 бал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тороны параллелограмма равны 5 и 10. Высота, опущенная на первую сторону, равна 3. Найдите высоту, опущенную на вторую сторону параллелограмма.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(2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нования равнобедренной трапеции равны 3 и 15, а её периметр равен 38. Найти площадь трапеции.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(3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треугольнике АВС медиана АМ перпендикулярна медиане ВК. Найти площадь треугольника АВС, если АМ=10, ВК=6.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(4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казать, что медианы треугольника разбивают треугольник на шесть равновеликих треуголь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(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бал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«Математические карты»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абдить каждого игрока карточками с заданиям теор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а.  Карта считается битой, если на вопрос, стоящий в 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 правильный ответ. Битая карта откладывается в сторону.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 ответ неверный, то карта остаётся в колоде у игрока, кото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 неверный ответ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 результате проигрывает тот, у кого в конце игры на руках ост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ы.</a:t>
            </a:r>
            <a:br>
              <a:rPr sz="2000"/>
            </a:br>
            <a:br>
              <a:rPr sz="20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7:54:36Z</dcterms:created>
  <dc:creator>м.видео</dc:creator>
  <dc:description/>
  <dc:language>en-US</dc:language>
  <cp:lastModifiedBy>Учитель</cp:lastModifiedBy>
  <dcterms:modified xsi:type="dcterms:W3CDTF">2013-04-18T09:55:29Z</dcterms:modified>
  <cp:revision>14</cp:revision>
  <dc:subject/>
  <dc:title>Презентация «Игровые ситуации на уроках математики»</dc:title>
</cp:coreProperties>
</file>