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3D4-BCFE-46F9-AD92-86CAAFE9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82A-E036-4785-8924-AA79D9BA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0CA-9332-4E2A-9A14-2BF1EEC0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A0D-ECDC-44E4-AF98-D2F33C1E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02E7-27AF-47B5-BD9D-13D44A8E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83DC-E32C-4017-A58B-A832F71C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5FF4-9896-4FCF-8FD1-AF1D9B57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5242-46ED-4DAD-A710-3EDCCC97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E880-554D-4D06-9C33-874E2A39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8050-3C3A-4A2A-8037-CE81094D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B5C4-D7E7-42E7-8406-97FC7DA1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838-1B25-4D84-B068-6AC26CA3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0E91-086C-41DB-A431-5F05F4D8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E808-F7F0-4637-8B1E-0336BC21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B383-52F7-42E9-8193-DBC2A177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ABFF-8A65-470E-A3DE-1111BAD5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D0B2-AFE8-4800-AA7C-CBFFD31F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C5B-5CB2-4326-8F9D-C88B3696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5AA-CA26-4040-B1FE-7927435A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6AB-7BCB-4158-8994-FE508F4F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837-3B4E-42B2-A522-DBDFBC1B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A63-8260-493F-873F-6B943587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DB2-BDAC-418B-B153-D10EB8F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204-2D3B-435E-813E-6EB31EB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597F-8E75-43A0-B40A-20B33365F5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C41B-1EEE-4E16-9F44-C93364F1AE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3534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Мастер-класс   «Использование игровых ситуаций на уроках геометрии при подготовке к ГИА»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99640" y="3860280"/>
            <a:ext cx="727236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азработала учитель математики Морозова Надежд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Памятка для учителя по использованию игровых технологий на уроках</a:t>
            </a: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ки с использованием иг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пособствуют яркому эмоциональному восприятию   учеб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азвивают творческие способности школьников и уч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ывают веру ученика в собственные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учат школьника радоваться общению с педагогом и товарищ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формируют внимание и стремление к самостоя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аставляют взрослого и детей импровизиро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активизируют самостоятельную деятельность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учат школьников отстаи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оздают психологический комфорт в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ызывают интерес у всех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Предмет математики столь серьезен, что не следует упускать ни одной возможности сделать его более занимательным. (Б. Паскаль) </a:t>
            </a:r>
            <a:br>
              <a:rPr sz="3800"/>
            </a:b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7238520"/>
            <a:ext cx="77724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24000" y="3284640"/>
            <a:ext cx="518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Игра «Аукцион – 1»</a:t>
            </a:r>
            <a:br>
              <a:rPr sz="2800"/>
            </a:b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повторение теоретического материала по теме «Площадь многоугольника»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орги выносится теоретический материал по теме «Площадь многоуголь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еугольника, параллелограмма, трапе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гре участвуют 4 команды, которые должны за отведённое врем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.) подготовиться отвечать по заявленной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рёдность ответа устанавливается по жреб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итан команды, которая начинает отвечать первой, выбирает очерёдность 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должен быть полным и аргументир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ждает тот, кто отвечает послед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гра «Аукцион 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»</a:t>
            </a:r>
            <a:br>
              <a:rPr sz="2800"/>
            </a:b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(повторение теоретического материала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игры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м предлагаются 2 чертежа. Они должны за отведенное время найти значение как можно большего числа величин. Побеждает тот, кто отвечает последним. При ответе ученик должен дать формулировки определений или теорем, которыми воспользовался. 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10                                                A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         b=6      A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3860640"/>
            <a:ext cx="1297080" cy="1656000"/>
          </a:xfrm>
          <a:prstGeom prst="rtTriangl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4005360"/>
            <a:ext cx="1440000" cy="1871640"/>
          </a:xfrm>
          <a:prstGeom prst="diamond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94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4005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Игра «Аукцион – 3»</a:t>
            </a:r>
            <a:br>
              <a:rPr sz="2800"/>
            </a:b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решение задач по теме «Площадь многоугольника»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орги выносятся задания по теме «Площадь многоугольника». На экран проецируются ЛОТ № 1, 2, 3 – по пять заданий на данную тему). Каждое задание имеет цену от 1 до 5 баллов. Если задание решено верно, команде начисляются баллы – цена этого задания, если неверно, то эти баллы сним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итаны распределяют задачи между членами команд, возникшие вопросы решаются сооб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а, первая справившаяся со всеми заданиями, поднимает руку. После чего игра прекращ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шении задач из ЛОТа №1 участникам игры предлагается решить любые 4 задачи, из ЛОТа № 2 любые три задачи, а из ЛОТа № 3 любые дв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оги подводятся сразу и заносятся в электронную табл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Лот № 1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77724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йти площадь параллелограмма, если две его стороны равны 12 и11, а угол между ними равен 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1 бал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йти сторону квадрата, площадь которого равна площади прямоугольника со сторонами 1 и 961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2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лощадь прямоугольного треугольника равна 69. Один из его катетов равен 23. Найти другой катет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3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йти площадь ромба, если его стороны равны 5, а один из углов равен 1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4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йти диагональ квадрата, если его площадь равна 4,5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5 бал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Лот № 2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1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площадь треугольника, две стороны которого равны 19 и 18, а угол между ними равен 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1 бал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гол при вершине, противолежащей основанию равнобедренного треугольника, равен 1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Боковая сторона треугольника равна 2. Найдите площадь этого треугольника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2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иметр прямоугольника равен 34, а диагональ равна 13. Найдите площадь этого прямоугольника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3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ны два квадрата, диагонали которых равны 12 и 13. Найдите диагональ квадрата, площадь которого равна разности площадей данных квадратов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4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метры двух подобных многоугольников относятся как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Площадь меньшего многоугольника равна 9. Найдите площадь большего многоугольника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5 бал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Лот № 3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йти площадь ромба, если его диагонали равны 13 и 6.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(1 бал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тороны параллелограмма равны 5 и 10. Высота, опущенная на первую сторону, равна 3. Найдите высоту, опущенную на вторую сторону параллелограмма.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(2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нования равнобедренной трапеции равны 3 и 15, а её периметр равен 38. Найти площадь трапеции.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(3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треугольнике АВС медиана АМ перпендикулярна медиане ВК. Найти площадь треугольника АВС, если АМ=10, ВК=6.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(4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казать, что медианы треугольника разбивают треугольник на шесть равновеликих треуголь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(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бал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«Математические карты»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абдить каждого игрока карточками с заданиям теор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а.  Карта считается битой, если на вопрос, стоящий в 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 правильный ответ. Битая карта откладывается в сторону.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 ответ неверный, то карта остаётся в колоде у игрока, кото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 неверный ответ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 результате проигрывает тот, у кого в конце игры на руках ост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ы.</a:t>
            </a:r>
            <a:br>
              <a:rPr sz="2000"/>
            </a:br>
            <a:br>
              <a:rPr sz="20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7:54:36Z</dcterms:created>
  <dc:creator>м.видео</dc:creator>
  <dc:description/>
  <dc:language>en-US</dc:language>
  <cp:lastModifiedBy>Учитель</cp:lastModifiedBy>
  <dcterms:modified xsi:type="dcterms:W3CDTF">2013-04-18T09:55:29Z</dcterms:modified>
  <cp:revision>14</cp:revision>
  <dc:subject/>
  <dc:title>Презентация «Игровые ситуации на уроках математики»</dc:title>
</cp:coreProperties>
</file>