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3114-600B-4206-ADC2-5E21508C4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0E1B-CADA-498E-ADC0-7FF9532EA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12A4-D32C-40F8-8D59-8D536A117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DF74-6454-4AB4-88D9-F20203A2C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B34A5-C37E-4208-96C7-AEB64AA8A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D961D-5137-4786-A61B-9D61D0B80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41250-1BB0-4D7D-93A8-E32A1C6D1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B0100-62EF-4199-BD67-D05739730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60C40-D4B2-4C60-888A-AC4B90692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7CC02-6055-4200-9DE1-0B3E86CD8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B558D-06E9-4CD6-9173-9C9C0B15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3475-9CC5-4EE5-ADB8-84BE4857D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2CD28-CC93-441C-A359-473608B9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90F4D-3E7B-4750-A968-0DC34EE6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E88C0-CDCD-40FB-A9D7-77B6853B4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82E46-EE12-4815-AECA-CAD45C251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1F68F-7CBC-4427-A154-CB4DCADB8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36F8-9E42-446C-A688-46EC4C3FC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8960-12DD-4B39-8908-F6EDF44D1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3961-CFCD-4583-9357-D73BFAC93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35B0-7741-4FE1-80FC-0FD9E9F12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E355-E068-4C63-8494-F63EF8BFF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64A3-7F88-43EC-9F58-4E32DB89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B337-82C7-4EE7-A45C-EF11298DD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A6C96-B556-407F-9A20-EA7AFAA89A1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B6342-67B1-469D-BCFA-16EE81515E5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0" y="-1447920"/>
            <a:ext cx="9144000" cy="830592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4"/>
          <p:cNvSpPr/>
          <p:nvPr/>
        </p:nvSpPr>
        <p:spPr>
          <a:xfrm>
            <a:off x="1523880" y="609480"/>
            <a:ext cx="7086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Comic Sans MS"/>
              </a:rPr>
              <a:t>Почему ребенок начинает сквернословить 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Comic Sans MS"/>
              </a:rPr>
              <a:t>как от этого избавитьс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4648320" y="58672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004d"/>
                </a:solidFill>
                <a:latin typeface="Arial"/>
              </a:rPr>
              <a:t>Бабич Янина Анато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004d"/>
                </a:solidFill>
                <a:latin typeface="Arial"/>
              </a:rPr>
              <a:t>Педагог - психолог МБДОУ д/с № 1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3"/>
          <p:cNvSpPr/>
          <p:nvPr/>
        </p:nvSpPr>
        <p:spPr>
          <a:xfrm>
            <a:off x="0" y="0"/>
            <a:ext cx="9144000" cy="1981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ff33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Comic Sans MS"/>
              </a:rPr>
              <a:t>Детские коллективы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0" y="1981080"/>
            <a:ext cx="9144000" cy="48769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fffc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660066"/>
                </a:solidFill>
                <a:latin typeface="Comic Sans MS"/>
              </a:rPr>
              <a:t>В детском саду, во дворе, в развивающих кружках, в спортивных секциях.  Особенно сложно бывает новичкам, сквернословие становится методом самоутвержд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6" descr="nid03"/>
          <p:cNvPicPr/>
          <p:nvPr/>
        </p:nvPicPr>
        <p:blipFill>
          <a:blip r:embed="rId1"/>
          <a:stretch/>
        </p:blipFill>
        <p:spPr>
          <a:xfrm>
            <a:off x="5334120" y="400068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3"/>
          <p:cNvSpPr/>
          <p:nvPr/>
        </p:nvSpPr>
        <p:spPr>
          <a:xfrm>
            <a:off x="0" y="0"/>
            <a:ext cx="9144000" cy="1981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ff33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Comic Sans MS"/>
              </a:rPr>
              <a:t>Как с этим бороться? </a:t>
            </a:r>
            <a:r>
              <a:rPr b="0" lang="ru-RU" sz="3600" spc="-1" strike="noStrike">
                <a:solidFill>
                  <a:srgbClr val="ff0066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0" y="1371600"/>
            <a:ext cx="9144000" cy="48769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fffc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Comic Sans MS"/>
              </a:rPr>
              <a:t>объясни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Comic Sans MS"/>
              </a:rPr>
              <a:t>проявите к ребёнку больше внимания, забо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Comic Sans MS"/>
              </a:rPr>
              <a:t>снимите ограничения, которые уже не соответствуют его возраст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Comic Sans MS"/>
              </a:rPr>
              <a:t>создайте благоприятную атмосферу в семь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Comic Sans MS"/>
              </a:rPr>
              <a:t>помогите добиться успеха в какой-либо сфере 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Comic Sans MS"/>
              </a:rPr>
              <a:t>научите ребенка нескольким словам,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Comic Sans MS"/>
              </a:rPr>
              <a:t>описывающим чувства (я злюсь,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Comic Sans MS"/>
              </a:rPr>
              <a:t>расстроен, сержусь, я в гневе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Comic Sans MS"/>
              </a:rPr>
              <a:t>контролируйте собственную речь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0066"/>
                </a:solidFill>
                <a:latin typeface="Comic Sans MS"/>
              </a:rPr>
              <a:t>  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6" descr="kak_otuchit_rebenka_rugatsya_matom_fd_readmas"/>
          <p:cNvPicPr/>
          <p:nvPr/>
        </p:nvPicPr>
        <p:blipFill>
          <a:blip r:embed="rId1"/>
          <a:stretch/>
        </p:blipFill>
        <p:spPr>
          <a:xfrm>
            <a:off x="6095880" y="3809880"/>
            <a:ext cx="30481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4"/>
          <p:cNvSpPr/>
          <p:nvPr/>
        </p:nvSpPr>
        <p:spPr>
          <a:xfrm>
            <a:off x="380880" y="1676520"/>
            <a:ext cx="563904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Comic Sans MS"/>
              </a:rPr>
              <a:t>СПАСИБ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Comic Sans MS"/>
              </a:rPr>
              <a:t>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ff0066"/>
                </a:solidFill>
                <a:latin typeface="Comic Sans MS"/>
              </a:rPr>
              <a:t>ВНИМА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Comic Sans MS"/>
              </a:rPr>
              <a:t>Источники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fffce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60066"/>
                </a:solidFill>
                <a:latin typeface="Comic Sans MS"/>
              </a:rPr>
              <a:t>ребята во дворе, в детском саду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60066"/>
                </a:solidFill>
                <a:latin typeface="Comic Sans MS"/>
              </a:rPr>
              <a:t>взрослые фильмы, телепередачи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60066"/>
                </a:solidFill>
                <a:latin typeface="Comic Sans MS"/>
              </a:rPr>
              <a:t>и даже мультик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60066"/>
                </a:solidFill>
                <a:latin typeface="Comic Sans MS"/>
              </a:rPr>
              <a:t>СЕМЬЯ</a:t>
            </a:r>
            <a:r>
              <a:rPr b="1" lang="ru-RU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8" descr="F3s65qP5n4"/>
          <p:cNvPicPr/>
          <p:nvPr/>
        </p:nvPicPr>
        <p:blipFill>
          <a:blip r:embed="rId1"/>
          <a:stretch/>
        </p:blipFill>
        <p:spPr>
          <a:xfrm>
            <a:off x="5257800" y="3657600"/>
            <a:ext cx="365760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057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ff33"/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    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lang="ru-RU" sz="3200" spc="-1" strike="noStrike">
                <a:solidFill>
                  <a:srgbClr val="ff0066"/>
                </a:solidFill>
                <a:latin typeface="Comic Sans MS"/>
              </a:rPr>
              <a:t>«НЕХОРОШИЕ СЛОВА»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0" y="2057040"/>
            <a:ext cx="9144000" cy="4800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11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660066"/>
                </a:solidFill>
                <a:latin typeface="Comic Sans MS"/>
              </a:rPr>
              <a:t>сквернословие (нецензурные выражения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11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660066"/>
                </a:solidFill>
                <a:latin typeface="Comic Sans MS"/>
              </a:rPr>
              <a:t>ругательные и грубые слова (дрянь, сволочь, мерзавец, дерьмо и т.д.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11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660066"/>
                </a:solidFill>
                <a:latin typeface="Comic Sans MS"/>
              </a:rPr>
              <a:t>слова, которые унижают и оскорбляют человека (кретин, болван, дурак и т.д.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11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660066"/>
                </a:solidFill>
                <a:latin typeface="Comic Sans MS"/>
              </a:rPr>
              <a:t>жаргонные  или сленговые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Comic Sans MS"/>
              </a:rPr>
              <a:t>В раннем детстве (примерно до 4 лет)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1828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Comic Sans MS"/>
              </a:rPr>
              <a:t>ребенок чаще всего употребляет бранные слова неосознанно, не понимая, что это плохо. Он просто копирует поведение окружающих его людей, героев фильмов и телепередач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2"/>
          <p:cNvSpPr/>
          <p:nvPr/>
        </p:nvSpPr>
        <p:spPr>
          <a:xfrm>
            <a:off x="0" y="2666880"/>
            <a:ext cx="914400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Comic Sans MS"/>
              </a:rPr>
              <a:t>Начиная с 4 – 5 летнего возраста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0" y="3429000"/>
            <a:ext cx="9144000" cy="28195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Comic Sans MS"/>
              </a:rPr>
              <a:t>у детей формируются нравственно-этические грани личности, появляется </a:t>
            </a:r>
            <a:r>
              <a:rPr b="1" lang="ru-RU" sz="2400" spc="-1" strike="noStrike">
                <a:solidFill>
                  <a:srgbClr val="ff0066"/>
                </a:solidFill>
                <a:latin typeface="Comic Sans MS"/>
              </a:rPr>
              <a:t>чувство вины</a:t>
            </a:r>
            <a:r>
              <a:rPr b="0" lang="ru-RU" sz="2400" spc="-1" strike="noStrike">
                <a:solidFill>
                  <a:srgbClr val="660066"/>
                </a:solidFill>
                <a:latin typeface="Comic Sans MS"/>
              </a:rPr>
              <a:t> за совершенные неблаговидные поступки. Для ребенка важно одобрение со стороны взрослых и, наоборот, осуждение каких-то его действ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Comic Sans MS"/>
              </a:rPr>
              <a:t>    </a:t>
            </a:r>
            <a:r>
              <a:rPr b="0" lang="ru-RU" sz="2400" spc="-1" strike="noStrike">
                <a:solidFill>
                  <a:srgbClr val="660066"/>
                </a:solidFill>
                <a:latin typeface="Comic Sans MS"/>
              </a:rPr>
              <a:t>вызывает </a:t>
            </a:r>
            <a:r>
              <a:rPr b="1" lang="ru-RU" sz="2400" spc="-1" strike="noStrike">
                <a:solidFill>
                  <a:srgbClr val="ff0066"/>
                </a:solidFill>
                <a:latin typeface="Comic Sans MS"/>
              </a:rPr>
              <a:t>страх </a:t>
            </a:r>
            <a:r>
              <a:rPr b="0" lang="ru-RU" sz="2400" spc="-1" strike="noStrike">
                <a:solidFill>
                  <a:srgbClr val="660066"/>
                </a:solidFill>
                <a:latin typeface="Comic Sans MS"/>
              </a:rPr>
              <a:t>несоответств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Comic Sans MS"/>
              </a:rPr>
              <a:t>    </a:t>
            </a:r>
            <a:r>
              <a:rPr b="0" lang="ru-RU" sz="2400" spc="-1" strike="noStrike">
                <a:solidFill>
                  <a:srgbClr val="660066"/>
                </a:solidFill>
                <a:latin typeface="Comic Sans MS"/>
              </a:rPr>
              <a:t>общепринятым нормам повед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8" descr="Бранные слова в речи ребенка"/>
          <p:cNvPicPr/>
          <p:nvPr/>
        </p:nvPicPr>
        <p:blipFill>
          <a:blip r:embed="rId1"/>
          <a:stretch/>
        </p:blipFill>
        <p:spPr>
          <a:xfrm>
            <a:off x="6400800" y="5003640"/>
            <a:ext cx="2552760" cy="17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1" lang="ru-RU" sz="3600" spc="-1" strike="noStrike">
                <a:solidFill>
                  <a:srgbClr val="ff0066"/>
                </a:solidFill>
                <a:latin typeface="Comic Sans MS"/>
              </a:rPr>
              <a:t>Ребенок-демонстрант </a:t>
            </a:r>
            <a:br>
              <a:rPr sz="3600"/>
            </a:b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3" name="Picture 6" descr="2569_html_m29766d31"/>
          <p:cNvPicPr/>
          <p:nvPr/>
        </p:nvPicPr>
        <p:blipFill>
          <a:blip r:embed="rId1"/>
          <a:stretch/>
        </p:blipFill>
        <p:spPr>
          <a:xfrm>
            <a:off x="7358040" y="0"/>
            <a:ext cx="1785960" cy="1828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18288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Comic Sans MS"/>
              </a:rPr>
              <a:t>ребенку хочется выделиться, противопостави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Comic Sans MS"/>
              </a:rPr>
              <a:t>себя окружающим, показаться взрослее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Comic Sans MS"/>
              </a:rPr>
              <a:t>независимее, чем он есть на самом дел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0" y="3048120"/>
            <a:ext cx="9144000" cy="1523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1" lang="ru-RU" sz="3600" spc="-1" strike="noStrike">
                <a:solidFill>
                  <a:srgbClr val="ff0066"/>
                </a:solidFill>
                <a:latin typeface="Comic Sans MS"/>
              </a:rPr>
              <a:t>Возбудимый ребенок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4572000"/>
            <a:ext cx="9144000" cy="18288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Comic Sans MS"/>
              </a:rPr>
              <a:t>такие дети, войдя в раж, уже не контролируют свои слова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Comic Sans MS"/>
              </a:rPr>
              <a:t>поступки. Зачастую они просто </a:t>
            </a:r>
            <a:r>
              <a:rPr b="1" lang="ru-RU" sz="2400" spc="-1" strike="noStrike">
                <a:solidFill>
                  <a:srgbClr val="ff0066"/>
                </a:solidFill>
                <a:latin typeface="Comic Sans MS"/>
              </a:rPr>
              <a:t>НЕ МОГУТ</a:t>
            </a:r>
            <a:r>
              <a:rPr b="1" lang="ru-RU" sz="2400" spc="-1" strike="noStrike">
                <a:solidFill>
                  <a:srgbClr val="660066"/>
                </a:solidFill>
                <a:latin typeface="Comic Sans MS"/>
              </a:rPr>
              <a:t> </a:t>
            </a:r>
            <a:r>
              <a:rPr b="0" lang="ru-RU" sz="2400" spc="-1" strike="noStrike">
                <a:solidFill>
                  <a:srgbClr val="660066"/>
                </a:solidFill>
                <a:latin typeface="Comic Sans MS"/>
              </a:rPr>
              <a:t>сдержаться. Э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Comic Sans MS"/>
              </a:rPr>
              <a:t>не капризы, а болезнь. И педагогические приемы в данн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Comic Sans MS"/>
              </a:rPr>
              <a:t>случае необходимо сочетать с лечением у врача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1981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ff33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Comic Sans MS"/>
              </a:rPr>
              <a:t>Недостаток  любв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Comic Sans MS"/>
              </a:rPr>
              <a:t>со стороны взрослых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0" y="1981080"/>
            <a:ext cx="9144000" cy="48769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fffc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660066"/>
                </a:solidFill>
                <a:latin typeface="Comic Sans MS"/>
              </a:rPr>
              <a:t>Ребенок пытается всеми доступными ему способами привлечь к себе интерес родителей, которые вечно заня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660066"/>
                </a:solidFill>
                <a:latin typeface="Comic Sans MS"/>
              </a:rPr>
              <a:t>своей работой, бытовыми проблемами, личными взаимоотношениями и т.д.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9" descr="c5370abbd11716e261b51fa51eb202f6"/>
          <p:cNvPicPr/>
          <p:nvPr/>
        </p:nvPicPr>
        <p:blipFill>
          <a:blip r:embed="rId1"/>
          <a:stretch/>
        </p:blipFill>
        <p:spPr>
          <a:xfrm>
            <a:off x="6019920" y="4532400"/>
            <a:ext cx="2971800" cy="23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3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ff33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Comic Sans MS"/>
              </a:rPr>
              <a:t>Неудачи ребенк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0" y="1371600"/>
            <a:ext cx="9144000" cy="54864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fffc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660066"/>
                </a:solidFill>
                <a:latin typeface="Comic Sans MS"/>
              </a:rPr>
              <a:t>ребенок регулярно слышит критику в свой адрес, особенно если эта критика направлена не на поступки, а на личность ребенка. Такие оценки со стороны взрослых ребенок воспринимает, как признание того, что его не любят, потому что он плохой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660066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7" descr="1318627880_7068"/>
          <p:cNvPicPr/>
          <p:nvPr/>
        </p:nvPicPr>
        <p:blipFill>
          <a:blip r:embed="rId1"/>
          <a:stretch/>
        </p:blipFill>
        <p:spPr>
          <a:xfrm>
            <a:off x="5867280" y="4400640"/>
            <a:ext cx="327672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0" y="0"/>
            <a:ext cx="9144000" cy="1981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ff33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Comic Sans MS"/>
              </a:rPr>
              <a:t>Протест проти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Comic Sans MS"/>
              </a:rPr>
              <a:t>родительского диктат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0" y="1981080"/>
            <a:ext cx="9144000" cy="48769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fffc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Comic Sans MS"/>
              </a:rPr>
              <a:t>   </a:t>
            </a:r>
            <a:r>
              <a:rPr b="1" lang="ru-RU" sz="3200" spc="-1" strike="noStrike">
                <a:solidFill>
                  <a:srgbClr val="660066"/>
                </a:solidFill>
                <a:latin typeface="Comic Sans MS"/>
              </a:rPr>
              <a:t>насколько возможно, давайте ребенку возможность самому принимать некоторые решения</a:t>
            </a:r>
            <a:r>
              <a:rPr b="0" lang="ru-RU" sz="3200" spc="-1" strike="noStrike">
                <a:solidFill>
                  <a:srgbClr val="660066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9" descr="watermark"/>
          <p:cNvPicPr/>
          <p:nvPr/>
        </p:nvPicPr>
        <p:blipFill>
          <a:blip r:embed="rId1"/>
          <a:stretch/>
        </p:blipFill>
        <p:spPr>
          <a:xfrm>
            <a:off x="6607080" y="3333600"/>
            <a:ext cx="253692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3"/>
          <p:cNvSpPr/>
          <p:nvPr/>
        </p:nvSpPr>
        <p:spPr>
          <a:xfrm>
            <a:off x="0" y="0"/>
            <a:ext cx="9144000" cy="1981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ff33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Comic Sans MS"/>
              </a:rPr>
              <a:t>Желание быть похожим на кого-то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0" y="1981080"/>
            <a:ext cx="9144000" cy="48769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fffc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660066"/>
                </a:solidFill>
                <a:latin typeface="Comic Sans MS"/>
              </a:rPr>
              <a:t>Малыш отождествляет употребление ругательных слов с силой, смелостью, отвагой. В понимании ребенка, все, что делает его любимый герой – это хорошо. И чтобы казаться взрослее, увереннее в себе, многие дети начинают подражать своим кумирам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6" descr="kak-otuchit-rebenka-rugatsa-matom_002"/>
          <p:cNvPicPr/>
          <p:nvPr/>
        </p:nvPicPr>
        <p:blipFill>
          <a:blip r:embed="rId1"/>
          <a:stretch/>
        </p:blipFill>
        <p:spPr>
          <a:xfrm>
            <a:off x="5867280" y="4675320"/>
            <a:ext cx="327672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Бабич</cp:lastModifiedBy>
  <dcterms:modified xsi:type="dcterms:W3CDTF">2017-09-16T17:51:26Z</dcterms:modified>
  <cp:revision>4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