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6931-328E-45BA-A61A-EDA8576C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6CE5-9941-4929-AF5B-83055723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A179-42EE-41A2-BCD0-D3FEF2CA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1781-F956-4826-B98E-3627426D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6FED-8632-46F0-BFA2-F693522A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BE49-EDBC-41F7-99A4-41EA561A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8852-8FD7-4BB9-BE43-738BB652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7760-20E5-4978-8E9C-D1B79C24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B4F5-3B62-4D7E-ABAC-D0D1C0C6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7899-CBA7-4B26-ABCE-9AD5A0AE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96D6-6387-4AA8-80A1-CBA52A46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0E5D-DBF4-452E-A537-245210A8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0DD3-9748-49D8-BEFE-48694CC6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668A-E3A8-4D77-8F1F-FBCD2886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CEEC-0DE7-4E3C-B511-8D2FCF18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1F8C-A668-431D-A672-FAC26B78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4E64-DD08-4956-93E0-21F8E5E5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6B83-9A5E-415D-9768-E03959C5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F78E-F7B2-4264-8A41-58D9DD8F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A214-7D50-4B24-AFB5-548E4CBB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9F92-ADF5-4A0B-941A-5ABFDAA5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355-3885-4CA5-9F72-5DE53A7F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18D0-B332-4BA5-8453-761C7A6A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B276-8DDE-4305-BBB7-878FE60C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0C7E-3693-4B8A-B78B-D244B586F40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04C0-233E-46A2-BF4D-2C2BF31076C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0" y="-1447920"/>
            <a:ext cx="9144000" cy="83059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4"/>
          <p:cNvSpPr/>
          <p:nvPr/>
        </p:nvSpPr>
        <p:spPr>
          <a:xfrm>
            <a:off x="1523880" y="60948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Почему ребенок начинает сквернословить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как от этого избавить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648320" y="58672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004d"/>
                </a:solidFill>
                <a:latin typeface="Arial"/>
              </a:rPr>
              <a:t>Бабич Яни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004d"/>
                </a:solidFill>
                <a:latin typeface="Arial"/>
              </a:rPr>
              <a:t>Педагог - психолог МБДОУ д/с № 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ff33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Детские коллективы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0" y="1981080"/>
            <a:ext cx="9144000" cy="4876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В детском саду, во дворе, в развивающих кружках, в спортивных секциях.  Особенно сложно бывает новичкам, сквернословие становится методом самоутвер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nid03"/>
          <p:cNvPicPr/>
          <p:nvPr/>
        </p:nvPicPr>
        <p:blipFill>
          <a:blip r:embed="rId1"/>
          <a:stretch/>
        </p:blipFill>
        <p:spPr>
          <a:xfrm>
            <a:off x="53341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ff33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Как с этим бороться? </a:t>
            </a: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0" y="1371600"/>
            <a:ext cx="9144000" cy="4876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объясн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проявите к ребёнку больше внимания, забо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снимите ограничения, которые уже не соответствуют его возрас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создайте благоприятную атмосферу в семь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помогите добиться успеха в какой-либо сфере 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научите ребенка нескольким словам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описывающим чувства (я злюсь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расстроен, сержусь, я в гнев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контролируйте собственную речь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 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kak_otuchit_rebenka_rugatsya_matom_fd_readmas"/>
          <p:cNvPicPr/>
          <p:nvPr/>
        </p:nvPicPr>
        <p:blipFill>
          <a:blip r:embed="rId1"/>
          <a:stretch/>
        </p:blipFill>
        <p:spPr>
          <a:xfrm>
            <a:off x="6095880" y="38098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380880" y="1676520"/>
            <a:ext cx="563904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СПАСИБ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Источник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ce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66"/>
                </a:solidFill>
                <a:latin typeface="Comic Sans MS"/>
              </a:rPr>
              <a:t>ребята во дворе, в детском саду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66"/>
                </a:solidFill>
                <a:latin typeface="Comic Sans MS"/>
              </a:rPr>
              <a:t>взрослые фильмы, телепередач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66"/>
                </a:solidFill>
                <a:latin typeface="Comic Sans MS"/>
              </a:rPr>
              <a:t>и даже мульти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66"/>
                </a:solidFill>
                <a:latin typeface="Comic Sans MS"/>
              </a:rPr>
              <a:t>СЕМЬЯ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F3s65qP5n4"/>
          <p:cNvPicPr/>
          <p:nvPr/>
        </p:nvPicPr>
        <p:blipFill>
          <a:blip r:embed="rId1"/>
          <a:stretch/>
        </p:blipFill>
        <p:spPr>
          <a:xfrm>
            <a:off x="5257800" y="3657600"/>
            <a:ext cx="36576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33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    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«НЕХОРОШИЕ СЛОВА»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11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сквернословие (нецензурные выражен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11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ругательные и грубые слова (дрянь, сволочь, мерзавец, дерьмо и т.д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11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слова, которые унижают и оскорбляют человека (кретин, болван, дурак и т.д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11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жаргонные  или сленговы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В раннем детстве (примерно до 4 лет)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1828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ребенок чаще всего употребляет бранные слова неосознанно, не понимая, что это плохо. Он просто копирует поведение окружающих его людей, героев фильмов и телеперед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2"/>
          <p:cNvSpPr/>
          <p:nvPr/>
        </p:nvSpPr>
        <p:spPr>
          <a:xfrm>
            <a:off x="0" y="2666880"/>
            <a:ext cx="914400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Начиная с 4 – 5 летнего возраста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0" y="3429000"/>
            <a:ext cx="9144000" cy="2819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у детей формируются нравственно-этические грани личности, появляется </a:t>
            </a: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чувство вины</a:t>
            </a: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 за совершенные неблаговидные поступки. Для ребенка важно одобрение со стороны взрослых и, наоборот, осуждение каких-то его дейст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вызывает </a:t>
            </a: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страх </a:t>
            </a: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несоответств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общепринятым нормам пове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Бранные слова в речи ребенка"/>
          <p:cNvPicPr/>
          <p:nvPr/>
        </p:nvPicPr>
        <p:blipFill>
          <a:blip r:embed="rId1"/>
          <a:stretch/>
        </p:blipFill>
        <p:spPr>
          <a:xfrm>
            <a:off x="6400800" y="5003640"/>
            <a:ext cx="255276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Ребенок-демонстрант </a:t>
            </a:r>
            <a:br>
              <a:rPr sz="3600"/>
            </a:b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3" name="Picture 6" descr="2569_html_m29766d31"/>
          <p:cNvPicPr/>
          <p:nvPr/>
        </p:nvPicPr>
        <p:blipFill>
          <a:blip r:embed="rId1"/>
          <a:stretch/>
        </p:blipFill>
        <p:spPr>
          <a:xfrm>
            <a:off x="7358040" y="0"/>
            <a:ext cx="1785960" cy="1828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18288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ребенку хочется выделиться, противопостав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себя окружающим, показаться взросле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независимее, чем он есть на самом де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304812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Возбудимый ребенок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4572000"/>
            <a:ext cx="9144000" cy="18288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такие дети, войдя в раж, уже не контролируют свои слов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поступки. Зачастую они просто </a:t>
            </a: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НЕ МОГУТ</a:t>
            </a: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 </a:t>
            </a: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сдержаться. Э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не капризы, а болезнь. И педагогические приемы в дан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случае необходимо сочетать с лечением у врач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9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ff33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Недостаток  любв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со стороны взрослых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0" y="1981080"/>
            <a:ext cx="9144000" cy="4876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Ребенок пытается всеми доступными ему способами привлечь к себе интерес родителей, которые вечно заня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своей работой, бытовыми проблемами, личными взаимоотношениями и т.д.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9" descr="c5370abbd11716e261b51fa51eb202f6"/>
          <p:cNvPicPr/>
          <p:nvPr/>
        </p:nvPicPr>
        <p:blipFill>
          <a:blip r:embed="rId1"/>
          <a:stretch/>
        </p:blipFill>
        <p:spPr>
          <a:xfrm>
            <a:off x="6019920" y="4532400"/>
            <a:ext cx="297180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ff33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Неудачи ребен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ребенок регулярно слышит критику в свой адрес, особенно если эта критика направлена не на поступки, а на личность ребенка. Такие оценки со стороны взрослых ребенок воспринимает, как признание того, что его не любят, потому что он плохой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1318627880_7068"/>
          <p:cNvPicPr/>
          <p:nvPr/>
        </p:nvPicPr>
        <p:blipFill>
          <a:blip r:embed="rId1"/>
          <a:stretch/>
        </p:blipFill>
        <p:spPr>
          <a:xfrm>
            <a:off x="5867280" y="440064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ff33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Протест проти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родительского диктат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0" y="1981080"/>
            <a:ext cx="9144000" cy="4876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насколько возможно, давайте ребенку возможность самому принимать некоторые решения</a:t>
            </a: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watermark"/>
          <p:cNvPicPr/>
          <p:nvPr/>
        </p:nvPicPr>
        <p:blipFill>
          <a:blip r:embed="rId1"/>
          <a:stretch/>
        </p:blipFill>
        <p:spPr>
          <a:xfrm>
            <a:off x="6607080" y="3333600"/>
            <a:ext cx="253692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ff33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Желание быть похожим на кого-т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0" y="1981080"/>
            <a:ext cx="9144000" cy="4876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Малыш отождествляет употребление ругательных слов с силой, смелостью, отвагой. В понимании ребенка, все, что делает его любимый герой – это хорошо. И чтобы казаться взрослее, увереннее в себе, многие дети начинают подражать своим кумирам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kak-otuchit-rebenka-rugatsa-matom_002"/>
          <p:cNvPicPr/>
          <p:nvPr/>
        </p:nvPicPr>
        <p:blipFill>
          <a:blip r:embed="rId1"/>
          <a:stretch/>
        </p:blipFill>
        <p:spPr>
          <a:xfrm>
            <a:off x="5867280" y="4675320"/>
            <a:ext cx="32767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абич</cp:lastModifiedBy>
  <dcterms:modified xsi:type="dcterms:W3CDTF">2017-09-16T17:51:26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