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EE0D-C8B1-49B3-B27B-C0D457289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C9BB-B1CC-4905-8354-26C37B06A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2773-16C5-4B1B-8423-54903A434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2924-FA98-4974-923C-DEA120BFB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6D03A-0C52-4F97-831C-A28B6636D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2C2D3-E881-4E13-B136-523071C93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84CFA-C729-4A72-8AEE-743B6A517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4E1C3-C2AC-4DBF-BCA2-ABB3A0A40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69E53-539E-40CC-9560-4F60399AC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044BD-D06E-492A-AC07-39D0E81C4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2D3E1-7CC3-4B90-B6CC-2280BB2C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523B-C74C-44F7-95DE-0033B27B6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E49AE-A480-46B2-A113-45C13799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ADE41-CDEB-4A38-9ED3-F6B1CA51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AD748-1E91-4527-95BD-E3BE908D6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3898B-5FB2-4FB0-9195-6A4257832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F0695-0FA1-4710-9A6C-7DFE91790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FBFC8-2762-46B5-B594-EE299C2A3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2678D-1525-4840-BCA6-E4B9B56F3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CEB35-315F-4ADA-AB62-1BE40014C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9CF3C-5302-4CDA-976F-03F2746FA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441FF-4E47-4548-A2FC-25B09B5B7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18DA-C5B3-4B82-96CF-C9AE2462B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20B97-E395-4D24-81B6-659AD4A59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AFA82-2F16-40D6-93FD-58F32BC6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D4E65-AE1A-4853-974E-D5EA46E5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2E98E-1C4D-4701-B8FB-B15286C3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A66DD-3856-4A78-85C8-3DA0CB61A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CD366-F485-4ADD-9B56-783205F28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CF945-FB51-4051-A754-15B419B79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278FA-0165-49C5-A1CE-1321FDC14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1BBD0-4159-4AF2-86A1-E2E0A9936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7B869-3A39-4596-8DF9-EBB0261EF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0806-22A2-4E04-94BF-F4712C12E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FA2E7-D0EC-45F0-A073-71553FBCA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84462-5D96-4A66-8E68-7605D7755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200CE-5D9B-498F-BE65-E6844A661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30C84-640C-40B7-8756-8D14AF7F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51F44-3AF8-44CF-9C27-36F9F925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07FFE-E022-4777-A665-9A043001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8BF5E-556F-4E8F-A1F7-A8A086E39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7D09D-6C5D-4327-AA3F-5CFF31FA9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758A7-031C-40B2-9C9A-037944ED9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5BB2-A454-4906-8BA6-E06B4A6F9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65B6-D8B9-4271-9A7C-2999DC8AF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F377-7F1C-47AA-BBED-2C4F2751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0D17-4364-4263-BDE1-C98312A4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B4A4-FC9B-468C-B447-5B995704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20026-35A5-473E-8236-C321E91A30A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58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59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61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62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A7A04-7904-4B61-B0B9-60E1850356EA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6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7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8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9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0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1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2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3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4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6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7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8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9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6B5A5-A855-4C0C-BB28-7D107B03F31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63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4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65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66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7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E44A2-BB10-4168-891A-6BA22B7E8D11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1185120" y="1123560"/>
            <a:ext cx="6988680" cy="173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Открытый  урок  по  английскому  языку  на  тему  </a:t>
            </a:r>
            <a:br>
              <a:rPr sz="2800"/>
            </a:b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« Социальное  обеспечение»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3600"/>
            </a:b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11 класс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642920" y="2852280"/>
            <a:ext cx="4249800" cy="182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w  is  financial  help  distribute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tch  the  categories  of  people,  the  amount  of  financial  help  no  which  they  are  entitle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2" name="Picture 4" descr="Англ яз1"/>
          <p:cNvPicPr/>
          <p:nvPr/>
        </p:nvPicPr>
        <p:blipFill>
          <a:blip r:embed="rId1"/>
          <a:stretch/>
        </p:blipFill>
        <p:spPr>
          <a:xfrm>
            <a:off x="1187280" y="3500280"/>
            <a:ext cx="7488360" cy="261144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6"/>
          <p:cNvSpPr/>
          <p:nvPr/>
        </p:nvSpPr>
        <p:spPr>
          <a:xfrm>
            <a:off x="1042920" y="6453360"/>
            <a:ext cx="34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На содержание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Benefits Do People Receiv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35" name="Picture 5" descr="англяз4"/>
          <p:cNvPicPr/>
          <p:nvPr/>
        </p:nvPicPr>
        <p:blipFill>
          <a:blip r:embed="rId1"/>
          <a:stretch/>
        </p:blipFill>
        <p:spPr>
          <a:xfrm>
            <a:off x="966960" y="2673360"/>
            <a:ext cx="7400880" cy="325764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6"/>
          <p:cNvSpPr/>
          <p:nvPr/>
        </p:nvSpPr>
        <p:spPr>
          <a:xfrm>
            <a:off x="1547640" y="6093000"/>
            <a:ext cx="655344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Who receives these benefits? Match the columns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На содержан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дведение итогов уро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аздача индивидуальных карточек с заданиями (перевод, ответы на вопросы,  сравнение систем социального обеспечения в Великобритании и России, формулировка своего вывода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ценивание знаний учащихся, полученных на урок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бъяснение учителем домашнего задани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а содержани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6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7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Литератур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.П.Кузовлев и др. учебник «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glish 10-11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», Просвещение, 201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.Д.Комаровская «Социальное обеспечение в Великобритании», Книжный дом «Университет», 201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се фото и схемы сканированы из учебника В.П.Кузовлева и др. учебник «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glish 10-11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», Просвещение, 201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WordArt 5"/>
          <p:cNvSpPr txBox="1"/>
          <p:nvPr/>
        </p:nvSpPr>
        <p:spPr>
          <a:xfrm>
            <a:off x="1835280" y="836640"/>
            <a:ext cx="5976720" cy="35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урок!</a:t>
            </a:r>
            <a:endParaRPr b="0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42" name="Picture 6" descr="CAERMBA5"/>
          <p:cNvPicPr/>
          <p:nvPr/>
        </p:nvPicPr>
        <p:blipFill>
          <a:blip r:embed="rId1"/>
          <a:stretch/>
        </p:blipFill>
        <p:spPr>
          <a:xfrm>
            <a:off x="3419640" y="4292640"/>
            <a:ext cx="2665080" cy="23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одержа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Цели  уро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Задачи  уро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Фонетическая  заряд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4" action="ppaction://hlinksldjump"/>
              </a:rPr>
              <a:t>Речевая  заряд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5" action="ppaction://hlinksldjump"/>
              </a:rPr>
              <a:t>Объяснение  нового  материал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дведение итого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омашнее задан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Цели уро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Знакомство  с  системами  социального  обеспечения  Великобритании  и  Соединенных  Штатов  Америк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Дальнейшее  развитие  речевой  компетенции  по  теме  «Социальное  обеспечение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Увеличение  объема  знаний  о  социокультурной  специфике  стран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Формирование  умений  общее  и  специфическое  в  культуре  родной  страны  и  стран  изучаемого  язык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азвитие  и  воспитание  способности  к  самостоятельному  изучению  иностранного  язык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а содержани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8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дач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826920" y="2636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овершенствование  речевых  навыков  на  тему  « Социальные  пособия  в  Великобритании  и  Соединенных  Штатах  Америки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азвивать  умение  делать выводы  из  прочитанного  текста,  прослушанного  отрывка  текст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азвивать  умение  учащихся  работать  с  графикам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вторить  числительные  и  процентные  выраже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а содержани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лан  уро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рганизационный   момент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Фонетическая  зарядк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ечевая  зарядк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Чтение  текста  с  общим  пониманием  прочитанного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Аудирование  текста  с  дальнейшим  составлением  схемы  распределения  пособий  в  Великобритани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Формулировка выводов по распределению социальных пособий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одведение  итогов  урок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бъяснение  домашнего  задани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1033920" y="832680"/>
            <a:ext cx="737388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рганизационный  момент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ступительное  слово  учителя, настраивающее  учащихся  на  рабочий  лад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ыступление  дежурного  ученика  (выявление  отсутствующих,  готовность  к  уроку)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бъявление  учителем  темы  и  целей  урока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(Продолжительность  оргмомента 5  минут. 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899280" y="76428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Фонетическая  зарядка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[r]-granny,  parents,  grandparents,  proper,  property,  problem,  right,  retired,  receive,  security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[w]-widow,  to  be  widowed,  we,  way,  work,    warm,  woman,  welfare,  what,  when,  why,  wonder,  while,  well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[t]-fact,  in  spite  of,  despite  of,  payment,  righ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а содержан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ечевая  заряд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611208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66"/>
                </a:solidFill>
                <a:latin typeface="Arial"/>
              </a:rPr>
              <a:t>Учитель:</a:t>
            </a:r>
            <a:r>
              <a:rPr b="0" lang="en-US" sz="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Answer  the  question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              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Whom  do    we  call  the  elderly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             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Whom  do  we  call  the  widowed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              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Whom  do  we  call  the unemployed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Whom  do  we  call  the  retired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Whom  do  we  call  the  disabled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              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Whom  do  we  call  the  sick?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When  can  old  people  get  pensions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              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Who  gets  pensions  in  our  country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What  benefits  does  your  family  get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                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What  is  average  pension  in  Russia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На содержан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3366"/>
                </a:solidFill>
                <a:latin typeface="Arial"/>
              </a:rPr>
              <a:t>                 </a:t>
            </a:r>
            <a:endParaRPr b="0" lang="en-US" sz="7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5" name="Picture 4" descr="англ яз3"/>
          <p:cNvPicPr/>
          <p:nvPr/>
        </p:nvPicPr>
        <p:blipFill>
          <a:blip r:embed="rId1"/>
          <a:stretch/>
        </p:blipFill>
        <p:spPr>
          <a:xfrm>
            <a:off x="6156360" y="1052640"/>
            <a:ext cx="1095480" cy="17859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англяз7"/>
          <p:cNvPicPr/>
          <p:nvPr/>
        </p:nvPicPr>
        <p:blipFill>
          <a:blip r:embed="rId2"/>
          <a:stretch/>
        </p:blipFill>
        <p:spPr>
          <a:xfrm>
            <a:off x="7380360" y="2997360"/>
            <a:ext cx="1442880" cy="14792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8" descr="англяз10"/>
          <p:cNvPicPr/>
          <p:nvPr/>
        </p:nvPicPr>
        <p:blipFill>
          <a:blip r:embed="rId3"/>
          <a:stretch/>
        </p:blipFill>
        <p:spPr>
          <a:xfrm>
            <a:off x="6588000" y="4653000"/>
            <a:ext cx="1494000" cy="193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2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2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8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8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8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8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бота  с  новым  материалом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83756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удирование  с  целью  извлечения  информации  и  формулирования  выводов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ослушивание  текста  сопровождается  показом  схемы  и  графика  (прилагаются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тветы  на  вопросы  учителя  с  целью  контроля  понимания  прослушанного  текста (построение схемы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Чтение  текста в учебнике упражнение 3 страница 156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тветы на вопросы учителя по прочитанному тексту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одготовка  мини  диалогов  по  прослушанному   тексту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ыполнение  упражнений  для  закрепления  нового  лексического  и  страноведческого  материал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а содержан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0T12:31:37Z</dcterms:created>
  <dc:creator>Ученик</dc:creator>
  <dc:description/>
  <dc:language>en-US</dc:language>
  <cp:lastModifiedBy>Тамара</cp:lastModifiedBy>
  <dcterms:modified xsi:type="dcterms:W3CDTF">2016-09-18T15:39:48Z</dcterms:modified>
  <cp:revision>17</cp:revision>
  <dc:subject/>
  <dc:title>Открытый  урок  по  английскому  языку  на  тему  « Социальное  обеспечение»  </dc:title>
</cp:coreProperties>
</file>