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235F-BB64-496D-B35F-911BE223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4331-05D8-48AA-846E-D74E7863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623B-2315-42F1-A8D8-C80C373F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1FA-994F-490B-B20E-18EF0E7B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952C-C9BE-4023-8073-278CF5C0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A1DF-5633-44F6-9655-A35E1B6F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D290-66C6-4039-B0BA-BC30258E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3AA2-1AED-469D-B384-1B314403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BAD4-00AF-451C-93B0-9CBE6183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D10E-B25C-42F4-9686-AF81D6DC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3E3F-92B2-4FC5-9266-5E5E8140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94D3-138B-46F5-9D6E-2B7EF565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7F80-69D3-4BB3-A7F2-4C0F86A0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33A9-BA15-47C2-8317-9003C290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A05C-43BB-4E41-B763-E0651004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2234-C78B-42D1-8AE8-8A1D9EAA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72EB-4824-4ABF-A159-CA5BE413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7C82C-770B-41C3-8293-3485CBDB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01BE2-171C-4A85-86DD-80BD8727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7F022-7CD9-4304-A21E-55F038C3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0CA9A-8486-4C55-A6BB-A03684AF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B4B77-41F8-4465-8E33-077D5B26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B47-3D95-468D-8854-C47D672E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BAAF7-64EA-41BC-9E34-EA5CCCB7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C5559-8BCA-4DBF-98A3-D7033B5E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398E3-6748-423F-9948-67A18EE3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6D9B8-803C-42E0-BDF3-372206CF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40E0C-D29C-40D4-A9DF-CE0A54F2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209AD-C946-4496-B499-20FF5717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C31DF-F295-419D-A013-384700FA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D815C-80E1-4357-BB38-66211F97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18E81-515B-4CC6-8D55-4CD2D2C3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8123A-B332-49F9-8D8B-FAC7E95E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7D2-8C9D-4421-9EB2-45B73EBF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6D818-80C6-4275-A695-0472C5E9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CFE55-4017-4480-9192-F50EEEE9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42594-1686-47F4-A2C8-548C0A1A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A15C3-ED6C-4DD9-86AB-60C72B36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F8375-4400-4269-82A1-891AC1D7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CD5FE-CF62-4740-A08F-2B737333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95633-01C4-46CD-8DB5-3DE70694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FB512-0990-447B-9E47-CC46B912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845FA-1D9B-430A-8888-E3D66BCC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E58-0A95-4597-9B04-9F1AB145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E8AA-3558-44C4-8602-C3429D35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491-7855-4E60-A372-D9C79C54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EEF1-32EA-4471-A0D0-48D36852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9A7D-EF2B-4091-95BF-1530917F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718A-417A-45F9-B761-1F702908048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7C92-D62B-4E23-A9AB-9B4A19ADF8F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6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8226-C580-4AF2-8ACF-D9ECDFDF904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6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6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A22D-EC47-4FCB-9C90-3EEA625C702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185120" y="1123560"/>
            <a:ext cx="6988680" cy="173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ткрытый  урок  по  английскому  языку  на  тему  </a:t>
            </a:r>
            <a:br>
              <a:rPr sz="2800"/>
            </a:b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« Социальное  обеспечение»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1 класс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642920" y="2852280"/>
            <a:ext cx="4249800" cy="18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 is  financial  help  distribut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tch  the  categories  of  people,  the  amount  of  financial  help  no  which  they  are  entitl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2" name="Picture 4" descr="Англ яз1"/>
          <p:cNvPicPr/>
          <p:nvPr/>
        </p:nvPicPr>
        <p:blipFill>
          <a:blip r:embed="rId1"/>
          <a:stretch/>
        </p:blipFill>
        <p:spPr>
          <a:xfrm>
            <a:off x="1187280" y="3500280"/>
            <a:ext cx="7488360" cy="26114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1042920" y="6453360"/>
            <a:ext cx="34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 содержан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Benefits Do People Receiv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5" name="Picture 5" descr="англяз4"/>
          <p:cNvPicPr/>
          <p:nvPr/>
        </p:nvPicPr>
        <p:blipFill>
          <a:blip r:embed="rId1"/>
          <a:stretch/>
        </p:blipFill>
        <p:spPr>
          <a:xfrm>
            <a:off x="966960" y="2673360"/>
            <a:ext cx="7400880" cy="32576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6"/>
          <p:cNvSpPr/>
          <p:nvPr/>
        </p:nvSpPr>
        <p:spPr>
          <a:xfrm>
            <a:off x="1547640" y="6093000"/>
            <a:ext cx="65534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o receives these benefits? Match the column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На содерж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дведение итогов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дача индивидуальных карточек с заданиями (перевод, ответы на вопросы,  сравнение систем социального обеспечения в Великобритании и России, формулировка своего вывода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ценивание знаний учащихся, полученных на урок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бъяснение учителем домашнего зада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содержа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итератур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.П.Кузовлев и др. учебник «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glish 10-11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», Просвещение, 20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Д.Комаровская «Социальное обеспечение в Великобритании», Книжный дом «Университет», 20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се фото и схемы сканированы из учебника В.П.Кузовлева и др. учебник «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glish 10-11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», Просвещение, 20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5"/>
          <p:cNvSpPr txBox="1"/>
          <p:nvPr/>
        </p:nvSpPr>
        <p:spPr>
          <a:xfrm>
            <a:off x="1835280" y="836640"/>
            <a:ext cx="597672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!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2" name="Picture 6" descr="CAERMBA5"/>
          <p:cNvPicPr/>
          <p:nvPr/>
        </p:nvPicPr>
        <p:blipFill>
          <a:blip r:embed="rId1"/>
          <a:stretch/>
        </p:blipFill>
        <p:spPr>
          <a:xfrm>
            <a:off x="3419640" y="4292640"/>
            <a:ext cx="266508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держ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Цели  ур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Задачи  ур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Фонетическая  заряд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Речевая  заряд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Объяснение  нового  материа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дведение итог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комство  с  системами  социального  обеспечения  Великобритании  и  Соединенных  Штатов  Америк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альнейшее  развитие  речевой  компетенции  по  теме  «Социальное  обеспечение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величение  объема  знаний  о  социокультурной  специфике  стран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Формирование  умений  общее  и  специфическое  в  культуре  родной  страны  и  стран  изучаемого  язы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витие  и  воспитание  способности  к  самостоятельному  изучению  иностранного  язы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 содержани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26920" y="2636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вершенствование  речевых  навыков  на  тему  « Социальные  пособия  в  Великобритании  и  Соединенных  Штатах  Америки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вивать  умение  делать выводы  из  прочитанного  текста,  прослушанного  отрывка  текс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вивать  умение  учащихся  работать  с  графика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вторить  числительные  и  процентные  выраж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содержа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лан 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рганизационный   момен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Фонетическая  заряд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ечевая  заряд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Чтение  текста  с  общим  пониманием  прочитанног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удирование  текста  с  дальнейшим  составлением  схемы  распределения  пособий  в  Великобритан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Формулировка выводов по распределению социальных пособ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дведение  итогов  уро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яснение  домашнего  зада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033920" y="832680"/>
            <a:ext cx="73738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онный  момен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ступительное  слово  учителя, настраивающее  учащихся  на  рабочий  ла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ступление  дежурного  ученика  (выявление  отсутствующих,  готовность  к  уроку)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бъявление  учителем  темы  и  целей  урока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Продолжительность  оргмомента 5  минут.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99280" y="764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Фонетическая  зарядк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[r]-granny,  parents,  grandparents,  proper,  property,  problem,  right,  retired,  receive,  security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[w]-widow,  to  be  widowed,  we,  way,  work,    warm,  woman,  welfare,  what,  when,  why,  wonder,  while,  well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[t]-fact,  in  spite  of,  despite  of,  payment,  righ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 содерж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чевая  заряд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61120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66"/>
                </a:solidFill>
                <a:latin typeface="Arial"/>
              </a:rPr>
              <a:t>Учитель:</a:t>
            </a: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nswer  the  question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om  do    we  call  the  elderly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om  do  we  call  the  widowed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om  do  we  call  the unemployed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om  do  we  call  the  retired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om  do  we  call  the  disabled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om  do  we  call  the  sick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en  can  old  people  get  pension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o  gets  pensions  in  our  country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at  benefits  does  your  family  get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at  is  average  pension  in  Russia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 содерж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endParaRPr b="0" lang="en-US" sz="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5" name="Picture 4" descr="англ яз3"/>
          <p:cNvPicPr/>
          <p:nvPr/>
        </p:nvPicPr>
        <p:blipFill>
          <a:blip r:embed="rId1"/>
          <a:stretch/>
        </p:blipFill>
        <p:spPr>
          <a:xfrm>
            <a:off x="6156360" y="1052640"/>
            <a:ext cx="1095480" cy="1785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англяз7"/>
          <p:cNvPicPr/>
          <p:nvPr/>
        </p:nvPicPr>
        <p:blipFill>
          <a:blip r:embed="rId2"/>
          <a:stretch/>
        </p:blipFill>
        <p:spPr>
          <a:xfrm>
            <a:off x="7380360" y="2997360"/>
            <a:ext cx="1442880" cy="1479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англяз10"/>
          <p:cNvPicPr/>
          <p:nvPr/>
        </p:nvPicPr>
        <p:blipFill>
          <a:blip r:embed="rId3"/>
          <a:stretch/>
        </p:blipFill>
        <p:spPr>
          <a:xfrm>
            <a:off x="6588000" y="4653000"/>
            <a:ext cx="1494000" cy="19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 с  новым  материалом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удирование  с  целью  извлечения  информации  и  формулирования  вывод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слушивание  текста  сопровождается  показом  схемы  и  графика  (прилагаютс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тветы  на  вопросы  учителя  с  целью  контроля  понимания  прослушанного  текста (построение схемы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Чтение  текста в учебнике упражнение 3 страница 15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тветы на вопросы учителя по прочитанному текст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дготовка  мини  диалогов  по  прослушанному   текст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ыполнение  упражнений  для  закрепления  нового  лексического  и  страноведческого  материал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содерж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2:31:37Z</dcterms:created>
  <dc:creator>Ученик</dc:creator>
  <dc:description/>
  <dc:language>en-US</dc:language>
  <cp:lastModifiedBy>Тамара</cp:lastModifiedBy>
  <dcterms:modified xsi:type="dcterms:W3CDTF">2016-09-18T15:39:48Z</dcterms:modified>
  <cp:revision>17</cp:revision>
  <dc:subject/>
  <dc:title>Открытый  урок  по  английскому  языку  на  тему  « Социальное  обеспечение»  </dc:title>
</cp:coreProperties>
</file>