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A21-89AD-47D2-BBD4-36AB8761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8A3-BCC3-4972-8D94-05995FBE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FFC-49AB-416B-B999-122C5D64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AC5-FD4E-450C-B19D-71C46EFA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77F-CAA8-4C75-B4A7-F5A08A25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EC2-EC1E-4B18-8931-0BD67128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D9E-90D1-455F-9BF6-ECA76064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A3C-27E1-4CE0-A237-18356611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2BE-729E-4C33-A6A4-9B6F5BEF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70F-C983-4B4E-A6BC-1227EAE5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4B3-7076-4FAA-8FE7-31C4E643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B53-EC39-4193-A6F4-3CA11FFB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89FC-81CE-41B1-8F5E-021CB852E8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Times New Roman"/>
              </a:rPr>
              <a:t>«Рана моя не заживала никогда…»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80920" y="3885840"/>
            <a:ext cx="4496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дьба Маргариты Тучковой, вдовы генерала Александра Тучкова, героя Отечественной войны 1812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3809880"/>
            <a:ext cx="2019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Вы побеждали и люб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юбовь и сабли острие —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весело переход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небытие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«Сердце моё почуяло Бога, и я научилась покорности; но рана моя не заживала никогда…»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85345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5748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244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0132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71280"/>
            <a:ext cx="761976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517920" cy="4300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24280" y="2209680"/>
            <a:ext cx="4038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«Если бы я мог показать Вам своё сердце, вы увидели бы там Ваше имя»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952520" y="1143000"/>
            <a:ext cx="35816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«Милосердие Господне со мной, Его любовь — всё моё упование, тем и кончу»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248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265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Добрая мысль — посвятить храм Богу на месте, где многие тысячи воинов за Веру, Царя и Отечество положили свою временную жизнь в надежде принять жизнь вечну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Мы поставили памятник чугунный, а вы предупредили нас, поставив бессмертный христианский памятник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59436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1cb"/>
                </a:solidFill>
                <a:latin typeface="Times New Roman"/>
              </a:rPr>
              <a:t>Первый памятник героям Бородинской битвы 1812 г. — Спасо-Бородинский женский монастырь.</a:t>
            </a: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3152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4521240" cy="3391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lum contrast="-36000"/>
          </a:blip>
          <a:stretch/>
        </p:blipFill>
        <p:spPr>
          <a:xfrm>
            <a:off x="4191120" y="25146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2857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30520" y="0"/>
            <a:ext cx="56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08320" y="0"/>
            <a:ext cx="452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296280" cy="69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Times New Roman"/>
              </a:rPr>
              <a:t>Маргарита Михайловна Тучкова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42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В 1797 г. шестнадцатилетняя Маргарита Нарышкина вышла замуж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7149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39625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«Кто владеет моим сердцем? Прекрасная Маргарита!»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27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7048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2057400"/>
            <a:ext cx="4876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«Его участь решится при Бородино».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2464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2-05-15T15:23:4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