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ADF-7D1B-44E6-948F-719C5729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032-9C36-4C26-A83B-61C0DA49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C0E-9BDF-4FA3-80AE-B380A6DE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9AD-EB5F-4206-8534-0819A149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852-2208-4ED3-9C62-4EFF46C6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10E-1AE9-4331-9498-6FD85EEA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E77-E1F2-494F-9AB9-B16B08FF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905-91AF-436B-A7D9-EA690E7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327-7B05-4C92-91FE-83BCAF0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57A-500B-4403-826F-F414E38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388-43F0-43AB-BDDF-49EE764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B70-1FB4-417A-8EE7-911EAD0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8AFC-070D-47CD-91E8-F5D8F9DED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imes New Roman"/>
              </a:rPr>
              <a:t>«Рана моя не заживала никогда…»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0920" y="3885840"/>
            <a:ext cx="4496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дьба Маргариты Тучковой, вдовы генерала Александра Тучкова, героя Отечественной войны 18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2019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ы побеждали и люб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юбовь и сабли острие 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весело переход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небытие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Сердце моё почуяло Бога, и я научилась покорности; но рана моя не заживала никогда…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5345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5748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244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0132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71280"/>
            <a:ext cx="761976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517920" cy="430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2209680"/>
            <a:ext cx="4038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Если бы я мог показать Вам своё сердце, вы увидели бы там Ваше имя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952520" y="1143000"/>
            <a:ext cx="35816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Милосердие Господне со мной, Его любовь — всё моё упование, тем и кончу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248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26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Добрая мысль — посвятить храм Богу на месте, где многие тысячи воинов за Веру, Царя и Отечество положили свою временную жизнь в надежде принять жизнь веч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Мы поставили памятник чугунный, а вы предупредили нас, поставив бессмертный христианский памятни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59436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Times New Roman"/>
              </a:rPr>
              <a:t>Первый памятник героям Бородинской битвы 1812 г. — Спасо-Бородинский женский монастырь.</a:t>
            </a: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315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4521240" cy="3391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contrast="-36000"/>
          </a:blip>
          <a:stretch/>
        </p:blipFill>
        <p:spPr>
          <a:xfrm>
            <a:off x="4191120" y="2514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2857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305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8320" y="0"/>
            <a:ext cx="452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296280" cy="69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Times New Roman"/>
              </a:rPr>
              <a:t>Маргарита Михайловна Тучкова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В 1797 г. шестнадцатилетняя Маргарита Нарышкина вышла замуж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7149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96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Кто владеет моим сердцем? Прекрасная Маргарита!»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2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7048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2057400"/>
            <a:ext cx="4876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Times New Roman"/>
              </a:rPr>
              <a:t>«Его участь решится при Бородино».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246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2-05-15T15:23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