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FBBE-E68E-4141-A149-E08F18EC7B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95DE-42DB-4797-8AD6-EF71605E5B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3B1-030A-4C27-B5F4-65306D98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897-E572-4199-9E4E-68627E62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0C5C7-5D3C-4BC3-BF31-2C35350F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DC99-1175-430D-BD50-1B494E6C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7A557-C730-4AB2-8E1B-F8A02A2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778A4-7331-4F45-96D5-AB86D01F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4452D-74C3-41EF-9627-F1A90F36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08D8B-E4A2-41DF-9A5D-B97570D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E5574-5F9C-4385-8B32-B0B1AD16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9FA38-840F-40DC-AC40-0B254370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16532-1C1B-492B-8C2E-D9639E96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AFF-1017-4782-88D3-B0838571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134-8A2C-40E6-8A81-16E2F2C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2E1-CE33-49B0-8C3B-5E8586AC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EEBE-F7EC-47F1-BCFD-D013B3C8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ACCB-6117-4341-9D21-36FC264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4E19-8FF6-41B1-AD3E-52FA42FA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0E86-5085-4E5B-9B8F-274D7D2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720-DDE4-4AF3-91DE-A5E44A5D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AD5F-23EC-4B3B-8FCA-9F2688DC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FB5-973A-4CA2-B3C4-B167F992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79D7-8580-4E36-91A3-3978D46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34FF-6C6F-4A2A-BA40-2117431B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2C80-1630-404B-9633-F29AF14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0019-F0F4-4B01-91D9-7836F4DB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17BC-1A65-4885-BBFC-8D0991AB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32FF-2A2C-4DEF-81BC-E8A7B22D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9CF9-DBF9-451F-B004-CBD23E1E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F13B-35D8-4AB7-826C-A183D48B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4688-1F5A-4224-B909-86DD390A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0DAB-906F-4C21-A6B9-F96887F0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01B-396B-4CCB-A64A-B132169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9C6E-98BA-402A-8536-33B6A22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DEFF-2D0D-4969-B883-14E72259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C5EF-607A-4344-9932-5D34002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D76F-4D66-4FDA-856A-52569EC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76DC-CF55-4D88-8338-097B3333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4592-286A-46D6-8799-E3285699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D7E1-911B-4A7E-A857-3C842F00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0186-0502-4E4C-A31C-E9162806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A703-A4F5-4DCB-A005-1C6A0E56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D70C-CC7C-46BF-BCC1-029498E8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A96-7A77-42EC-975E-690F443A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CC8F-4DDF-4AD3-A5AF-1C5A1059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0896-6A35-4E8D-89C2-7DE630F4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4483-FE37-4F6D-A30C-3D5AC0C9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E200-EB29-4830-86F8-394A628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0DA9-0765-4423-9172-62AB2E5C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C89B-8D1E-4352-9DEB-CBB9624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3A23-1A58-47B2-AFA6-94BD2F80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8438-DC94-4B0D-91F8-5A8D84AF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BD44-5756-42EA-8B18-C327646E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98F3E-14CF-4851-9662-EAB92768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1EF-7264-4BE0-8787-3DA0F514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D6C1-721D-4D22-8137-FC4DBC85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13A33-6660-4E61-A50D-EAEEDA74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C667-219A-4E3D-BA7E-7BC727C7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A423-A19C-420C-92D5-610F1234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EA2ED-D48A-4366-B99E-20198B48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0F52-B488-434E-8ED3-EDCD777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C7ED0-AA57-4895-91FD-534771B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11952-0A3C-4EFD-813F-2B254D83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A641-C766-4956-A2CB-FBCB2C94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06DE-1178-430F-B6F6-4EF33184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E68-1FEE-4BD7-AC5F-3AFB81D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9C3E-2F29-4D4F-AEA2-C1458096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123F-4546-4265-AF8B-89BE7A6A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F2216-23B7-465F-B86E-3E9ADC9F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B0A54-3B5A-4FCF-89B6-FC1E1A2D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9669-2695-4C1B-B4A6-5B25599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4474-868B-4E4D-B0E9-552CA6C2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A93E-6E4A-4B6E-8A66-DCEF93F8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67CD7-1760-4D3A-8D7B-F53A930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90001-D35C-459B-A910-C1B502C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3F8B-2AA0-4724-ACE0-4BB0E6F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699-9630-4F72-AF41-D684221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B32C-59D9-4116-90D5-DE4D5B65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EBA4-227B-4AC3-A733-947FDEC2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3C93B-60A6-40BD-A906-816E91CE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587B2-4377-475B-8E37-3B428CF8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5332-5FE5-4D5E-AE3B-718DA47F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D9E8-1526-40CD-B60D-8C18F2C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12F71-C249-4166-A13D-83F4D67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6081-5547-44A6-B930-4963312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054F9-13F6-4940-81DB-F73667E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F6C5-04B4-4F46-9978-245CAB04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F8A-DDB3-45C3-9860-5F144706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5598-14C5-4C1A-9976-D3F6D26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421B-C2C1-4A9B-BABE-04B39F57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E7BF-4F5E-4321-A73D-82725241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2F17-0009-415E-A507-88689B92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D16E-8FEF-4579-B0C0-F9D7F6E2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A070-43A8-49FA-B573-C5EFA160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362B-1E2F-4FFF-B80B-221ABB63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46B7D-AA53-4E71-ACB8-8084ACE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C9BD9-A615-4986-814D-6C30A62D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567C9-CD8E-4EAF-B7EB-6C76AB6F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865-114C-4722-AECD-227E71E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6A4A5-20EE-4DBA-8F9C-B5FE4A0E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F613E-D0AA-412B-883F-87B7C60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4C034-45AD-4F17-9BD8-D8382DC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5AD9B-9190-4444-8B5C-6BE8FD6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CBEE7-1E74-4D76-98B2-95A26B13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328F5-A061-4130-B945-57FEC074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3E493-EC20-45DC-983C-F07DBF69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65B56-CECE-4FC8-9AA7-7EDD6F75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BC6E3-B337-46BE-BCA1-43230370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94AF9-DD62-43BA-A823-E88A6D9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31CD-87CF-4985-A9B2-137269F595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5590-C8FF-48FA-A48A-30FFEE4D60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AA7-E181-4CC3-A195-D67E48EEBE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C39-77D6-46FD-A7E9-E73B3E501F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8F03-010E-42EF-9BC5-04342C5438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E7E3-0DDE-4D89-AF9B-E5914FA426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0E6-ECCA-4F6F-9AE2-03B0206979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294-E6EA-4EC7-9914-D516629A98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9446-BEF3-422E-A1CB-82A844F076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334800" y="1554120"/>
            <a:ext cx="9856800" cy="45291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45"/>
          <p:cNvSpPr/>
          <p:nvPr/>
        </p:nvSpPr>
        <p:spPr>
          <a:xfrm flipH="1">
            <a:off x="1384200" y="798480"/>
            <a:ext cx="58802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46"/>
          <p:cNvSpPr/>
          <p:nvPr/>
        </p:nvSpPr>
        <p:spPr>
          <a:xfrm>
            <a:off x="4429080" y="549360"/>
            <a:ext cx="0" cy="187164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47"/>
          <p:cNvSpPr/>
          <p:nvPr/>
        </p:nvSpPr>
        <p:spPr>
          <a:xfrm>
            <a:off x="1384200" y="765000"/>
            <a:ext cx="0" cy="16225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49"/>
          <p:cNvSpPr/>
          <p:nvPr/>
        </p:nvSpPr>
        <p:spPr>
          <a:xfrm>
            <a:off x="228600" y="1154160"/>
            <a:ext cx="2625840" cy="892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0"/>
          <p:cNvSpPr/>
          <p:nvPr/>
        </p:nvSpPr>
        <p:spPr>
          <a:xfrm>
            <a:off x="3059280" y="1154160"/>
            <a:ext cx="2808000" cy="892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ПЕРЕДА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1"/>
          <p:cNvSpPr/>
          <p:nvPr/>
        </p:nvSpPr>
        <p:spPr>
          <a:xfrm>
            <a:off x="438120" y="2579760"/>
            <a:ext cx="2416320" cy="8920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 О З Г  челове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ситель  информ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2"/>
          <p:cNvSpPr/>
          <p:nvPr/>
        </p:nvSpPr>
        <p:spPr>
          <a:xfrm>
            <a:off x="228600" y="2313000"/>
            <a:ext cx="2309760" cy="446040"/>
          </a:xfrm>
          <a:prstGeom prst="rect">
            <a:avLst/>
          </a:prstGeom>
          <a:solidFill>
            <a:srgbClr val="f0a22e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нутренняя  пам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53"/>
          <p:cNvSpPr/>
          <p:nvPr/>
        </p:nvSpPr>
        <p:spPr>
          <a:xfrm>
            <a:off x="438120" y="3916440"/>
            <a:ext cx="2416320" cy="714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  носители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54"/>
          <p:cNvSpPr/>
          <p:nvPr/>
        </p:nvSpPr>
        <p:spPr>
          <a:xfrm>
            <a:off x="228600" y="3649680"/>
            <a:ext cx="2309760" cy="446040"/>
          </a:xfrm>
          <a:prstGeom prst="rect">
            <a:avLst/>
          </a:prstGeom>
          <a:solidFill>
            <a:srgbClr val="f0a22e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нешняя  пам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55"/>
          <p:cNvSpPr/>
          <p:nvPr/>
        </p:nvSpPr>
        <p:spPr>
          <a:xfrm>
            <a:off x="649440" y="4451400"/>
            <a:ext cx="0" cy="187164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56"/>
          <p:cNvSpPr/>
          <p:nvPr/>
        </p:nvSpPr>
        <p:spPr>
          <a:xfrm>
            <a:off x="649440" y="4986360"/>
            <a:ext cx="62856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57"/>
          <p:cNvSpPr/>
          <p:nvPr/>
        </p:nvSpPr>
        <p:spPr>
          <a:xfrm>
            <a:off x="649440" y="5254560"/>
            <a:ext cx="62856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58"/>
          <p:cNvSpPr/>
          <p:nvPr/>
        </p:nvSpPr>
        <p:spPr>
          <a:xfrm>
            <a:off x="649440" y="5610240"/>
            <a:ext cx="62856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59"/>
          <p:cNvSpPr/>
          <p:nvPr/>
        </p:nvSpPr>
        <p:spPr>
          <a:xfrm>
            <a:off x="649440" y="5967360"/>
            <a:ext cx="62856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60"/>
          <p:cNvSpPr/>
          <p:nvPr/>
        </p:nvSpPr>
        <p:spPr>
          <a:xfrm>
            <a:off x="649440" y="6323040"/>
            <a:ext cx="62856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Group 161"/>
          <p:cNvGrpSpPr/>
          <p:nvPr/>
        </p:nvGrpSpPr>
        <p:grpSpPr>
          <a:xfrm>
            <a:off x="1068480" y="4808520"/>
            <a:ext cx="1785600" cy="1692000"/>
            <a:chOff x="1068480" y="4808520"/>
            <a:chExt cx="1785600" cy="1692000"/>
          </a:xfrm>
        </p:grpSpPr>
        <p:sp>
          <p:nvSpPr>
            <p:cNvPr id="426" name="Rectangle 162"/>
            <p:cNvSpPr/>
            <p:nvPr/>
          </p:nvSpPr>
          <p:spPr>
            <a:xfrm>
              <a:off x="1068480" y="4808520"/>
              <a:ext cx="1785600" cy="267120"/>
            </a:xfrm>
            <a:prstGeom prst="rect">
              <a:avLst/>
            </a:prstGeom>
            <a:solidFill>
              <a:srgbClr val="f0a22e"/>
            </a:soli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писные  книж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63"/>
            <p:cNvSpPr/>
            <p:nvPr/>
          </p:nvSpPr>
          <p:spPr>
            <a:xfrm>
              <a:off x="1068480" y="5164560"/>
              <a:ext cx="1785600" cy="267120"/>
            </a:xfrm>
            <a:prstGeom prst="rect">
              <a:avLst/>
            </a:prstGeom>
            <a:solidFill>
              <a:srgbClr val="f0a22e"/>
            </a:soli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правочник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64"/>
            <p:cNvSpPr/>
            <p:nvPr/>
          </p:nvSpPr>
          <p:spPr>
            <a:xfrm>
              <a:off x="1068480" y="6233400"/>
              <a:ext cx="1785600" cy="267120"/>
            </a:xfrm>
            <a:prstGeom prst="rect">
              <a:avLst/>
            </a:prstGeom>
            <a:solidFill>
              <a:srgbClr val="f0a22e"/>
            </a:soli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тическая  запис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65"/>
            <p:cNvSpPr/>
            <p:nvPr/>
          </p:nvSpPr>
          <p:spPr>
            <a:xfrm>
              <a:off x="1068480" y="5877000"/>
              <a:ext cx="1785600" cy="267120"/>
            </a:xfrm>
            <a:prstGeom prst="rect">
              <a:avLst/>
            </a:prstGeom>
            <a:solidFill>
              <a:srgbClr val="f0a22e"/>
            </a:soli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гнитная  запис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66"/>
            <p:cNvSpPr/>
            <p:nvPr/>
          </p:nvSpPr>
          <p:spPr>
            <a:xfrm>
              <a:off x="1068480" y="5520600"/>
              <a:ext cx="1785600" cy="267120"/>
            </a:xfrm>
            <a:prstGeom prst="rect">
              <a:avLst/>
            </a:prstGeom>
            <a:solidFill>
              <a:srgbClr val="f0a22e"/>
            </a:soli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нциклопеди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Rectangle 167"/>
          <p:cNvSpPr/>
          <p:nvPr/>
        </p:nvSpPr>
        <p:spPr>
          <a:xfrm>
            <a:off x="3059280" y="2313000"/>
            <a:ext cx="2808000" cy="418788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68"/>
          <p:cNvSpPr/>
          <p:nvPr/>
        </p:nvSpPr>
        <p:spPr>
          <a:xfrm>
            <a:off x="6318360" y="3649680"/>
            <a:ext cx="0" cy="267336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69"/>
          <p:cNvSpPr/>
          <p:nvPr/>
        </p:nvSpPr>
        <p:spPr>
          <a:xfrm>
            <a:off x="6318360" y="4273560"/>
            <a:ext cx="63000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70"/>
          <p:cNvSpPr/>
          <p:nvPr/>
        </p:nvSpPr>
        <p:spPr>
          <a:xfrm>
            <a:off x="6318360" y="4795920"/>
            <a:ext cx="63000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71"/>
          <p:cNvSpPr/>
          <p:nvPr/>
        </p:nvSpPr>
        <p:spPr>
          <a:xfrm>
            <a:off x="6318360" y="5432400"/>
            <a:ext cx="63000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72"/>
          <p:cNvSpPr/>
          <p:nvPr/>
        </p:nvSpPr>
        <p:spPr>
          <a:xfrm>
            <a:off x="6318360" y="5815080"/>
            <a:ext cx="63000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73"/>
          <p:cNvSpPr/>
          <p:nvPr/>
        </p:nvSpPr>
        <p:spPr>
          <a:xfrm>
            <a:off x="6318360" y="6323040"/>
            <a:ext cx="630000" cy="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75">
            <a:hlinkClick r:id="rId1" action="ppaction://hlinksldjump"/>
          </p:cNvPr>
          <p:cNvSpPr/>
          <p:nvPr/>
        </p:nvSpPr>
        <p:spPr>
          <a:xfrm>
            <a:off x="6738840" y="4095720"/>
            <a:ext cx="2100240" cy="45396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76"/>
          <p:cNvSpPr/>
          <p:nvPr/>
        </p:nvSpPr>
        <p:spPr>
          <a:xfrm>
            <a:off x="6738840" y="4672080"/>
            <a:ext cx="2100240" cy="49212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е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ужд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77"/>
          <p:cNvSpPr/>
          <p:nvPr/>
        </p:nvSpPr>
        <p:spPr>
          <a:xfrm>
            <a:off x="6738840" y="6145200"/>
            <a:ext cx="2100240" cy="36504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иск  информ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78"/>
          <p:cNvSpPr/>
          <p:nvPr/>
        </p:nvSpPr>
        <p:spPr>
          <a:xfrm>
            <a:off x="6738840" y="5343480"/>
            <a:ext cx="2100240" cy="26676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79"/>
          <p:cNvSpPr/>
          <p:nvPr/>
        </p:nvSpPr>
        <p:spPr>
          <a:xfrm>
            <a:off x="6738840" y="5699160"/>
            <a:ext cx="2100240" cy="26820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80"/>
          <p:cNvSpPr/>
          <p:nvPr/>
        </p:nvSpPr>
        <p:spPr>
          <a:xfrm>
            <a:off x="3236760" y="2490840"/>
            <a:ext cx="841680" cy="712800"/>
          </a:xfrm>
          <a:prstGeom prst="rect">
            <a:avLst/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0a22e"/>
                </a:solidFill>
                <a:latin typeface="Webdings"/>
                <a:ea typeface="Webdings"/>
              </a:rPr>
              <a:t>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81"/>
          <p:cNvSpPr/>
          <p:nvPr/>
        </p:nvSpPr>
        <p:spPr>
          <a:xfrm>
            <a:off x="4211640" y="2490840"/>
            <a:ext cx="1477800" cy="712800"/>
          </a:xfrm>
          <a:prstGeom prst="rect">
            <a:avLst/>
          </a:prstGeom>
          <a:solidFill>
            <a:srgbClr val="f0a22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82"/>
          <p:cNvSpPr/>
          <p:nvPr/>
        </p:nvSpPr>
        <p:spPr>
          <a:xfrm>
            <a:off x="3132000" y="3927600"/>
            <a:ext cx="1575000" cy="1157040"/>
          </a:xfrm>
          <a:prstGeom prst="downArrow">
            <a:avLst>
              <a:gd name="adj1" fmla="val 64583"/>
              <a:gd name="adj2" fmla="val 31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а н а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а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83"/>
          <p:cNvSpPr/>
          <p:nvPr/>
        </p:nvSpPr>
        <p:spPr>
          <a:xfrm>
            <a:off x="4219560" y="5699160"/>
            <a:ext cx="1469880" cy="712800"/>
          </a:xfrm>
          <a:prstGeom prst="rect">
            <a:avLst/>
          </a:prstGeom>
          <a:solidFill>
            <a:srgbClr val="f0a22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ЕМ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84"/>
          <p:cNvSpPr/>
          <p:nvPr/>
        </p:nvSpPr>
        <p:spPr>
          <a:xfrm>
            <a:off x="3236760" y="5699160"/>
            <a:ext cx="735120" cy="712800"/>
          </a:xfrm>
          <a:prstGeom prst="rect">
            <a:avLst/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85"/>
          <p:cNvSpPr/>
          <p:nvPr/>
        </p:nvSpPr>
        <p:spPr>
          <a:xfrm>
            <a:off x="3343320" y="5788080"/>
            <a:ext cx="523800" cy="446040"/>
          </a:xfrm>
          <a:prstGeom prst="smileyFace">
            <a:avLst>
              <a:gd name="adj" fmla="val 9282"/>
            </a:avLst>
          </a:prstGeom>
          <a:solidFill>
            <a:srgbClr val="f0a22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86"/>
          <p:cNvSpPr/>
          <p:nvPr/>
        </p:nvSpPr>
        <p:spPr>
          <a:xfrm flipH="1">
            <a:off x="4638600" y="4362480"/>
            <a:ext cx="9446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87"/>
          <p:cNvSpPr/>
          <p:nvPr/>
        </p:nvSpPr>
        <p:spPr>
          <a:xfrm>
            <a:off x="4638600" y="3916440"/>
            <a:ext cx="1050840" cy="26820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88"/>
          <p:cNvSpPr/>
          <p:nvPr/>
        </p:nvSpPr>
        <p:spPr>
          <a:xfrm>
            <a:off x="3236760" y="3294000"/>
            <a:ext cx="841680" cy="355680"/>
          </a:xfrm>
          <a:prstGeom prst="rect">
            <a:avLst/>
          </a:prstGeom>
          <a:solidFill>
            <a:srgbClr val="b2b2b2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a22e"/>
                </a:solidFill>
                <a:latin typeface="Arial"/>
              </a:rPr>
              <a:t>К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89"/>
          <p:cNvSpPr/>
          <p:nvPr/>
        </p:nvSpPr>
        <p:spPr>
          <a:xfrm>
            <a:off x="4211640" y="3294000"/>
            <a:ext cx="1477800" cy="533520"/>
          </a:xfrm>
          <a:prstGeom prst="rect">
            <a:avLst/>
          </a:prstGeom>
          <a:solidFill>
            <a:srgbClr val="f0a22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ирующее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90"/>
          <p:cNvSpPr/>
          <p:nvPr/>
        </p:nvSpPr>
        <p:spPr>
          <a:xfrm>
            <a:off x="3236760" y="5254560"/>
            <a:ext cx="906480" cy="355680"/>
          </a:xfrm>
          <a:prstGeom prst="rect">
            <a:avLst/>
          </a:prstGeom>
          <a:solidFill>
            <a:srgbClr val="b2b2b2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a22e"/>
                </a:solidFill>
                <a:latin typeface="Arial"/>
              </a:rPr>
              <a:t>ДК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91"/>
          <p:cNvSpPr/>
          <p:nvPr/>
        </p:nvSpPr>
        <p:spPr>
          <a:xfrm>
            <a:off x="4211640" y="5075280"/>
            <a:ext cx="1477800" cy="534960"/>
          </a:xfrm>
          <a:prstGeom prst="rect">
            <a:avLst/>
          </a:prstGeom>
          <a:solidFill>
            <a:srgbClr val="f0a22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кодирующее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92"/>
          <p:cNvSpPr/>
          <p:nvPr/>
        </p:nvSpPr>
        <p:spPr>
          <a:xfrm>
            <a:off x="7238880" y="798480"/>
            <a:ext cx="0" cy="169380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7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a22e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18"/>
          <p:cNvSpPr/>
          <p:nvPr/>
        </p:nvSpPr>
        <p:spPr>
          <a:xfrm>
            <a:off x="34920" y="27000"/>
            <a:ext cx="75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ВИДЫ  ИНФОРМАЦИОННЫХ  ПРОЦЕ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74"/>
          <p:cNvSpPr/>
          <p:nvPr/>
        </p:nvSpPr>
        <p:spPr>
          <a:xfrm>
            <a:off x="6095880" y="2313000"/>
            <a:ext cx="2730600" cy="1514520"/>
          </a:xfrm>
          <a:prstGeom prst="rect">
            <a:avLst/>
          </a:prstGeom>
          <a:solidFill>
            <a:srgbClr val="f0a22e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п е р и р о в а н и е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ной   информаци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   определенн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ам      с    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ия       нов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 ф о р м а ц 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48"/>
          <p:cNvSpPr/>
          <p:nvPr/>
        </p:nvSpPr>
        <p:spPr>
          <a:xfrm>
            <a:off x="6108840" y="1154160"/>
            <a:ext cx="2730240" cy="892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ОБРАБОТ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rcRect l="12573" t="0" r="12662" b="88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1"/>
          <p:cNvSpPr/>
          <p:nvPr/>
        </p:nvSpPr>
        <p:spPr>
          <a:xfrm>
            <a:off x="357120" y="57168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процессе передачи информации обязательно участву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ёмник информаци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: первый передает информацию, второй её принимает. Между ними действует канал передачи информации —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нал связ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Передача информации возможна с помощью любого языка кодирования информации, понятного как источнику, так и приёмни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дирующее устройств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— устройство, предназначенное для преобразования исходного сообщения источника информации к виду, удобному для переда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кодирующее устройств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— устройство для преобразования кодированного сообщения в исходно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1"/>
          <a:srcRect l="12662" t="0" r="13284" b="110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500040" y="571680"/>
            <a:ext cx="8072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работка (преобразование) информаци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— это процесс изменения формы представления информации или её содержания. Обрабатывать можно информацию любого вида, и правила обработки могут быть самыми разнообразными. Общая схема обработки информации имеет в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rcRect l="13039" t="0" r="13017" b="96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428760" y="21420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Вывод: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1. Информация не существует сама по себе, она проявляется в информационных процесс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2. Наиболее общими информационными процессами являются сбор, преобразование, использование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3. Информационные процессы, осуществляемые по определенным информационным технологиям, составляют основу информационной 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4. Компьютер является универсальным устройством для автоматизированного выполнения информационных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18:04:36Z</dcterms:created>
  <dc:creator>WWW</dc:creator>
  <dc:description/>
  <dc:language>en-US</dc:language>
  <cp:lastModifiedBy>Love</cp:lastModifiedBy>
  <dcterms:modified xsi:type="dcterms:W3CDTF">2017-09-15T07:44:11Z</dcterms:modified>
  <cp:revision>339</cp:revision>
  <dc:subject/>
  <dc:title>Заголовок слайда отсутствует</dc:title>
</cp:coreProperties>
</file>