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7019-A374-4A57-8AE5-4B62D1840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064B-3599-4979-B10D-442F3412FB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BDD-8845-4535-B69C-E72F02CA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EBC-26E1-4A5C-BEE4-EBC1A493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0D8-199C-4A58-B749-CFE4DCFD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CFC-9412-4499-9138-5E25A187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FAA-9AAB-4367-B4ED-AC887B6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A19-3053-4599-9CDB-31FDCB14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D59-E3E5-4950-9EC6-A897BEB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2AA-A122-450F-833E-04DFC311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1BF-7B1D-47C0-8DC7-E34FD465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B51-DA6B-4F0D-8EE9-8F682ED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E64-D2E1-43BC-BB1A-D370534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383-575F-446E-BBFC-40FCCCA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00D8-A25F-496D-B91B-D343C5F71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Закон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отражения све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 зеркальном лабирин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bab_13.jpg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лоские зеркала используются во многих оптических приборах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ерископах, биноклях и т. 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6" descr="full.jpg"/>
          <p:cNvPicPr/>
          <p:nvPr/>
        </p:nvPicPr>
        <p:blipFill>
          <a:blip r:embed="rId1"/>
          <a:stretch/>
        </p:blipFill>
        <p:spPr>
          <a:xfrm>
            <a:off x="179280" y="2205000"/>
            <a:ext cx="5256360" cy="43927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40-1.jpg"/>
          <p:cNvPicPr/>
          <p:nvPr/>
        </p:nvPicPr>
        <p:blipFill>
          <a:blip r:embed="rId2"/>
          <a:stretch/>
        </p:blipFill>
        <p:spPr>
          <a:xfrm>
            <a:off x="5724360" y="2205000"/>
            <a:ext cx="25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ферические зеркала также находят широкое применение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в телескопах, прожекторах и т. 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9" descr="pzs-vm.jpg"/>
          <p:cNvPicPr/>
          <p:nvPr/>
        </p:nvPicPr>
        <p:blipFill>
          <a:blip r:embed="rId1"/>
          <a:stretch/>
        </p:blipFill>
        <p:spPr>
          <a:xfrm>
            <a:off x="395280" y="2174760"/>
            <a:ext cx="396072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10" descr="_1_~1_original.jpg"/>
          <p:cNvPicPr/>
          <p:nvPr/>
        </p:nvPicPr>
        <p:blipFill>
          <a:blip r:embed="rId2"/>
          <a:stretch/>
        </p:blipFill>
        <p:spPr>
          <a:xfrm>
            <a:off x="4643280" y="2205000"/>
            <a:ext cx="4042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11" descr="1092.jpg"/>
          <p:cNvPicPr/>
          <p:nvPr/>
        </p:nvPicPr>
        <p:blipFill>
          <a:blip r:embed="rId1"/>
          <a:stretch/>
        </p:blipFill>
        <p:spPr>
          <a:xfrm>
            <a:off x="4932360" y="692280"/>
            <a:ext cx="3960720" cy="5400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52196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шим задачи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свети дн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олодц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ысота Солнца над горизонт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5" descr="58532629_mirr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адающий луч, отраженный луч и перпендикуляр к точке падения лежат в одной плоскости. Угол падения равен углу отра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405px-Angle_svg.png"/>
          <p:cNvPicPr/>
          <p:nvPr/>
        </p:nvPicPr>
        <p:blipFill>
          <a:blip r:embed="rId1"/>
          <a:stretch/>
        </p:blipFill>
        <p:spPr>
          <a:xfrm>
            <a:off x="684360" y="3716280"/>
            <a:ext cx="806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ажение бывает зеркальным и рассеянн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13" descr="image004.jpg"/>
          <p:cNvPicPr/>
          <p:nvPr/>
        </p:nvPicPr>
        <p:blipFill>
          <a:blip r:embed="rId1"/>
          <a:stretch/>
        </p:blipFill>
        <p:spPr>
          <a:xfrm>
            <a:off x="468360" y="2852640"/>
            <a:ext cx="828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тражение света может происходить от поверхности воды, стек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6" descr="88cd0ea63da7f5e5-large.jpg"/>
          <p:cNvPicPr/>
          <p:nvPr/>
        </p:nvPicPr>
        <p:blipFill>
          <a:blip r:embed="rId1"/>
          <a:stretch/>
        </p:blipFill>
        <p:spPr>
          <a:xfrm>
            <a:off x="468360" y="2637000"/>
            <a:ext cx="4402080" cy="34765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7" descr="7736.jpg"/>
          <p:cNvPicPr/>
          <p:nvPr/>
        </p:nvPicPr>
        <p:blipFill>
          <a:blip r:embed="rId2"/>
          <a:stretch/>
        </p:blipFill>
        <p:spPr>
          <a:xfrm>
            <a:off x="5338800" y="1989000"/>
            <a:ext cx="340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зображение в плоском зеркале получается прямое, в натуральную величину, мним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6" descr="7470_3-2-1.gif"/>
          <p:cNvPicPr/>
          <p:nvPr/>
        </p:nvPicPr>
        <p:blipFill>
          <a:blip r:embed="rId1"/>
          <a:stretch/>
        </p:blipFill>
        <p:spPr>
          <a:xfrm>
            <a:off x="539640" y="206064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роме плоских зеркал бывают зеркала сферическ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9" descr="7.gif"/>
          <p:cNvPicPr/>
          <p:nvPr/>
        </p:nvPicPr>
        <p:blipFill>
          <a:blip r:embed="rId1"/>
          <a:stretch/>
        </p:blipFill>
        <p:spPr>
          <a:xfrm>
            <a:off x="468360" y="1773360"/>
            <a:ext cx="4319640" cy="453528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12" descr="www_1md_ru559633693.jpg"/>
          <p:cNvPicPr/>
          <p:nvPr/>
        </p:nvPicPr>
        <p:blipFill>
          <a:blip r:embed="rId2"/>
          <a:stretch/>
        </p:blipFill>
        <p:spPr>
          <a:xfrm>
            <a:off x="5003640" y="1773360"/>
            <a:ext cx="374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еркала – основная составная часть игрушки «Калейдоскоп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71127b18ab6a1be8b4d3f8efe3364d73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6734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540010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ак устроен калейд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6" descr="kaleidoscope_big.jpg"/>
          <p:cNvPicPr/>
          <p:nvPr/>
        </p:nvPicPr>
        <p:blipFill>
          <a:blip r:embed="rId1"/>
          <a:stretch/>
        </p:blipFill>
        <p:spPr>
          <a:xfrm>
            <a:off x="395280" y="1989000"/>
            <a:ext cx="8353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8:43:44Z</dcterms:created>
  <dc:creator>elena</dc:creator>
  <dc:description/>
  <dc:language>en-US</dc:language>
  <cp:lastModifiedBy>Elena</cp:lastModifiedBy>
  <dcterms:modified xsi:type="dcterms:W3CDTF">2017-09-13T18:53:49Z</dcterms:modified>
  <cp:revision>19</cp:revision>
  <dc:subject/>
  <dc:title>Закон  отражения света</dc:title>
</cp:coreProperties>
</file>