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634A-A38B-4E07-9639-763EB76320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AF0F-B770-4F50-87BC-87E4591AFC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2F7-E3F5-45E3-B963-1762615D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530-52E6-44A3-A76A-FC83CE7E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532-68FE-4566-9526-59A127F6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41F-5B1D-4967-818C-BE7DF56F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D55-DE3C-47B3-8D27-F84226BD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945-21DA-40C8-AD81-41D535BF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456-13F7-4B80-AB1B-52191B8A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855-676E-449E-8B36-61997B4E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490-B514-4202-B918-E3707F16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C72-7168-4188-AFBA-82279FC7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D95-B0EF-4650-9395-34238232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09F-5A97-4D4F-A7A2-722525F9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2D61-5AD1-4AB5-8092-996E45A8A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Закон </a:t>
            </a:r>
            <a:br>
              <a:rPr sz="6600"/>
            </a:b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отражения све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 зеркальном лабирин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bab_13.jpg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лоские зеркала используются во многих оптических приборах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ерископах, биноклях и т. 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6" descr="full.jpg"/>
          <p:cNvPicPr/>
          <p:nvPr/>
        </p:nvPicPr>
        <p:blipFill>
          <a:blip r:embed="rId1"/>
          <a:stretch/>
        </p:blipFill>
        <p:spPr>
          <a:xfrm>
            <a:off x="179280" y="2205000"/>
            <a:ext cx="5256360" cy="439272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7" descr="40-1.jpg"/>
          <p:cNvPicPr/>
          <p:nvPr/>
        </p:nvPicPr>
        <p:blipFill>
          <a:blip r:embed="rId2"/>
          <a:stretch/>
        </p:blipFill>
        <p:spPr>
          <a:xfrm>
            <a:off x="5724360" y="2205000"/>
            <a:ext cx="25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ферические зеркала также находят широкое применение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в телескопах, прожекторах и т. 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9" descr="pzs-vm.jpg"/>
          <p:cNvPicPr/>
          <p:nvPr/>
        </p:nvPicPr>
        <p:blipFill>
          <a:blip r:embed="rId1"/>
          <a:stretch/>
        </p:blipFill>
        <p:spPr>
          <a:xfrm>
            <a:off x="395280" y="2174760"/>
            <a:ext cx="3960720" cy="4206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10" descr="_1_~1_original.jpg"/>
          <p:cNvPicPr/>
          <p:nvPr/>
        </p:nvPicPr>
        <p:blipFill>
          <a:blip r:embed="rId2"/>
          <a:stretch/>
        </p:blipFill>
        <p:spPr>
          <a:xfrm>
            <a:off x="4643280" y="2205000"/>
            <a:ext cx="4042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11" descr="1092.jpg"/>
          <p:cNvPicPr/>
          <p:nvPr/>
        </p:nvPicPr>
        <p:blipFill>
          <a:blip r:embed="rId1"/>
          <a:stretch/>
        </p:blipFill>
        <p:spPr>
          <a:xfrm>
            <a:off x="4932360" y="692280"/>
            <a:ext cx="3960720" cy="5400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476280"/>
            <a:ext cx="52196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ешим задачи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свети дн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олодц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ысота Солнца над горизонт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5" descr="58532629_mirr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6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адающий луч, отраженный луч и перпендикуляр к точке падения лежат в одной плоскости. Угол падения равен углу отра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405px-Angle_svg.png"/>
          <p:cNvPicPr/>
          <p:nvPr/>
        </p:nvPicPr>
        <p:blipFill>
          <a:blip r:embed="rId1"/>
          <a:stretch/>
        </p:blipFill>
        <p:spPr>
          <a:xfrm>
            <a:off x="684360" y="3716280"/>
            <a:ext cx="806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ражение бывает зеркальным и рассеянн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13" descr="image004.jpg"/>
          <p:cNvPicPr/>
          <p:nvPr/>
        </p:nvPicPr>
        <p:blipFill>
          <a:blip r:embed="rId1"/>
          <a:stretch/>
        </p:blipFill>
        <p:spPr>
          <a:xfrm>
            <a:off x="468360" y="2852640"/>
            <a:ext cx="828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тражение света может происходить от поверхности воды, стек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6" descr="88cd0ea63da7f5e5-large.jpg"/>
          <p:cNvPicPr/>
          <p:nvPr/>
        </p:nvPicPr>
        <p:blipFill>
          <a:blip r:embed="rId1"/>
          <a:stretch/>
        </p:blipFill>
        <p:spPr>
          <a:xfrm>
            <a:off x="468360" y="2637000"/>
            <a:ext cx="4402080" cy="34765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7" descr="7736.jpg"/>
          <p:cNvPicPr/>
          <p:nvPr/>
        </p:nvPicPr>
        <p:blipFill>
          <a:blip r:embed="rId2"/>
          <a:stretch/>
        </p:blipFill>
        <p:spPr>
          <a:xfrm>
            <a:off x="5338800" y="1989000"/>
            <a:ext cx="3409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зображение в плоском зеркале получается прямое, в натуральную величину, мнимо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6" descr="7470_3-2-1.gif"/>
          <p:cNvPicPr/>
          <p:nvPr/>
        </p:nvPicPr>
        <p:blipFill>
          <a:blip r:embed="rId1"/>
          <a:stretch/>
        </p:blipFill>
        <p:spPr>
          <a:xfrm>
            <a:off x="539640" y="2060640"/>
            <a:ext cx="813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роме плоских зеркал бывают зеркала сферическ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9" descr="7.gif"/>
          <p:cNvPicPr/>
          <p:nvPr/>
        </p:nvPicPr>
        <p:blipFill>
          <a:blip r:embed="rId1"/>
          <a:stretch/>
        </p:blipFill>
        <p:spPr>
          <a:xfrm>
            <a:off x="468360" y="1773360"/>
            <a:ext cx="4319640" cy="453528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12" descr="www_1md_ru559633693.jpg"/>
          <p:cNvPicPr/>
          <p:nvPr/>
        </p:nvPicPr>
        <p:blipFill>
          <a:blip r:embed="rId2"/>
          <a:stretch/>
        </p:blipFill>
        <p:spPr>
          <a:xfrm>
            <a:off x="5003640" y="1773360"/>
            <a:ext cx="374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еркала – основная составная часть игрушки «Калейдоскоп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71127b18ab6a1be8b4d3f8efe3364d73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67344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5" descr="1540010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Так устроен калейдоск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6" descr="kaleidoscope_big.jpg"/>
          <p:cNvPicPr/>
          <p:nvPr/>
        </p:nvPicPr>
        <p:blipFill>
          <a:blip r:embed="rId1"/>
          <a:stretch/>
        </p:blipFill>
        <p:spPr>
          <a:xfrm>
            <a:off x="395280" y="1989000"/>
            <a:ext cx="8353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8:43:44Z</dcterms:created>
  <dc:creator>elena</dc:creator>
  <dc:description/>
  <dc:language>en-US</dc:language>
  <cp:lastModifiedBy>Elena</cp:lastModifiedBy>
  <dcterms:modified xsi:type="dcterms:W3CDTF">2017-09-13T18:53:49Z</dcterms:modified>
  <cp:revision>19</cp:revision>
  <dc:subject/>
  <dc:title>Закон  отражения света</dc:title>
</cp:coreProperties>
</file>