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9EB-EFF9-4C08-BD18-35F77BAC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DCA-C39C-4DF1-89E9-FEC7033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049-31FC-46E4-9730-AAE965D6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F19-F976-4028-A847-A54AF60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A9A-20F9-409D-B6D8-83B3496A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BDB-1383-4388-B61E-4E234DF0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490-C407-4AB7-8284-1A96FC2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CA1-9791-4BB4-8C1D-5FC9D406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AEE-81BD-4A60-9399-C8437715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DAE-0617-43FB-8DAC-995BFF9E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EA5-7018-47C2-89C2-E68560C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E5B-6136-4DF5-9A27-A9CBDD22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1C41-F005-4F29-8D10-E8FC33016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8229600"/>
            <a:ext cx="48006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http://www.kniga.com/books/assets/product_images/imgs/n1369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6616800" y="-914400"/>
            <a:ext cx="482400" cy="48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c.pics.livejournal.com/sergeevna_1405/41922818/431523/431523_900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2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://cs619418.vk.me/v619418097/fcc8/YX-wtttKlms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xxlbook.ru/imgh592028.pn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otvet.imgsmail.ru/download/56398301_5630159568c77d9ddc5373bff1f2bf65_800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01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st.stranamam.ru/data/cache/2016may/27/24/19697176_93713thumb500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1722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metod-kopilka.ru/images/doc/54/49056/img17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s://im3-tub-ru.yandex.net/i?id=3f1ab0a64c2c53000f7350c530b50d38&amp;n=33&amp;h=215&amp;w=317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metod-kopilka.ru/images/doc/30/24251/hello_html_m53b534cc.pn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d-skazki.ru/1024_016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3T17:49:3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