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0AB-D3EB-4400-B008-4265805F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417-DF6A-4A92-B7EF-7E3829DA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4FD-08DE-4CBC-B15A-059362B1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712-3586-4399-B5DF-C45931CB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3243-A372-4378-93F9-D8BC1F9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0F0-63CC-4E58-B34A-9B9A627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0E4B-CACB-4386-B8DE-2774217E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77C-FC82-4345-B959-C2522DA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E71B-3F29-4A93-B9F5-AA9E9ACC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55D0-69E8-41E1-B44D-A518108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92F7-5857-4F73-AA7F-A072181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65F-4A0F-4D4B-8D05-A813AB0A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6BB2-C971-4695-8F19-BF765DE0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DF1-8EA7-4905-BAB1-B43185C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6B4-052B-433A-BC37-360657CE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814-7FF9-48C6-871D-787B2689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7F26-0BE0-498C-A38F-F5AA84AF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10-BF74-4786-86C4-A44EE8FB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7C0-2705-42DB-B607-3D8F4D00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BCE-40C1-40FE-B2A5-1793795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216-5745-463B-90CC-AFB9F52E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121-8834-4E98-9A6E-290076C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73F-A041-4022-A93E-8CDF035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799-8A43-4CB6-A8B9-E993AAE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338-053F-4A2E-B461-4B295B635CEE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99BE-4D99-4674-808B-716F0931F883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7116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я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учителя-логопеда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787640" y="5660640"/>
            <a:ext cx="38163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ила учитель – логопед: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фенцова – Марьевская А.П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и 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;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ы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остная инструкция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кция по охране тру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спорт логопедического кабинет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грамма коррекционного воспитания и обучения для детей с нарушениями реч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ативно-правовые документы, регламентирующие организацию коррекционно-педагогического процесса в ДОУ 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планирования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ий план методической работы на учебный год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спективный план коррекционной работы на учебный год (для каждой возрастной группы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жедневные календарные планы коррекционно-образовательной работ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ы индивидуальной и подгрупповой работы с детьм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ы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ностические карты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ски детей, зачисленных на логопункт ДО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ок рабочей документации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клограмма деятельн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регистрации детей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посещаемос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и для индивидуальных                    домашних заданий  учителя-логопеда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рнал учета  индивидуального консультирования родителей, педагого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традь взаимосвязи учителя – логопе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воспитателя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й блок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кет аттестационных документов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ственный педагогический  опыт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бочие программы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убликации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езентации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спекты занятий,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ценарии развлечений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ЗАКРЕПЛЕНИЯ ЗВУКОВ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собия,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ИГРЫ ДЛЯ РАЗВИТИЯ МЕЛКОЙ МОТОРИКИ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F:\birthday-544.jpg"/>
          <p:cNvPicPr/>
          <p:nvPr/>
        </p:nvPicPr>
        <p:blipFill>
          <a:blip r:embed="rId1"/>
          <a:srcRect l="0" t="36361" r="0" b="0"/>
          <a:stretch/>
        </p:blipFill>
        <p:spPr>
          <a:xfrm>
            <a:off x="2324160" y="3214800"/>
            <a:ext cx="42987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7:44:25Z</dcterms:created>
  <dc:creator>Алла</dc:creator>
  <dc:description/>
  <dc:language>en-US</dc:language>
  <cp:lastModifiedBy>Алла</cp:lastModifiedBy>
  <dcterms:modified xsi:type="dcterms:W3CDTF">2017-09-17T08:45:08Z</dcterms:modified>
  <cp:revision>6</cp:revision>
  <dc:subject/>
  <dc:title>Документация  учителя-логопеда</dc:title>
</cp:coreProperties>
</file>