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33A-E693-46F4-A42C-F8DBC541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471-51D5-476B-8911-6671F2C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385-EDCB-4F18-93BF-68AA168D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05A-AD66-44F0-9C93-61675C45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BF58-59F0-4350-9D1D-9E02D1BF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CC31-FB2F-44F3-A9C2-4CC6F7A3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1726-1854-4F8F-BA04-A5FC72CF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8281-9757-48ED-8243-1D7C1762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9648-93FF-4407-9079-2D35A41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D262-AAF9-4AF6-B2A0-678251D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B747-34D8-403D-ACD1-DA6BA6EB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D7C-1C33-44F3-8A5B-90571DE3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3CAA-0FDA-4AD1-8151-B745217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EDC4-D726-428C-83F8-C6FD954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9114-49BB-4ABF-A4EC-14652162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3806-A468-42D4-9D14-E05F96BC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43F2-01ED-44B2-B10B-43E0C0DA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650-08D0-4E4E-824D-FDB8F1AB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604-D9A9-4394-8BB3-FCCE4FB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C6A-9427-45B6-AE7D-B544275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699-5753-4D77-876B-F73EC419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1F7-C862-4265-AE49-470E2CDD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477-A919-4B1D-915C-B384D0D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E9F-F701-4CC7-A6C5-85ADA73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49CD-66C6-4B9E-B46B-1E2F8E9B17A8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B765-2E00-4966-A320-151F980121AF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699920"/>
            <a:ext cx="7116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ументация</a:t>
            </a:r>
            <a:br>
              <a:rPr sz="4400"/>
            </a:b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учителя-логопеда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787640" y="5660640"/>
            <a:ext cx="38163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ила учитель – логопед: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фенцова – Марьевская А.П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и 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лжностная инструкция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струкция по охране тру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спорт логопедического кабинет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грамма коррекционного воспитания и обучения для детей с нарушениями реч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о-правовые документы, регламентирующие организацию коррекционно-педагогического процесса в ДОУ 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ий план методической работы на учебный год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спективный план коррекционной работы на учебный год (для каждой возрастной группы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жедневные календарные планы коррекционно-образовательной работы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ы индивидуальной и подгрупповой работы с детьм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чевы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чет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ски детей, зачисленных на логопункт ДО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иклограмма деятельн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регистрации детей.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посещаем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и для индивидуальных                    домашних заданий 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 индивидуального консультирования родителей, педагогов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ь взаимосвязи учителя – логопед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воспитателя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9800" y="1806120"/>
            <a:ext cx="7124400" cy="43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кет аттестационных документов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ственный педагогический  опыт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бочие программы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убликации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езентации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онспекты занятий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ценарии развлечений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ЗАКРЕПЛЕНИЯ ЗВУКОВ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собия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РАЗВИТИЯ МЕЛКОЙ МОТОРИКИ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1262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2" descr="F:\birthday-544.jpg"/>
          <p:cNvPicPr/>
          <p:nvPr/>
        </p:nvPicPr>
        <p:blipFill>
          <a:blip r:embed="rId1"/>
          <a:srcRect l="0" t="36361" r="0" b="0"/>
          <a:stretch/>
        </p:blipFill>
        <p:spPr>
          <a:xfrm>
            <a:off x="2324160" y="3214800"/>
            <a:ext cx="429876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7:44:25Z</dcterms:created>
  <dc:creator>Алла</dc:creator>
  <dc:description/>
  <dc:language>en-US</dc:language>
  <cp:lastModifiedBy>Алла</cp:lastModifiedBy>
  <dcterms:modified xsi:type="dcterms:W3CDTF">2017-09-17T08:45:08Z</dcterms:modified>
  <cp:revision>6</cp:revision>
  <dc:subject/>
  <dc:title>Документация  учителя-логопеда</dc:title>
</cp:coreProperties>
</file>