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735-2BA2-45E6-A2A6-E83ED3BF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9D1-DF17-434F-87B3-F05B1427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B13-C582-4436-8AA9-ECA11CFF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967-1DFA-4520-ACBA-0ADD47A8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4A9D-EA74-4339-ADE8-17900886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200F-BC31-43D9-B5FC-CFC63394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E0CB-6D79-4D57-B8B1-B518ABC3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EFD5-3947-491B-8D08-6DF95ECE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2D3D-9700-4713-8109-0A85EC6A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5751-8B30-4DA5-B864-5FA0153A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4949-144B-4632-9DA5-F61107B5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732-6156-4A8D-8227-FA5054A4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186A-29FB-4AB0-B203-FF34E594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6D51-4240-4E04-9002-2E344D64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7B3E-527B-4B88-94BA-1013EB23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9145-E9AA-4348-AEED-2141F081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5CCA-0F98-44D7-AA4F-32DDC4E1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77A-142A-4F89-A966-F3795F62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9A7-FC79-4688-BD50-A72E5E98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EB3-8D19-4168-A5E8-9AA93312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0CC-3903-41F3-9F04-EFFD1A92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301-87E3-48A7-BAD2-362F18A6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1F1-F408-4C76-852B-B18D871C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B97-1132-4E98-A710-5F6FB5D8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9894-7684-4065-93E9-C5938884FD94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81C7-D778-4AE6-A9AF-4A6F1A09BE73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1699920"/>
            <a:ext cx="71168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кументация</a:t>
            </a:r>
            <a:br>
              <a:rPr sz="4400"/>
            </a:b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учителя-логопеда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787640" y="5660640"/>
            <a:ext cx="38163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ила учитель – логопед: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фенцова – Марьевская А.П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и :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ативный блок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планирования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ностический блок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рабочей документации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ческий блок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ативный блок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лжностная инструкция учителя-логопед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струкция по охране труд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спорт логопедического кабинет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грамма коррекционного воспитания и обучения для детей с нарушениями реч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ативно-правовые документы, регламентирующие организацию коррекционно-педагогического процесса в ДОУ 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планирования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ий план методической работы на учебный год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спективный план коррекционной работы на учебный год (для каждой возрастной группы)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жедневные календарные планы коррекционно-образовательной работы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аны индивидуальной и подгрупповой работы с детьм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ностический блок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чевые карты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ностические карты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чет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иски детей, зачисленных на логопункт ДОУ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рабочей документации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иклограмма деятельност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рнал регистрации детей.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рнал учета посещаемост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тради для индивидуальных                    домашних заданий  учителя-логопед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рнал учета  индивидуального консультирования родителей, педагогов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традь взаимосвязи учителя – логопед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воспитателя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ческий блок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09800" y="1806120"/>
            <a:ext cx="7124400" cy="43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кет аттестационных документов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ственный педагогический  опыт: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рабочие программы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убликации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резентации,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конспекты занятий,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ценарии развлечений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игры ДЛЯ ЗАКРЕПЛЕНИЯ ЗВУКОВ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собия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ИГРЫ ДЛЯ РАЗВИТИЯ МЕЛКОЙ МОТОРИКИ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71262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6" name="Picture 2" descr="F:\birthday-544.jpg"/>
          <p:cNvPicPr/>
          <p:nvPr/>
        </p:nvPicPr>
        <p:blipFill>
          <a:blip r:embed="rId1"/>
          <a:srcRect l="0" t="36361" r="0" b="0"/>
          <a:stretch/>
        </p:blipFill>
        <p:spPr>
          <a:xfrm>
            <a:off x="2324160" y="3214800"/>
            <a:ext cx="429876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07:44:25Z</dcterms:created>
  <dc:creator>Алла</dc:creator>
  <dc:description/>
  <dc:language>en-US</dc:language>
  <cp:lastModifiedBy>Алла</cp:lastModifiedBy>
  <dcterms:modified xsi:type="dcterms:W3CDTF">2017-09-17T08:45:08Z</dcterms:modified>
  <cp:revision>6</cp:revision>
  <dc:subject/>
  <dc:title>Документация  учителя-логопеда</dc:title>
</cp:coreProperties>
</file>