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A53-BFF2-41A8-A895-BE3EEAE0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9FA-95A4-4870-8043-B96DBF4A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FA6-5E18-4058-A429-68F89341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197-46F8-4E62-AB56-ADBE1FC9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D663-09F3-4916-A830-4F94F417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D7E6-B684-4025-89C2-C98646AE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45C8-CECE-41F9-B8F0-BF764840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7FE6-48AE-46CC-8DEA-88A04E1E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6067-E11E-47DC-BCA1-B8243588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9DA2-3A0F-473B-9356-5BA46EBC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E7F7-24E1-4219-8CA8-7B79A850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CA6-8C6C-4844-A72A-10C75131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0AF6-3F67-452E-81CD-D8713E7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DF3D-1F78-4F11-B8B1-0E57342E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8F61-29F4-4241-AE38-96156A23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3637-278A-4B0E-8ED3-4C7612DB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B780-69C4-41D5-A3A2-D3FB94E3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0B0-32D0-4536-91DB-42AAD758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863-7BB9-47EF-A722-4FD873DA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5F0-AB06-4D31-8F81-DC8C6884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1F4-FC6B-4F02-88FB-1C558F5B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812-3298-45B9-9721-F0193696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FAA-5BD4-4ADA-8DF0-1EACA9B2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B9D-B279-4E0B-A5D8-26B44C99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BE1F-4CC1-4D9F-9BCF-73D0C62AAEB1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A397-2904-426D-B971-321BAF0CC126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1699920"/>
            <a:ext cx="7116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кументация</a:t>
            </a:r>
            <a:br>
              <a:rPr sz="4400"/>
            </a:b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учителя-логопеда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787640" y="5660640"/>
            <a:ext cx="38163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ила учитель – логопед: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фенцова – Марьевская А.П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и :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ый блок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планирования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й блок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рабочей документации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ческий блок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ы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лжностная инструкция учителя-логопе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струкция по охране тру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спорт логопедического кабинет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грамма коррекционного воспитания и обучения для детей с нарушениями реч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о-правовые документы, регламентирующие организацию коррекционно-педагогического процесса в ДОУ 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планирования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ий план методической работы на учебный год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спективный план коррекционной работы на учебный год (для каждой возрастной группы)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жедневные календарные планы коррекционно-образовательной работы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аны индивидуальной и подгрупповой работы с детьм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чевые карты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е карты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чет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иски детей, зачисленных на логопункт ДОУ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рабочей документации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иклограмма деятельност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регистрации детей.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учета посещаемост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тради для индивидуальных                    домашних заданий  учителя-логопе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учета  индивидуального консультирования родителей, педагогов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традь взаимосвязи учителя – логопед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воспитателя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чески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09800" y="1806120"/>
            <a:ext cx="7124400" cy="43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кет аттестационных документов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ственный педагогический  опыт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бочие программы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убликации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езентации,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конспекты занятий,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ценарии развлечений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игры ДЛЯ ЗАКРЕПЛЕНИЯ ЗВУКОВ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собия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ИГРЫ ДЛЯ РАЗВИТИЯ МЕЛКОЙ МОТОРИКИ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71262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6" name="Picture 2" descr="F:\birthday-544.jpg"/>
          <p:cNvPicPr/>
          <p:nvPr/>
        </p:nvPicPr>
        <p:blipFill>
          <a:blip r:embed="rId1"/>
          <a:srcRect l="0" t="36361" r="0" b="0"/>
          <a:stretch/>
        </p:blipFill>
        <p:spPr>
          <a:xfrm>
            <a:off x="2324160" y="3214800"/>
            <a:ext cx="429876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07:44:25Z</dcterms:created>
  <dc:creator>Алла</dc:creator>
  <dc:description/>
  <dc:language>en-US</dc:language>
  <cp:lastModifiedBy>Алла</cp:lastModifiedBy>
  <dcterms:modified xsi:type="dcterms:W3CDTF">2017-09-17T08:45:08Z</dcterms:modified>
  <cp:revision>6</cp:revision>
  <dc:subject/>
  <dc:title>Документация  учителя-логопеда</dc:title>
</cp:coreProperties>
</file>