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20.jpeg" ContentType="image/jpeg"/>
  <Override PartName="/ppt/media/image10.png" ContentType="image/png"/>
  <Override PartName="/ppt/media/image8.jpeg" ContentType="image/jpeg"/>
  <Override PartName="/ppt/media/image11.png" ContentType="image/png"/>
  <Override PartName="/ppt/media/image19.jpeg" ContentType="image/jpeg"/>
  <Override PartName="/ppt/media/image18.gif" ContentType="image/gif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13D73-CC9C-4CA4-97D1-C807F099F4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F9DC7-2F59-4CEC-9100-1C67CD67F61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1A02-4731-43A8-9FA1-EE1A2E93F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A939-B9A3-455A-B05B-8935F9D23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75A4-7B47-4BF2-9215-5A64C8076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798B-1F86-441E-98A2-821FFFE39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469E9-83F2-4A59-9D56-5F6455A84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63B8A-FABF-4AC0-9C6F-E8085CD4A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36289-7978-43EF-BA6C-BC7BC8068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06A12-21A8-4C5C-B678-6CE35BD5E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5FABA-9F28-46B0-8A3D-C580F7B70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BBADB-67EC-4A0F-9F0A-4AA401DEC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3302C-95B4-4F9B-9726-B1E50E4A1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DCBA-931C-4A9C-ABBC-239BB5C1C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DE414-7758-446B-B39C-88D449BA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F8DBE-FF2B-47B3-B94D-910F8B6B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6A8CB-2596-4D76-888D-722CE8493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4339F-9249-4E1B-AE53-98FEEE1DF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672F4-D6E3-4C36-904B-17AFAC333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9193D-E5F5-4A28-AB6C-654DF977D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69A3D-4DBB-4E1E-80EC-F21C028B5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FF757-E5F4-41DF-BCF8-789E85C14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70B28-2FEE-4838-90B2-753765F17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6BF02-246E-496D-8B7C-6F8BC0A05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A026-A17D-4B3C-BDAC-29320F96F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A7CBD-146D-4308-A9D0-701CCC78D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408A8-A558-4613-A63A-2FB8AF4DA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E3F81-A02D-45E1-867E-EBFFE5485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D6599-BA93-40F1-9863-A2A30D877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77E9E-F0D5-494A-B1BE-13024D5E9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37FE0-B994-44D4-823D-8D26D0C09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53DDF-E3E5-404E-A6A4-5E96328F6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938A7-9502-4A01-8FD0-0EDB4BF1A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7698E-DB71-4150-9F1A-3DB9E878D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24D34-3637-49EA-B36A-0647A60C0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35BE-DE3C-4839-991C-CB1642A93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A15F3-89AB-4ABE-A7A9-B4DE821B4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A09F0-419B-4A56-9461-E3D5B36BC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2F137-84C1-43C5-8846-ABA00411A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106EC-1193-41AC-8CCE-F57297101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4C133-F83C-4429-B42A-8F3D8956B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B5CF5-93EA-4E12-825A-684DF8116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0AA0E-CCC9-42C1-AF6A-E54592C01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AA49D-AA5A-4BA8-9643-41CE52147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0B6A2-5B70-4184-98FD-8139447BA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5ECC7-23C5-49AB-A59D-8279C1AF8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A8B9-DCA6-4E2D-90E0-25366E915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B6AA3-D745-4F65-AEA9-A07AD8A6A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B9ED60-6C95-4C7C-A45D-AEE76C49D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CF21F-B20E-43B1-88FD-66BC543FB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ED3A1A-9579-4FE8-8493-B51B3EAA6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7DDFE-2479-4C52-973A-ACBBEB57E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B19FE4-37D0-4AC4-8602-AF08C557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746686-03E2-499D-8FCD-42705269A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667B8-3255-462C-8320-97C318A5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C481A3-CB86-4D75-A5BD-F8F60B182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D5F7C-5363-4D56-8847-480E3DAFE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0BA4-2010-4E6B-9C36-8AE65B667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52CA00-3FA5-48FE-8FE7-4F6159465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F221-2D36-42CB-963F-56FF288D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9131-3B46-4D56-BDCD-A7635080B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D95B-14FB-417C-876A-9B7F83F2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C5463-8BC4-42BE-B7C1-A66F99689B06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3B9A7-998B-4215-8229-EB9C29A248BA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4DB46-28C9-4104-8F97-B776B0849723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96C25-5215-49B7-A2F8-91E64FB6F922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2B3C9-8341-45B3-9152-EA8B1C1E8284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633744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8d3e"/>
                </a:solidFill>
                <a:latin typeface="Times New Roman"/>
              </a:rPr>
              <a:t>Муниципальное бюджетное  дошкольное образовательное учреждение детский сад комбинированного вида № 24 </a:t>
            </a:r>
            <a:br>
              <a:rPr sz="1600"/>
            </a:br>
            <a:r>
              <a:rPr b="1" lang="ru-RU" sz="1600" spc="-1" strike="noStrike">
                <a:solidFill>
                  <a:srgbClr val="ff8d3e"/>
                </a:solidFill>
                <a:latin typeface="Times New Roman"/>
              </a:rPr>
              <a:t>ст. Старотитаровской муниципального образования </a:t>
            </a:r>
            <a:br>
              <a:rPr sz="1600"/>
            </a:br>
            <a:r>
              <a:rPr b="1" lang="ru-RU" sz="1600" spc="-1" strike="noStrike">
                <a:solidFill>
                  <a:srgbClr val="ff8d3e"/>
                </a:solidFill>
                <a:latin typeface="Times New Roman"/>
              </a:rPr>
              <a:t>Темрюкский район </a:t>
            </a:r>
            <a:br>
              <a:rPr sz="2400"/>
            </a:br>
            <a:endParaRPr b="1" lang="en-US" sz="1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ыхательная гимнастика </a:t>
            </a:r>
            <a:br>
              <a:rPr sz="44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детей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школьного возрас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2149560" y="4714920"/>
            <a:ext cx="6494400" cy="1071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Autofit/>
          </a:bodyPr>
          <a:p>
            <a:pPr algn="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дготовила: воспитатель первой категори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ондаренко Н.Ю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0" name="Picture 7" descr="https://djujmovochka50.ru/media/k2/items/cache/fc34f61d23b74be53ee07d469bd32064_XL.jpg"/>
          <p:cNvPicPr/>
          <p:nvPr/>
        </p:nvPicPr>
        <p:blipFill>
          <a:blip r:embed="rId1"/>
          <a:stretch/>
        </p:blipFill>
        <p:spPr>
          <a:xfrm>
            <a:off x="6429240" y="571680"/>
            <a:ext cx="2214720" cy="20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503280" y="571680"/>
            <a:ext cx="8183520" cy="4146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егемоти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П: лежа или сидя. Ребенок кладет ладонь на область диафрагмы и глубоко дышит. Вдох и выдох производится через нос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пражнение может выполняться в положении сидя и сопровождаться рифмовкой: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ели бегемотики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отрогали животик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 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То животик поднимаетс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(вдох)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То животик опускаетс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(выдох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3" name="Picture 6" descr=""/>
          <p:cNvPicPr/>
          <p:nvPr/>
        </p:nvPicPr>
        <p:blipFill>
          <a:blip r:embed="rId1"/>
          <a:stretch/>
        </p:blipFill>
        <p:spPr>
          <a:xfrm>
            <a:off x="6500880" y="3786120"/>
            <a:ext cx="200016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457200" y="8362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асик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П: стоя, ноги слегка расставить, руки опустить. Размахивая прямыми руками вперед и назад, произносить «тик-так»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5" name="Picture 4" descr=""/>
          <p:cNvPicPr/>
          <p:nvPr/>
        </p:nvPicPr>
        <p:blipFill>
          <a:blip r:embed="rId1"/>
          <a:stretch/>
        </p:blipFill>
        <p:spPr>
          <a:xfrm>
            <a:off x="6372360" y="3860640"/>
            <a:ext cx="23763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503280" y="691920"/>
            <a:ext cx="8183520" cy="4025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8000"/>
          </a:bodyPr>
          <a:p>
            <a:pPr marL="259560" indent="-2595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дуй шари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П: ребёнок сидит или стоит.  «Надувая шарик» широко разводит руки в стороны и глубоко вдыхает, затем медленно сводит руки, соединяя ладони перед грудью и выдувает воздух – ффф. «Шарик лопнул» - хлопнуть в ладоши, «из шарика выходит воздух» - ребенок произносит: «шшш», вытягивая губы хоботком, опуская руки и оседая, как шарик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 которого выпустил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здух.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7" name="Picture 4" descr=""/>
          <p:cNvPicPr/>
          <p:nvPr/>
        </p:nvPicPr>
        <p:blipFill>
          <a:blip r:embed="rId1"/>
          <a:stretch/>
        </p:blipFill>
        <p:spPr>
          <a:xfrm>
            <a:off x="6156360" y="3860640"/>
            <a:ext cx="254304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дуй на одуванчи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П: малыш стоит или сидит. Делает глубокий вдох носом, затем длинный выдох через рот, как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удто хочет сдуть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 одуванчика пух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Picture 4" descr="1277986904_"/>
          <p:cNvPicPr/>
          <p:nvPr/>
        </p:nvPicPr>
        <p:blipFill>
          <a:blip r:embed="rId1"/>
          <a:stretch/>
        </p:blipFill>
        <p:spPr>
          <a:xfrm>
            <a:off x="4572000" y="3141720"/>
            <a:ext cx="4032360" cy="27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аровози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одьба, делая попеременные движения руками и приговаривая: «чух-чух-чух». Через определенные промежутки времени можно останавливаться и говорить «ту-тууу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1" name="Picture 4" descr=""/>
          <p:cNvPicPr/>
          <p:nvPr/>
        </p:nvPicPr>
        <p:blipFill>
          <a:blip r:embed="rId1"/>
          <a:stretch/>
        </p:blipFill>
        <p:spPr>
          <a:xfrm>
            <a:off x="2378160" y="3357720"/>
            <a:ext cx="633564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3280" y="475920"/>
            <a:ext cx="818352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8d3e"/>
                </a:solidFill>
                <a:latin typeface="Times New Roman"/>
              </a:rPr>
              <a:t>В работе с детьми дошкольного возраста дыхательная гимнастика может быть использована </a:t>
            </a:r>
            <a:br>
              <a:rPr sz="2500"/>
            </a:br>
            <a:r>
              <a:rPr b="1" lang="ru-RU" sz="2500" spc="-1" strike="noStrike">
                <a:solidFill>
                  <a:srgbClr val="ff8d3e"/>
                </a:solidFill>
                <a:latin typeface="Times New Roman"/>
              </a:rPr>
              <a:t>в различных режимных моментах:</a:t>
            </a:r>
            <a:endParaRPr b="1" lang="en-US" sz="2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9000"/>
          </a:bodyPr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занятиях оздоровительного характера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часть физкультурного занятия или отдельные дыхательные упражнения  на физкультурном и музыкальном занятиях после нагрузки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утренней гимнастике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оздоровительного бег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дневного сна в сочетании с физическими упражнениями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акаливающих мероприятиях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занятиях по логоритмике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любой двигательной деятельности детей (между подвижными и спортивными играми на прогулке в зависимости от ситуации, времени года, состояния детей)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омашних условиях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3280" y="549360"/>
            <a:ext cx="81835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На первых порах дыхательные упражнения кажутся детям одними из самых сложных. 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И тем важнее помочь детям, превратив скучные упражнения в веселую игру.</a:t>
            </a:r>
            <a:endParaRPr b="1" lang="en-US" sz="25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65" name="Picture 4" descr="1281544942_924f8403ecf5t"/>
          <p:cNvPicPr/>
          <p:nvPr/>
        </p:nvPicPr>
        <p:blipFill>
          <a:blip r:embed="rId1"/>
          <a:stretch/>
        </p:blipFill>
        <p:spPr>
          <a:xfrm>
            <a:off x="539640" y="2276640"/>
            <a:ext cx="3311640" cy="36003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5" descr="%D0%94%D0%95%D0%A2%D0%98_%D0%98%D0%93%D0%A0%D0%90%D0%AE%D0%A2"/>
          <p:cNvPicPr/>
          <p:nvPr/>
        </p:nvPicPr>
        <p:blipFill>
          <a:blip r:embed="rId2"/>
          <a:stretch/>
        </p:blipFill>
        <p:spPr>
          <a:xfrm>
            <a:off x="4932360" y="2997360"/>
            <a:ext cx="37828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3280" y="713880"/>
            <a:ext cx="81835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Влияние правильного дыхания на организм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68" name="Содержимое 3" descr="http://school561.spb.ru/img/bos.jpg"/>
          <p:cNvPicPr/>
          <p:nvPr/>
        </p:nvPicPr>
        <p:blipFill>
          <a:blip r:embed="rId1"/>
          <a:srcRect l="0" t="17551" r="4947" b="6686"/>
          <a:stretch/>
        </p:blipFill>
        <p:spPr>
          <a:xfrm>
            <a:off x="500040" y="1357200"/>
            <a:ext cx="8215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457200" y="105228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0" name="Picture 4" descr="https://im1-tub-ru.yandex.net/i?id=959a965cbc004cbe64b80677fe8657d8&amp;n=24"/>
          <p:cNvPicPr/>
          <p:nvPr/>
        </p:nvPicPr>
        <p:blipFill>
          <a:blip r:embed="rId1"/>
          <a:stretch/>
        </p:blipFill>
        <p:spPr>
          <a:xfrm>
            <a:off x="539640" y="4149720"/>
            <a:ext cx="2214720" cy="20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457200" y="5713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мы знаем, что от здоровья молодого поколения зависит благосостояние общества. Ведь мы знаем, что во всем мире наметилась тенденция ухудшения здоровья детей. Факторов отрицательного развития молодого поколения очень много.  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им из них является экологические проблемы, некачественная вода, химические добавки в пищу, экономическое положение в стране. Поэтому дошкольное учреждение, как первое звено здоровье сберегающего  образования, предлагает альтернативные формы и методы организации учебно-воспитательного процесса по сохранению  и укреплению здоровья детей. Ведь всем известно, что только здоровый ребенок может правильно и полноценно развиватьс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Рисунок 3" descr="https://im0-tub-ru.yandex.net/i?id=cb96bf9f28a4a08d9c20c35b2f18a2ab&amp;n=33&amp;h=215&amp;w=382"/>
          <p:cNvPicPr/>
          <p:nvPr/>
        </p:nvPicPr>
        <p:blipFill>
          <a:blip r:embed="rId1"/>
          <a:stretch/>
        </p:blipFill>
        <p:spPr>
          <a:xfrm>
            <a:off x="6286680" y="4786200"/>
            <a:ext cx="227772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571680"/>
            <a:ext cx="8183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Дыхательная гимнастика укрепит иммунитет малыша. </a:t>
            </a: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71320" y="171468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7000"/>
          </a:bodyPr>
          <a:p>
            <a:pPr marL="256680" indent="-2566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градить ребенка от простудных заболеваний –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задача не из легких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икробы и вирусы то и дело одолевают маленького человечка и подрывают еще неокрепший иммунитет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Picture 4" descr=""/>
          <p:cNvPicPr/>
          <p:nvPr/>
        </p:nvPicPr>
        <p:blipFill>
          <a:blip r:embed="rId1"/>
          <a:stretch/>
        </p:blipFill>
        <p:spPr>
          <a:xfrm>
            <a:off x="5643720" y="3714840"/>
            <a:ext cx="2881080" cy="20714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"/>
          <p:cNvPicPr/>
          <p:nvPr/>
        </p:nvPicPr>
        <p:blipFill>
          <a:blip r:embed="rId2"/>
          <a:stretch/>
        </p:blipFill>
        <p:spPr>
          <a:xfrm>
            <a:off x="928800" y="3643200"/>
            <a:ext cx="3097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8d3e"/>
                </a:solidFill>
                <a:latin typeface="Times New Roman"/>
              </a:rPr>
              <a:t>Задачи дыхательной гимнастик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125360"/>
            <a:ext cx="8229600" cy="4803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just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сить общий жизненный тонус ребенка, сопротивляемость, закаленность и устойчивость организма к заболеваниям дыхательной системы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азвивать дыхательную мускулатуру, увеличить подвижность грудной клетки и диафрагмы, улучшить деятельность сердечно-сосудистой системы и кровообращени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авильное дыхание стимулирует работу сердца, головного мозга и нервной системы, избавляет человека от многих болезней, улучшает пищеварение (прежде чем пища будет переварена и усвоена, она должна поглотить кислород из крови и окислиться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3280" y="571680"/>
            <a:ext cx="818352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Цель дыхательной гимнастики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71680" y="1714320"/>
            <a:ext cx="7858080" cy="45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хранить у ребенка врожденную способность дышат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ить дышать через нос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меть медленно вдыхать и еще медленней выдыхать, делая поз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рабатывать ритмическое дыхание во время ходьб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ить дышать с удовольствие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ить сморкаться не через обе ноздри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а через одн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низить процент заболеваемости детей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групп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1" name="Рисунок 4" descr="http://chainimage.com/images/larger-preview-pal-clipart-of-an-african-american-boy-and-white-girls.jpg"/>
          <p:cNvPicPr/>
          <p:nvPr/>
        </p:nvPicPr>
        <p:blipFill>
          <a:blip r:embed="rId1"/>
          <a:stretch/>
        </p:blipFill>
        <p:spPr>
          <a:xfrm>
            <a:off x="6143760" y="3643200"/>
            <a:ext cx="2554200" cy="26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8d3e"/>
                </a:solidFill>
                <a:latin typeface="Times New Roman"/>
              </a:rPr>
              <a:t>Почему дыхательная гимнастика нужна?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90792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дленный выдох помогает расслабиться, успокоиться, справиться с волнением и раздражительностью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ыхательные упражнения просто необходимы детям, довольно часто болеющим простудными заболеваниями, бронхитами, а также выздоравливающим после воспаления лёгких или страдающим бронхиальной астмой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ыхательная гимнастика прекрасно дополняет любое лечение (медикаментозное, гомео-патическое, физиотерапевтическое), развивает ещё несовершенную дыхательную систему ребёнка и укрепляет защитные силы организм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3280" y="500040"/>
            <a:ext cx="818352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Times New Roman"/>
              </a:rPr>
              <a:t>Требования к проведению дыхательной гимнастики: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78920" y="1428840"/>
            <a:ext cx="8713800" cy="30002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lvl="1" marL="547560" indent="-1998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заниматься в пыльном, непроветренном, или сыром помещени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мпература воздуха должна быть на уровне 18-20 С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ежда не должна стеснять движений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заниматься сразу после приема пищ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заниматься с ребенком, если у него заболевание органов дыхания в острой стади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6" name="Picture 4" descr="aybolit"/>
          <p:cNvPicPr/>
          <p:nvPr/>
        </p:nvPicPr>
        <p:blipFill>
          <a:blip r:embed="rId1"/>
          <a:stretch/>
        </p:blipFill>
        <p:spPr>
          <a:xfrm>
            <a:off x="6500880" y="4071960"/>
            <a:ext cx="201600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3280" y="428760"/>
            <a:ext cx="8183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8d3e"/>
                </a:solidFill>
                <a:latin typeface="Times New Roman"/>
              </a:rPr>
              <a:t>Техника выполнения упражнений дыхательной гимнастики для детей: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03280" y="1500120"/>
            <a:ext cx="8183520" cy="28576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</a:rPr>
              <a:t>- воздух набирать через нос;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</a:rPr>
              <a:t>- плечи не поднимать;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</a:rPr>
              <a:t>- выдох должен быть длительным и плавным;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</a:rPr>
              <a:t>- необходимо следить, за тем, чтобы не надувались щеки (для начала их можно придерживать руками).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9" name="Рисунок 5" descr="http://sunduk-logopeda.ucoz.ru/Oformlenie_str/Dixanie/Puziriki.png"/>
          <p:cNvPicPr/>
          <p:nvPr/>
        </p:nvPicPr>
        <p:blipFill>
          <a:blip r:embed="rId1"/>
          <a:stretch/>
        </p:blipFill>
        <p:spPr>
          <a:xfrm>
            <a:off x="6858000" y="3929040"/>
            <a:ext cx="1628640" cy="18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457200" y="713880"/>
            <a:ext cx="8686800" cy="52866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чели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бенку, находящемуся в положении лежа, кладут на живот в области диафрагмы легкую игрушку. Вдох и выдох – через нос. Взрослый произносит  рифмовку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Качели вверх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вдох)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                       Качели вниз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выдох)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                       Крепче ты, дружок, держис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1" name="Picture 5" descr=""/>
          <p:cNvPicPr/>
          <p:nvPr/>
        </p:nvPicPr>
        <p:blipFill>
          <a:blip r:embed="rId1"/>
          <a:stretch/>
        </p:blipFill>
        <p:spPr>
          <a:xfrm>
            <a:off x="1071720" y="4071960"/>
            <a:ext cx="150012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8T19:10:25Z</dcterms:created>
  <dc:creator>MASTER</dc:creator>
  <dc:description/>
  <dc:language>en-US</dc:language>
  <cp:lastModifiedBy>Natali</cp:lastModifiedBy>
  <dcterms:modified xsi:type="dcterms:W3CDTF">2017-08-28T22:14:45Z</dcterms:modified>
  <cp:revision>53</cp:revision>
  <dc:subject/>
  <dc:title>Дыхательная гимнастика для детей</dc:title>
</cp:coreProperties>
</file>