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18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1342-A65A-43FB-BB16-DF736A0CD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208F-13C1-467B-87EE-628F5FA1E7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074-D1E2-4ABD-B2B9-E230881A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3F9-9B64-4700-BCA2-E6269F70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3CA-FC05-4BD6-8BDB-EB86A58A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C53-6C46-4E4C-B4FF-21FF36B6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AF1C-F193-49A0-AA8D-1E6BB649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9BB-59B4-4F4D-9866-1F889E92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BA0B-C432-4BC6-A9EE-CD1F7AD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05A-BC86-4F6E-8CE9-477E07C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C229-2182-4EE1-8864-60C6A0EE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2A3A-7109-4F07-9F5A-01D3BE9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E0A9-0BD3-48C3-915A-BF216C1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C5F-91F7-4D2B-8ADB-7ECB0B5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AA31-628B-4E66-9AFE-9A895A4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ADE-C3B2-4AC1-8F98-6569AA1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5495-6B3F-4685-A779-8E7ACD3C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FB86-824D-4BDC-8252-A9258D5E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490-BD94-4C3B-8E1B-89CCBF92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F23A-E24D-44DD-B3EE-7DDB1C85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6CE4-FA13-4A26-BF7C-56E8F1A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39115-DEB7-4292-8F3C-99FB61DD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F607-6459-4ED5-A52D-BF7B262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069F-E142-4A91-9DC8-5F3C5E5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4E3-C054-48DD-96C9-EF145759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5318-DCE1-4B2F-B0BD-38DFBA54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AF43-DAD7-4A27-84F0-348C0E0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1DFB-9550-4FCB-9C54-E8C1970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31E7-5672-4C73-9A07-74275608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6188-1C21-4228-96FB-51F1390B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AF67-C480-4C69-914D-A0B60BBC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171A-BE37-4928-8159-D40CD450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7B2C-248C-403B-AA03-EA01CA4A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56772-47B8-4BB5-A697-E8A3E9D5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3CBA-EBB8-4B17-BC31-13BB5DF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E96-3D9F-467B-A143-F2573C24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1F3E-E260-4221-9F1D-580757AB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9FDD-8921-4AC2-82A6-B0665791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5436-B74B-4300-A442-BE89267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4997-F33C-427C-BE02-50296A6F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74AB-17BC-4571-ACCE-E834F352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BBFF-B5F6-4740-8AD8-8947995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08F0-77C9-4F4A-9D5B-8F91341C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1E16-700D-4E36-9734-A59BC0C7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F7EC1-2B4B-4C4B-8211-34EF7991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220E-2A15-4C42-8A60-DCF1770A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E02-10E5-4DE5-A3C8-6754006D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82F7-1191-4244-AE1F-BFDD6E0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08854-5893-440C-B5CB-5F4450B0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2F60F-9146-4400-9529-CDFD42A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53BA-05F0-49DB-8CCE-6A40310A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D06E-A3A9-42D6-BC10-4F2417DA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31BD-44D4-4A27-B592-84B077F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D693-C1F5-4D7D-BB80-9AC34AA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E039F-B180-4E70-92E4-A3749370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BE34-8445-4A9D-9CD7-5721E3B4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1BF4-93F3-4ABE-B00A-A70A6BBF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26F-01D3-40BA-82FB-0E669F51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517D-B727-46F0-962E-947614CA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D95-4D1A-4314-BF51-0EE2AEC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F39-F244-40C9-A293-4162CF9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8A9-6C23-4944-A981-7F1E947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0715-BFAD-4F02-B75F-96B9D92DC82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2269-1F1A-4D1F-85DF-BC01F61DA77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04B-1F96-4FFC-B19C-87E80200346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68D-1595-467D-A6EF-A4A1BE43497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121-9A91-443D-8830-EC8B1CA57B7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6337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Муниципальное бюджетное  дошкольное образовательное учреждение детский сад комбинированного вида № 24 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ст. Старотитаровской муницип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Темрюкский район </a:t>
            </a:r>
            <a:br>
              <a:rPr sz="24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гимнастика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149560" y="4714920"/>
            <a:ext cx="6494400" cy="1071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ила: воспитатель первой катег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ндаренко Н.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https://djujmovochka50.ru/media/k2/items/cache/fc34f61d23b74be53ee07d469bd32064_XL.jpg"/>
          <p:cNvPicPr/>
          <p:nvPr/>
        </p:nvPicPr>
        <p:blipFill>
          <a:blip r:embed="rId1"/>
          <a:stretch/>
        </p:blipFill>
        <p:spPr>
          <a:xfrm>
            <a:off x="6429240" y="571680"/>
            <a:ext cx="22147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03280" y="571680"/>
            <a:ext cx="8183520" cy="4146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гемот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П: лежа или сидя. Ребенок кладет ладонь на область диафрагмы и глубоко дышит. Вдох и выдох производится через но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жнение может выполняться в положении сидя и сопровождаться рифмовкой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ли бегемотик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трогали живот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 животик подним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вдох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 животик опуск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выдох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6500880" y="378612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836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П: стоя, ноги слегка расставить, руки опустить. Размахивая прямыми руками вперед и назад, произносить «тик-так»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3280" y="691920"/>
            <a:ext cx="8183520" cy="402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уй шар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П: ребёнок сидит или стоит.  «Надувая шарик» широко разводит руки в стороны и глубоко вдыхает, затем медленно сводит руки, соединяя ладони перед грудью и выдувает воздух – ффф. «Шарик лопнул» - хлопнуть в ладоши, «из шарика выходит воздух» - ребенок произносит: «шшш», вытягивая губы хоботком, опуская руки и оседая, как шарик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оторого выпусти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ух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543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уй на одуванч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П: малыш стоит или сидит. Делает глубокий вдох носом, затем длинный выдох через рот, как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то хочет сд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одуванчика пух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1277986904_"/>
          <p:cNvPicPr/>
          <p:nvPr/>
        </p:nvPicPr>
        <p:blipFill>
          <a:blip r:embed="rId1"/>
          <a:stretch/>
        </p:blipFill>
        <p:spPr>
          <a:xfrm>
            <a:off x="4572000" y="314172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овоз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дьба, делая попеременные движения руками и приговаривая: «чух-чух-чух». Через определенные промежутки времени можно останавливаться и говорить «ту-тууу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2378160" y="3357720"/>
            <a:ext cx="6335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Times New Roman"/>
              </a:rPr>
              <a:t>В работе с детьми дошкольного возраста дыхательная гимнастика может быть использована 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Times New Roman"/>
              </a:rPr>
              <a:t>в различных режимных моментах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оздоровительного характер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асть физкультурного занятия или отдельные дыхательные упражнения  на физкультурном и музыкальном занятиях после нагрузк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тренней гимнастике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здоровительного бег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невного сна в сочетании с физическими упражнени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аливающих мероприятиях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по логоритмик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двигательной деятельности детей (между подвижными и спортивными играми на прогулке в зависимости от ситуации, времени года, состояния детей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ашних условия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549360"/>
            <a:ext cx="8183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первых порах дыхательные упражнения кажутся детям одними из самых сложных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 тем важнее помочь детям, превратив скучные упражнения в веселую игру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5" name="Picture 4" descr="1281544942_924f8403ecf5t"/>
          <p:cNvPicPr/>
          <p:nvPr/>
        </p:nvPicPr>
        <p:blipFill>
          <a:blip r:embed="rId1"/>
          <a:stretch/>
        </p:blipFill>
        <p:spPr>
          <a:xfrm>
            <a:off x="539640" y="2276640"/>
            <a:ext cx="3311640" cy="3600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%D0%94%D0%95%D0%A2%D0%98_%D0%98%D0%93%D0%A0%D0%90%D0%AE%D0%A2"/>
          <p:cNvPicPr/>
          <p:nvPr/>
        </p:nvPicPr>
        <p:blipFill>
          <a:blip r:embed="rId2"/>
          <a:stretch/>
        </p:blipFill>
        <p:spPr>
          <a:xfrm>
            <a:off x="4932360" y="2997360"/>
            <a:ext cx="3782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71388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лияние правильного дыхания на организ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Содержимое 3" descr="http://school561.spb.ru/img/bos.jpg"/>
          <p:cNvPicPr/>
          <p:nvPr/>
        </p:nvPicPr>
        <p:blipFill>
          <a:blip r:embed="rId1"/>
          <a:srcRect l="0" t="17551" r="4947" b="6686"/>
          <a:stretch/>
        </p:blipFill>
        <p:spPr>
          <a:xfrm>
            <a:off x="500040" y="135720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4" descr="https://im1-tub-ru.yandex.net/i?id=959a965cbc004cbe64b80677fe8657d8&amp;n=24"/>
          <p:cNvPicPr/>
          <p:nvPr/>
        </p:nvPicPr>
        <p:blipFill>
          <a:blip r:embed="rId1"/>
          <a:stretch/>
        </p:blipFill>
        <p:spPr>
          <a:xfrm>
            <a:off x="539640" y="4149720"/>
            <a:ext cx="2214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мы знаем, что от здоровья молодого поколения зависит благосостояние общества. Ведь мы знаем, что во всем мире наметилась тенденция ухудшения здоровья детей. Факторов отрицательного развития молодого поколения очень много.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них является экологические проблемы, некачественная вода, химические добавки в пищу, экономическое положение в стране. Поэтому дошкольное учреждение, как первое звено здоровье сберегающего  образования, предлагает альтернативные формы и методы организации учебно-воспитательного процесса по сохранению  и укреплению здоровья детей. Ведь всем известно, что только здоровый ребенок может правильно и полноценно развиватьс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Рисунок 3" descr="https://im0-tub-ru.yandex.net/i?id=cb96bf9f28a4a08d9c20c35b2f18a2ab&amp;n=33&amp;h=215&amp;w=382"/>
          <p:cNvPicPr/>
          <p:nvPr/>
        </p:nvPicPr>
        <p:blipFill>
          <a:blip r:embed="rId1"/>
          <a:stretch/>
        </p:blipFill>
        <p:spPr>
          <a:xfrm>
            <a:off x="6286680" y="4786200"/>
            <a:ext cx="22777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ыхательная гимнастика укрепит иммунитет малыша. 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71320" y="17146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градить ребенка от простудных заболеваний 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ча не из легких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кробы и вирусы то и дело одолевают маленького человечка и подрывают еще неокрепший иммунитет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81080" cy="207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928800" y="3643200"/>
            <a:ext cx="3097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Times New Roman"/>
              </a:rPr>
              <a:t>Задачи дыхательной гимнасти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12536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общий жизненный тонус ребенка, сопротивляемость, закаленность и устойчивость организма к заболеваниям дыхательной систем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дыхательную мускулатуру, увеличить подвижность грудной клетки и диафрагмы, улучшить деятельность сердечно-сосудистой системы и кровообращ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авильное дыхание стимулирует работу сердца, головного мозга и нервной системы, избавляет человека от многих болезней, улучшает пищеварение (прежде чем пища будет переварена и усвоена, она должна поглотить кислород из крови и окислитьс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ель дыхательной гимнаст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714320"/>
            <a:ext cx="785808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хранить у ребенка врожденную способность дыш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ышать через н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ть медленно вдыхать и еще медленней выдыхать, делая поз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батывать ритмическое дыхание во время ходьб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ышать с удовольств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сморкаться не через обе ноздр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через од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зить процент заболеваемости дет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Рисунок 4" descr="http://chainimage.com/images/larger-preview-pal-clipart-of-an-african-american-boy-and-white-girls.jpg"/>
          <p:cNvPicPr/>
          <p:nvPr/>
        </p:nvPicPr>
        <p:blipFill>
          <a:blip r:embed="rId1"/>
          <a:stretch/>
        </p:blipFill>
        <p:spPr>
          <a:xfrm>
            <a:off x="6143760" y="3643200"/>
            <a:ext cx="2554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Times New Roman"/>
              </a:rPr>
              <a:t>Почему дыхательная гимнастика нужн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ленный выдох помогает расслабиться, успокоиться, справиться с волнением и раздражительность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ыхательные упражнения просто необходимы детям, довольно часто болеющим простудными заболеваниями, бронхитами, а также выздоравливающим после воспаления лёгких или страдающим бронхиальной астм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ыхательная гимнастика прекрасно дополняет любое лечение (медикаментозное, гомео-патическое, физиотерапевтическое), развивает ещё несовершенную дыхательную систему ребёнка и укрепляет защитные силы организ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</a:rPr>
              <a:t>Требования к проведению дыхательной гимнастики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8920" y="1428840"/>
            <a:ext cx="8713800" cy="300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ниматься в пыльном, непроветренном, или сыром помещ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пература воздуха должна быть на уровне 18-20 С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ежда не должна стеснять движ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ниматься сразу после приема пищ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ниматься с ребенком, если у него заболевание органов дыхания в острой стад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aybolit"/>
          <p:cNvPicPr/>
          <p:nvPr/>
        </p:nvPicPr>
        <p:blipFill>
          <a:blip r:embed="rId1"/>
          <a:stretch/>
        </p:blipFill>
        <p:spPr>
          <a:xfrm>
            <a:off x="6500880" y="4071960"/>
            <a:ext cx="2016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Times New Roman"/>
              </a:rPr>
              <a:t>Техника выполнения упражнений дыхательной гимнастики для детей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1500120"/>
            <a:ext cx="8183520" cy="285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воздух набирать через нос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плечи не поднимать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выдох должен быть длительным и плавным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- необходимо следить, за тем, чтобы не надувались щеки (для начала их можно придерживать руками)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Рисунок 5" descr="http://sunduk-logopeda.ucoz.ru/Oformlenie_str/Dixanie/Puziriki.png"/>
          <p:cNvPicPr/>
          <p:nvPr/>
        </p:nvPicPr>
        <p:blipFill>
          <a:blip r:embed="rId1"/>
          <a:stretch/>
        </p:blipFill>
        <p:spPr>
          <a:xfrm>
            <a:off x="6858000" y="3929040"/>
            <a:ext cx="1628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713880"/>
            <a:ext cx="8686800" cy="5286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чел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ку, находящемуся в положении лежа, кладут на живот в области диафрагмы легкую игрушку. Вдох и выдох – через нос. Взрослый произносит  рифмов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чели ввер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дох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                      Качели вни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ыдох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                      Крепче ты, дружок, держи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071720" y="407196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10:25Z</dcterms:created>
  <dc:creator>MASTER</dc:creator>
  <dc:description/>
  <dc:language>en-US</dc:language>
  <cp:lastModifiedBy>Natali</cp:lastModifiedBy>
  <dcterms:modified xsi:type="dcterms:W3CDTF">2017-08-28T22:14:45Z</dcterms:modified>
  <cp:revision>53</cp:revision>
  <dc:subject/>
  <dc:title>Дыхательная гимнастика для детей</dc:title>
</cp:coreProperties>
</file>