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D1F-A04C-482A-8B39-AFAF08C7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1E7-091C-4DE4-B19D-3A8BB341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5AB-EC0B-4B0B-842F-9BDAEF3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919-28F2-48F4-AE02-AC074818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1E2-07C6-4F34-8C75-DDEDCCA3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690-A217-40B8-A1EE-7C38459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14E-CBC1-41FA-8B3E-4D02AE3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B4E-F0B7-47F7-A8FF-4587AA1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423-9999-44E2-BF1E-47D8A716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E77-61B4-4463-916C-279E39E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B06-A8ED-45F8-B071-B040C3C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1DA-6187-4376-B087-86C2527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915-EA2C-449C-AC8A-C64812A74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285720"/>
            <a:ext cx="6843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781200"/>
            <a:ext cx="7877520" cy="131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s://grischenkonatalia.files.wordpress.com/2016/10/urokrusskoghoiazykaglavnyieivtorostiepiennyiechlienypriedlozhieniia_1.jpeg"/>
          <p:cNvPicPr/>
          <p:nvPr/>
        </p:nvPicPr>
        <p:blipFill>
          <a:blip r:embed="rId2"/>
          <a:stretch/>
        </p:blipFill>
        <p:spPr>
          <a:xfrm>
            <a:off x="928800" y="1857240"/>
            <a:ext cx="685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 и запишите рассказ, используя слова. Озаглавьте тек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, шерсть, глазки, лапки, усы, коготки, повадки, молоко, котя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allpaperscraft.ru/image/kotenok_cvety_malysh_89456_1600x1200.jpg"/>
          <p:cNvPicPr/>
          <p:nvPr/>
        </p:nvPicPr>
        <p:blipFill>
          <a:blip r:embed="rId1"/>
          <a:stretch/>
        </p:blipFill>
        <p:spPr>
          <a:xfrm>
            <a:off x="2357280" y="3000240"/>
            <a:ext cx="3321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е текст на предложения и запишите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оза надвигалась огромная лиловая туча медленно поднималась из-за леса сильный ветер загудел в вышине крупные капли дождя резко застучали по лист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farm8.staticflickr.com/7385/27507089865_0e84369ee9_b.jpg"/>
          <p:cNvPicPr/>
          <p:nvPr/>
        </p:nvPicPr>
        <p:blipFill>
          <a:blip r:embed="rId1"/>
          <a:stretch/>
        </p:blipFill>
        <p:spPr>
          <a:xfrm>
            <a:off x="3000240" y="3911760"/>
            <a:ext cx="36817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м похожи предложения?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м отличаются предлож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тицы уле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00240" y="1600200"/>
            <a:ext cx="58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летные птицы улетают в тёплые кр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deswal.ru/animals/1600-1200/00000436.jpg"/>
          <p:cNvPicPr/>
          <p:nvPr/>
        </p:nvPicPr>
        <p:blipFill>
          <a:blip r:embed="rId1"/>
          <a:stretch/>
        </p:blipFill>
        <p:spPr>
          <a:xfrm>
            <a:off x="4643280" y="3429000"/>
            <a:ext cx="4143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s://grischenkonatalia.files.wordpress.com/2016/10/urokrusskoghoiazykaglavnyieivtorostiepiennyiechlienypriedlozhieniia_1.jpeg"/>
          <p:cNvPicPr/>
          <p:nvPr/>
        </p:nvPicPr>
        <p:blipFill>
          <a:blip r:embed="rId1"/>
          <a:stretch/>
        </p:blipFill>
        <p:spPr>
          <a:xfrm>
            <a:off x="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ая соединительная линия 1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 flipH="1">
            <a:off x="250560" y="0"/>
            <a:ext cx="216036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 flipH="1">
            <a:off x="2987640" y="0"/>
            <a:ext cx="216072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9"/>
          <p:cNvSpPr/>
          <p:nvPr/>
        </p:nvSpPr>
        <p:spPr>
          <a:xfrm flipH="1">
            <a:off x="5940360" y="0"/>
            <a:ext cx="216072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5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5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5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5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ая соединительная линия 1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7"/>
          <p:cNvSpPr/>
          <p:nvPr/>
        </p:nvSpPr>
        <p:spPr>
          <a:xfrm flipH="1">
            <a:off x="250560" y="0"/>
            <a:ext cx="216036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8"/>
          <p:cNvSpPr/>
          <p:nvPr/>
        </p:nvSpPr>
        <p:spPr>
          <a:xfrm flipH="1">
            <a:off x="2987640" y="0"/>
            <a:ext cx="216072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9"/>
          <p:cNvSpPr/>
          <p:nvPr/>
        </p:nvSpPr>
        <p:spPr>
          <a:xfrm flipH="1">
            <a:off x="5940360" y="0"/>
            <a:ext cx="216072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5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5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5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5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5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5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5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. Какой член предложения отсутств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емят  …………   молод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…………….. Брызну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…………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. Ле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исли …………….. Дожде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…………………… нити золо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.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1:40:22Z</dcterms:created>
  <dc:creator>Ольга</dc:creator>
  <dc:description/>
  <dc:language>en-US</dc:language>
  <cp:lastModifiedBy>Ольга</cp:lastModifiedBy>
  <dcterms:modified xsi:type="dcterms:W3CDTF">2017-09-17T12:12:42Z</dcterms:modified>
  <cp:revision>4</cp:revision>
  <dc:subject/>
  <dc:title>Слайд 1</dc:title>
</cp:coreProperties>
</file>