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E34-1DD8-4B3A-B8EF-02DB4C92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21F-5A94-4C50-B4F0-D4F3F052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B85-3A8C-48C9-91EF-9E463B3B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22F-998E-467F-A449-97E9BB2F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595F-F5EF-4DDD-A7BF-70F0D594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7DBF-23AE-42B8-8191-CA7D027A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A0F1-2BBB-429A-965F-B3FD9A6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A8D2-A0B9-405F-992D-22B3B3FA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821A-1677-4B1A-8566-FB077E8B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2EBF-A7F5-40D6-B82A-EB260DB7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5871-F3F8-4F19-BBA9-C6994A0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05B-3803-4828-844B-440FAB2B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D2CD-94E3-4751-8415-B2829EF0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195B-C27F-43CB-AF90-5821783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8257-49BF-45CE-A9D4-4149975C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1320-1820-4326-8CB6-B474B8F1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B274-4F31-4517-8FCD-BF2BA827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19AA-6D8E-4D12-A06D-7579B1B5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343C-F626-448E-B3B0-A4EBB09A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F967-7360-4961-B5FC-1BECEDF0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22E5-ADB3-4D0D-8959-A0046F77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A6FC-7E32-4E45-A4C3-DB2DA44F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648-CAB2-43B7-B231-D3850533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26A8-E607-43BA-89C5-5FD93EFF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7332-8859-4C8C-AFC3-C6FA4021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A4E8-BF02-4FF1-8557-B1CFCCE9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C805-DA69-411B-B5BB-DD9205E0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63287-F397-4D5F-821A-A5C059E4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5FB5-1D5B-4021-A60C-FC154E53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23F6-51B7-4CD8-9F6D-951A1A49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0ACC-245A-4CD2-9D77-CB9E9D53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7B84-E10A-4B88-8121-253EC98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1833-0DDF-4E53-8551-2E055D5F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7A1-2174-4ECB-9966-98E34567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B6333-364B-4B17-A6D8-8A108F5D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7933-9964-4D0D-92C7-89FB005B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2A6C-5ED1-450B-B89E-5F942B5B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EA5F-DDE6-4EA2-A2C4-696391DF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9DCB-6928-4202-8955-C2C6035B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DCDC2-DC55-4252-8B90-9EDFE1B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B6C5-FCE4-4EC9-AAAD-F19C7B93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AD1D9-13A7-4B03-9348-5AD40602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8FF5-04F3-4966-90FA-55F9A79F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B416D-339B-4310-B6C7-DBAC7546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FDA-D460-43B6-AA7D-64013FDD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8B2A-9E3D-45B2-9783-F53FC5EA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95F03-316F-412C-8608-9FA2F7F7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A171B-7D54-4F17-BB35-4505292B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D5B4C-FC92-4F80-8C2D-D915870C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E14A-398F-4D89-8B2F-61CA7B1F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404B-9348-4BDD-AD2F-CEB4881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3CCE8-18D4-4B4F-B7AC-624F2C41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BC5E1-CC06-4172-86BD-86931DA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56274-2062-432B-A093-C7AB3D00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A96FB-A08B-4C0E-926A-FA169933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E73-5B86-4EF1-863B-EAA8C243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4709A-4FF2-488F-884E-D5CF544C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FC6BF-0AF1-4BCA-9B91-D17F8EEB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90DF6-B300-4149-9506-35F53FF5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0458-941B-4341-A32C-8D31C1BF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B3A83-CA49-4097-B15A-F913C20D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F234-C5AB-4FFB-AD09-47E60C9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AC9B5-F284-44CE-B42E-2EFFF4E7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FC42-B883-432F-9C78-EB821CFD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31F88-8349-43DE-AD17-00564D3A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4F08-2D0A-4C9B-A60E-50AC01EF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973-B35B-492F-A1F0-8942B4E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9F39B-0D67-4A60-9198-C67DCDFE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D5131-F1E6-481B-BFEB-BBBC2335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3D213-4075-488E-97E2-DF7941BC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7BF-7188-4B49-9F57-9AE6053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104-70E5-4395-9435-C4D4E04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3BF8-4860-4E74-9023-79E961BCE98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3784-1BFA-4CBB-BA22-53E6D0C31B3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DF7B-1BFB-402D-A8A4-B80D589DAF4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6A6B-7828-40E0-B6C7-4DEA0FFC27AE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48B8-81E8-49C6-850C-5730BBB558D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A02D-E412-4772-A8D0-A76D5E6CAF6E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дошкольное бюджетное образовательное учреждение детский сад комбинированного вида № 24 ст. Старотитаровской муниципального образования Темрюкский рай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 самомассаж, как одна из форм оздоровления детей в детском са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: Власенко О. 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438120" y="3284640"/>
            <a:ext cx="3025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46748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 самомассажа: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ля частей те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глаж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ир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мин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брация (потряхивание, поколачиван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ля пальцев ру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тяг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ир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ля стоп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дьба по массажным коврикам, по ребристым дорожка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омассаж сто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ражнения с предметами: (палка, мяч, пуговицы, спицы, карандаши и т. 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«Пять маленьких лекарей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ой палец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вной моз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зательный – желуд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ий – печ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ымянный – нерв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зинец - серд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3" descr="Детская-Рука.jpg"/>
          <p:cNvPicPr/>
          <p:nvPr/>
        </p:nvPicPr>
        <p:blipFill>
          <a:blip r:embed="rId1"/>
          <a:stretch/>
        </p:blipFill>
        <p:spPr>
          <a:xfrm>
            <a:off x="5214960" y="1428840"/>
            <a:ext cx="3429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массаж ушных раковин «Поиграем ушками»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с состоит из 4 простых упражнений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«Загибаем ушки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гнуть вперед ушные раковины, прижать их к голове.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устить, ощущая хлопок (4-6 раз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«Потянем уш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януть мочки ушей вниз (4-6 раз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«Подавим уш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козелка: подавить козелок, отпустить (до 10 раз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«По дорожке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вить пальчик на «дорожку» по краю ушек, водить вверх – вниз (4-6 раз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25992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ечный массаж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А. Уманск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Рисунок 5" descr="igrovoy-massaj-dlya-detey-po-umanskoy-46900-large.jpg"/>
          <p:cNvPicPr/>
          <p:nvPr/>
        </p:nvPicPr>
        <p:blipFill>
          <a:blip r:embed="rId1"/>
          <a:stretch/>
        </p:blipFill>
        <p:spPr>
          <a:xfrm>
            <a:off x="357120" y="1428840"/>
            <a:ext cx="84679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массаж Су-Джок шар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Рисунок 5" descr="N040316.jpg"/>
          <p:cNvPicPr/>
          <p:nvPr/>
        </p:nvPicPr>
        <p:blipFill>
          <a:blip r:embed="rId1"/>
          <a:stretch/>
        </p:blipFill>
        <p:spPr>
          <a:xfrm>
            <a:off x="500040" y="2000160"/>
            <a:ext cx="801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6840" y="404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ссаж пальцев эластичным кольцом «Лесные звери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исание: Дети поочередно продевают массажные кольца проговаривая стихотворение пальчиковой гимнасти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 лужок пришли зайчата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двежата, барсучат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ягушата и енот       (поочередно надеваем кольца на каждый палец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 зеленый на луж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ходи и ты, дружок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651640" y="4581360"/>
            <a:ext cx="3214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еменные условия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е за самочувствием и индивидуальной реакцией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должны выполняться на фоне позитивных ответных реакций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уется обучать детей не надавливать с силой на указанные точки, а массировать их мягкими движениями паль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проведением занятия педагогу следует попробовать выполнить все упражнения сам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льность: 5-7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тоги проек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 большинства детей сформировано понимание о необходимости заботиться о своем здоровье, беречь его вести здоровый образ жизн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а атмосфера взаимопонимания, направленная на развитие и укрепление здоровья дет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404280"/>
            <a:ext cx="8713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новлены партнерские отношения семьями детей группы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 Ознакомили родителей с методами оздоровления детей в детском саду и дом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 презентации «Игровой самомассаж», консультации и рекомендации,создание картотеки упражнений для использования родителями дома, День Открытых дверей- показ НОД с элементами игрового самомассаж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а создана развивающая среда для развития игрового самомассажа.(массажные мячики, варежки, бигуди, зубные щётки,резинки для волос, массажные коврики и т.п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Была создана развивающая среда для развития игровогосамомассаж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(массажные мячики,варежки,бигуди.зубные щётки,резинки для волос, массажные коврики и т.п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333000"/>
            <a:ext cx="8002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достаток двигательной активности помогут восполнить специальные занятия. Игровой самомассаж в сочетании с гимнастикой прекрасно развивают все органы и системы, оказывают общеукрепляющее воздействие на весь организм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асковые прикосновения рук, упражнения в виде игры доставляют большое удовольствие ребенку, укрепляют эмоциональную связь между ним и взрослы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08080" y="333360"/>
            <a:ext cx="8856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Актуальность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 последние годы наблюдается ухудшение состояния здоровья детей. И возникла необходимость поиска нетрадиционных путей организации коррекционно-образовательного процесса уже в раннем,  дошкольном возрасте. Одной из основных задач, стоящих перед нами - педагогами, является воспитание здорового подрастающего поколения. Одним из таких направлений является самомассаж. Игровой метод придает учебно-воспитательному процессу привлекательную форму, облегчает процесс запоминания и освоение упражнений, повышает эмоциональный фон занятий, способствует развитию мышления, воображения и творческих способностей ребенк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 е л 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еплять 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хранят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ье детей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младшего дошкольного возраст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редством организации игрового самомассаж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796000" y="3645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самомассажа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оспитывать интерес к оздоровительному массаж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бучать элементам массаж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Закреплять технику выполнения различных видов игровых массаже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овышать сопротивляемость организма к простудным заболевания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едотвращать простудные заболевания путем воздействия на активные точк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азвивать интеллектуальные функц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азвивать двигательную память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оспитывать бережное отношение к своему тел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азвивать коммуникативные навыки и тактильное восприяти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 самомассаж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 нетрадиционный вид упражнений, помогающий естественно развиваться организму ребенка, функционально совершенствоваться его отдельным органам и системам. «Игровой самомассаж» является основой закаливания и оздоровления детского организма. Выполняя упражнения самомассажа в игровой форме, с музыкальным сопровождением, дети получают радость и хорошее настроение. Такие упражнения способствуют формированию у ребенка сознательного стремления к здоровью, развивая навык собственного оздоро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массаж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массаж, выполняемый самим ребён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лучшает кровообращение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могает нормализовать работу внутренних органов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филактика простудных заболеваний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ышает функциональную деятельность головного мозга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онизирует весь организ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24000" y="404280"/>
            <a:ext cx="87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д игровым самомассажем понимается следующе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митационные упраж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имические упраж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пражнения для стоп, рук, сп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 упражнений с четко заданной программой действий и точной дозировкой нагруз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овой метод с организацией двигательной деятельности детей в соответствии с игровым сюжет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евновательный мет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есные методы: объяснение, коман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лядные методы: имитация, использование ориентиров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5992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самомассаж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 самомасс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аж «Пять маленьких лекаре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массаж ушных раковин «Поиграем ушкам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ечный масс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массаж Су-Джок ша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60072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8T01:39:22Z</dcterms:created>
  <dc:creator>Здравствуйте</dc:creator>
  <dc:description/>
  <dc:language>en-US</dc:language>
  <cp:lastModifiedBy>михаил</cp:lastModifiedBy>
  <dcterms:modified xsi:type="dcterms:W3CDTF">2017-09-03T18:36:19Z</dcterms:modified>
  <cp:revision>24</cp:revision>
  <dc:subject/>
  <dc:title>Здоровьесберегающая технология – Самомассаж</dc:title>
</cp:coreProperties>
</file>