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C5FB-DFC4-4FB3-A1BD-30D4EBBEA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0EB5-0B57-4D94-811A-6980CE970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6091-E3C1-4C9C-9502-D80B13992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7533-6172-4A4B-883E-DBD4FAC01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46833-347B-4836-B364-D349EFC37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10E8F-22F7-4423-84D3-EFB3975F3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E2FE3-7A79-4E86-B4FB-87D950C23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ACAC1-1FCD-43CE-80D2-FB0882749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F4555-6FF6-4944-9102-6CB2BA24F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A3BCE-1630-48DA-BC2C-43A3FDE09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B8BB7-8731-4D3A-BEEC-4C15B115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5F7D-4238-46F9-B4F3-3D10BCB66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4BDEE-A047-408B-BB88-0FB2749E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4B563-371A-4521-8D32-A6E399FC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48D7A-FCCD-4952-968B-0DC5BB4D0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3D23A-3711-4740-9154-24EED79FA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72AD1-DBA5-4C83-B509-C551C54BD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AB388-0F9B-497C-AD35-38B40C624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462DA-FF4B-423F-867F-154A78610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9833D-45DC-4B9F-B32B-AA3BB22B9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39A6F-8A97-4101-ADD3-6C7BF1BD9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F2BF7-49B9-4F69-B9F5-25E3DB5D5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9796-FE9C-4B36-A2F0-F7F76A220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64526-E64C-45BB-9890-310BCBA5E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82E7A-D156-4E5A-BB71-C3ADAB56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2930C-A342-4191-BA1E-E00314E08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96C0C-9A7E-41A5-9A49-28EF04760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9F105-80C4-4DC8-B103-405B906D8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C14A4-22FE-4A80-A8AC-7C8D32018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1B480-0BB0-4A42-86E0-6F36F99B7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A9D7F-DBF0-4794-ADAA-AAD184AFC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7FA66-255F-4FEC-BEB6-48C160476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8C1B7-74A2-4904-BFB9-A84BFC161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DA0F-75EC-4871-995D-1B015568B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E9A1A-D85E-4708-A8D7-D92D94F54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8DDC9-4362-45B1-8B6A-265065CC1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C85DF-F479-4B96-B772-D7CA923A7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46BAE-55CB-4F06-879B-598BB4FF8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67290-9A45-4D7A-AF0F-BBD4ABF41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073F3-43CD-4A06-9B7F-B5475010B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F16F4-A37C-4D91-8F45-7D46251F9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010A9-6CA6-4323-AD08-ACEBEEE32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4ED06-CFC2-414B-97C5-DF18ED507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DD6F2-D31F-495B-A647-A35D0D746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72D4-B52D-48B5-BFEF-8764EA41E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31DDC8-C6F4-4FE7-8F37-6CA9388F2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2154A2-07EA-453B-83DF-1EBEECC3B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152E77-0688-48F5-A5EF-50DBAD053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AC0BE8-80C1-4A11-95A6-0DB916F6D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24BA62-0971-44B4-967C-B62CA56EC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54087-CDFF-44CD-9D60-2D5E545A4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B2C47-8F80-4317-A1AB-77D69A18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88684-67A7-4B6D-BD47-9505E1E69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BABFF9-4D76-4513-9351-5FDA45A7E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9F580C-41FD-4E6C-BD0B-C38C85720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B08E-9397-4547-9AC4-37409346C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4689C0-722B-4D14-B5AD-9550F04DE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1F2CA0-9AC1-43EF-ADAB-1DD56C4AD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5D1623-C7EF-4D6F-AB9A-271BC6079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F4DDF2-F375-4FCA-B1DB-63E06972E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1FB6A1-E4EC-4F1F-9FB7-2638A14CF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BF93D0-D269-4052-AD7E-BD37E4273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1363EF-5D0E-4314-BE48-F0CF30FA0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57D922-FCA5-4210-8759-147930EAA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6B38E1-616D-4A44-B669-4E6F0C48F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B65864-810A-45F7-8893-8577BE686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909C-F57E-4D46-B806-56F8EB3D9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2031B1-133D-4CA8-946C-3F078C566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B08742-0FFC-4781-BD73-71E9A0D4A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D3A029-36BA-4B79-93DC-CB32E3C0D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EE21-5615-4E6E-996C-8DA301DE4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A9A4-7F87-4F31-957F-FBD0B390B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706EA-3315-4845-957A-586D223E2857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2EA61-DF18-47DA-9149-0042C655E266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050A2-D47C-43FA-B48D-5621F9AC1160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C7A8E-6748-470B-BF1C-EBFBA7E896A0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0CF5E-B17B-4C23-A959-DB87A5110A44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D6E0A-B792-420D-B517-B9935BDB2B5E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457200" y="642960"/>
            <a:ext cx="8229600" cy="56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ниципальное дошкольное бюджетное образовательное учреждение детский сад комбинированного вида № 24 ст. Старотитаровской муниципального образования Темрюкский райо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гровой самомассаж, как одна из форм оздоровления детей в детском сад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спитатель: Власенко О. 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Picture 5" descr=""/>
          <p:cNvPicPr/>
          <p:nvPr/>
        </p:nvPicPr>
        <p:blipFill>
          <a:blip r:embed="rId1"/>
          <a:stretch/>
        </p:blipFill>
        <p:spPr>
          <a:xfrm>
            <a:off x="438120" y="3284640"/>
            <a:ext cx="3025800" cy="29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404280"/>
            <a:ext cx="7467480" cy="57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емы самомассажа: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6840" y="836280"/>
            <a:ext cx="843588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Для частей тел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глажив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стира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змина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ибрация (потряхивание, поколачивание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lnSpc>
                <a:spcPct val="10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Для пальцев рук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spcBef>
                <a:spcPts val="451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тягив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spcBef>
                <a:spcPts val="451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стир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spcBef>
                <a:spcPts val="451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Для стоп: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spcBef>
                <a:spcPts val="451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одьба по массажным коврикам, по ребристым дорожка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spcBef>
                <a:spcPts val="451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амомассаж стоп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spcBef>
                <a:spcPts val="451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пражнения с предметами: (палка, мяч, пуговицы, спицы, карандаши и т. д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2" descr=""/>
          <p:cNvPicPr/>
          <p:nvPr/>
        </p:nvPicPr>
        <p:blipFill>
          <a:blip r:embed="rId1"/>
          <a:stretch/>
        </p:blipFill>
        <p:spPr>
          <a:xfrm>
            <a:off x="5651640" y="907920"/>
            <a:ext cx="33130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457200" y="785520"/>
            <a:ext cx="8229600" cy="55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ссаж «Пять маленьких лекарей»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ьшой палец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ловной моз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казательный – желуд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редний – пече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зымянный – нервн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сте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зинец - сердц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Рисунок 3" descr="Детская-Рука.jpg"/>
          <p:cNvPicPr/>
          <p:nvPr/>
        </p:nvPicPr>
        <p:blipFill>
          <a:blip r:embed="rId1"/>
          <a:stretch/>
        </p:blipFill>
        <p:spPr>
          <a:xfrm>
            <a:off x="5214960" y="1428840"/>
            <a:ext cx="342900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457200" y="785520"/>
            <a:ext cx="8229600" cy="55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ctr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массаж ушных раковин «Поиграем ушками»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лекс состоит из 4 простых упражнений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«Загибаем ушки»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гнуть вперед ушные раковины, прижать их к голове.  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пустить, ощущая хлопок (4-6 раз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«Потянем ушки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тянуть мочки ушей вниз (4-6 раз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«Подавим ушки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ссаж козелка: подавить козелок, отпустить (до 10 раз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«По дорожке»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авить пальчик на «дорожку» по краю ушек, водить вверх – вниз (4-6 раз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457200" y="259920"/>
            <a:ext cx="8229600" cy="60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чечный массаж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по А. Уманской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Рисунок 5" descr="igrovoy-massaj-dlya-detey-po-umanskoy-46900-large.jpg"/>
          <p:cNvPicPr/>
          <p:nvPr/>
        </p:nvPicPr>
        <p:blipFill>
          <a:blip r:embed="rId1"/>
          <a:stretch/>
        </p:blipFill>
        <p:spPr>
          <a:xfrm>
            <a:off x="357120" y="1428840"/>
            <a:ext cx="846792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457200" y="785520"/>
            <a:ext cx="8229600" cy="55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массаж Су-Джок шарам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Рисунок 5" descr="N040316.jpg"/>
          <p:cNvPicPr/>
          <p:nvPr/>
        </p:nvPicPr>
        <p:blipFill>
          <a:blip r:embed="rId1"/>
          <a:stretch/>
        </p:blipFill>
        <p:spPr>
          <a:xfrm>
            <a:off x="500040" y="2000160"/>
            <a:ext cx="8013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456840" y="404280"/>
            <a:ext cx="814716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Массаж пальцев эластичным кольцом «Лесные звери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писание: Дети поочередно продевают массажные кольца проговаривая стихотворение пальчиковой гимнастики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На лужок пришли зайчата,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Медвежата, барсучата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Лягушата и енот       (поочередно надеваем кольца на каждый палец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На зеленый на лужо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риходи и ты, дружок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Picture 2" descr=""/>
          <p:cNvPicPr/>
          <p:nvPr/>
        </p:nvPicPr>
        <p:blipFill>
          <a:blip r:embed="rId1"/>
          <a:stretch/>
        </p:blipFill>
        <p:spPr>
          <a:xfrm>
            <a:off x="5651640" y="4581360"/>
            <a:ext cx="321444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457200" y="856800"/>
            <a:ext cx="8229600" cy="54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пременные условия!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блюдение за самочувствием и индивидуальной реакцией дет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пражнения должны выполняться на фоне позитивных ответных реакций ребен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комендуется обучать детей не надавливать с силой на указанные точки, а массировать их мягкими движениями пальце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ед проведением занятия педагогу следует попробовать выполнить все упражнения самом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должительность: 5-7 мину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Итоги проект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У большинства детей сформировано понимание о необходимости заботиться о своем здоровье, беречь его вести здоровый образ жизни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оздана атмосфера взаимопонимания, направленная на развитие и укрепление здоровья детей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250560" y="404280"/>
            <a:ext cx="87138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становлены партнерские отношения семьями детей группы;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* Ознакомили родителей с методами оздоровления детей в детском саду и дома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каз презентации «Игровой самомассаж», консультации и рекомендации,создание картотеки упражнений для использования родителями дома, День Открытых дверей- показ НОД с элементами игрового самомассаж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ыла создана развивающая среда для развития игрового самомассажа.(массажные мячики, варежки, бигуди, зубные щётки,резинки для волос, массажные коврики и т.п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456840" y="260280"/>
            <a:ext cx="821844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Была создана развивающая среда для развития игровогосамомассажа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(массажные мячики,варежки,бигуди.зубные щётки,резинки для волос, массажные коврики и т.п.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456840" y="333000"/>
            <a:ext cx="800244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Недостаток двигательной активности помогут восполнить специальные занятия. Игровой самомассаж в сочетании с гимнастикой прекрасно развивают все органы и системы, оказывают общеукрепляющее воздействие на весь организм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Ласковые прикосновения рук, упражнения в виде игры доставляют большое удовольствие ребенку, укрепляют эмоциональную связь между ним и взрослым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456840" y="333000"/>
            <a:ext cx="84358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1"/>
          <a:stretch/>
        </p:blipFill>
        <p:spPr>
          <a:xfrm>
            <a:off x="208080" y="333360"/>
            <a:ext cx="885672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456840" y="333000"/>
            <a:ext cx="814716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">
              <a:lnSpc>
                <a:spcPct val="6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Актуальность: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В последние годы наблюдается ухудшение состояния здоровья детей. И возникла необходимость поиска нетрадиционных путей организации коррекционно-образовательного процесса уже в раннем,  дошкольном возрасте. Одной из основных задач, стоящих перед нами - педагогами, является воспитание здорового подрастающего поколения. Одним из таких направлений является самомассаж. Игровой метод придает учебно-воспитательному процессу привлекательную форму, облегчает процесс запоминания и освоение упражнений, повышает эмоциональный фон занятий, способствует развитию мышления, воображения и творческих способностей ребенка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456840" y="333000"/>
            <a:ext cx="821844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Ц е л ь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реплять  и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сохранять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доровье детей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младшего дошкольного возраста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средством организации игрового самомассаж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5796000" y="3645000"/>
            <a:ext cx="28573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457200" y="856800"/>
            <a:ext cx="8229600" cy="54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чи самомассажа: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Воспитывать интерес к оздоровительному массажу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Обучать элементам массажа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Закреплять технику выполнения различных видов игровых массажей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Повышать сопротивляемость организма к простудным заболеваниям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Предотвращать простудные заболевания путем воздействия на активные точки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Развивать интеллектуальные функции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Развивать двигательную память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Воспитывать бережное отношение к своему телу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Развивать коммуникативные навыки и тактильное восприятие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457200" y="691920"/>
            <a:ext cx="8229600" cy="56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гровой самомассаж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- нетрадиционный вид упражнений, помогающий естественно развиваться организму ребенка, функционально совершенствоваться его отдельным органам и системам. «Игровой самомассаж» является основой закаливания и оздоровления детского организма. Выполняя упражнения самомассажа в игровой форме, с музыкальным сопровождением, дети получают радость и хорошее настроение. Такие упражнения способствуют формированию у ребенка сознательного стремления к здоровью, развивая навык собственного оздоровл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457200" y="571680"/>
            <a:ext cx="8229600" cy="57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амомассаж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- это массаж, выполняемый самим ребёнком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улучшает кровообращение;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омогает нормализовать работу внутренних органов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рофилактика простудных заболеваний;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овышает функциональную деятельность головного мозга,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тонизирует весь организм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324000" y="404280"/>
            <a:ext cx="87120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од игровым самомассажем понимается следующе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Имитационные упражн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Мимические упражн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Упражнения для стоп, рук, спи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тод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тод упражнений с четко заданной программой действий и точной дозировкой нагрузк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гровой метод с организацией двигательной деятельности детей в соответствии с игровым сюжето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ревновательный метод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ловесные методы: объяснение, команд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глядные методы: имитация, использование ориентиров и т.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457200" y="259920"/>
            <a:ext cx="8229600" cy="60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ды самомассажа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гровой самомасса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ссаж «Пять маленьких лекарей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массаж ушных раковин «Поиграем ушками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чечный масса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массаж Су-Джок шар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5364000" y="4365720"/>
            <a:ext cx="3600720" cy="23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08T01:39:22Z</dcterms:created>
  <dc:creator>Здравствуйте</dc:creator>
  <dc:description/>
  <dc:language>en-US</dc:language>
  <cp:lastModifiedBy>михаил</cp:lastModifiedBy>
  <dcterms:modified xsi:type="dcterms:W3CDTF">2017-09-03T18:36:19Z</dcterms:modified>
  <cp:revision>24</cp:revision>
  <dc:subject/>
  <dc:title>Здоровьесберегающая технология – Самомассаж</dc:title>
</cp:coreProperties>
</file>