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085-FBBD-410C-8625-050D80F6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6F3-A08F-4CF7-843A-BA6458F5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CCD-E12D-46B0-8BDC-A1478612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7E3-2AC5-4DE1-A7FA-13DB4551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E237-5503-4C12-92E8-CF009FAA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4A6D-D014-4BDE-8E48-C7600F90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858A-3083-4217-9288-F428AF86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40A5-611A-4DF6-9080-7907699A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E295-751C-4EDE-AF69-59A397AC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61E8-4EF1-40BD-9B6B-953CF574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50AC-F678-4B43-A7E7-8E2CFFE0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CDD-224A-4589-9579-1D8EEE7F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112F-94C0-44A7-98E4-24FBE679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AE85-D3A6-4D31-934F-335D2009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F523-C400-47CA-A61B-71A1AAD4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B568-EBCE-4794-9D58-BF65D9B1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31C8-FC51-4ACE-A9AE-622C55A6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9C6-4990-4C55-A028-F1C1B35A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769-CAE0-48F0-A57E-E4DD7882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737-030D-4BB1-8E55-8E29BFA5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628-D675-4382-9443-33B326C2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1BF-BBE1-4E84-B56D-1BFB4923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066-3C38-4BD5-BAA0-F6D17FDF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15D-8F07-46D5-ADED-55143C4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9448-1789-449C-AF2A-76E30ACB3B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F146-E772-4100-B60B-5E57BFAEBB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3184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Изучение личности школьника как одно из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направлений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деятельности классного руководителя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ухрянкина Е.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БОУ «СОШ № 10 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DSCN1306"/>
          <p:cNvPicPr/>
          <p:nvPr/>
        </p:nvPicPr>
        <p:blipFill>
          <a:blip r:embed="rId1"/>
          <a:stretch/>
        </p:blipFill>
        <p:spPr>
          <a:xfrm>
            <a:off x="1066680" y="3592440"/>
            <a:ext cx="373392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етоды диагностики в период знакомств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 Айз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циомет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тод послови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 на тревож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муникативный тренинг ( тренинг по общению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енинг на сплочение коллек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DSCN1301"/>
          <p:cNvPicPr/>
          <p:nvPr/>
        </p:nvPicPr>
        <p:blipFill>
          <a:blip r:embed="rId1"/>
          <a:stretch/>
        </p:blipFill>
        <p:spPr>
          <a:xfrm>
            <a:off x="4952880" y="14479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етоды диагностики в конфликтный период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кспресс-методика «Отношение к коллективу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 « Уровень конфликтност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енинг «Управление конфликтом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Шляпная методика» Эдварда де Бо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Шкала – опросник Ф.Фидл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Результаты исследования отношений в коллективе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609480" y="228600"/>
          <a:ext cx="81536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81536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Результаты теста «Уровень конфликтности личности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изки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% (9 челове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ровень ниже средне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% (4 человека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редни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% (2 человека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соки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% (2 человека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чень высоки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% (1 челове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Arial"/>
              </a:rPr>
              <a:t>Методика «беспроигрышного разрешения конфликтов» (по Ю.Б.Гиппенрейтер)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ктивное слуша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«Я - сообщение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бор возможных решений : «Как же нам быть?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ценка предложенных решений и выбор наилучшег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етализация принятого реш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полнение принятого решения, контрол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нализ осуществлённого де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752480" y="380880"/>
            <a:ext cx="6096240" cy="65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зможно ли другого изменить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крыть, сломать и вновь свинтить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дьбу без колебаний предсказать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ом туда дорогу смело указа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И</a:t>
            </a:r>
            <a:r>
              <a:rPr b="0" lang="ru-RU" sz="20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 давать с дороги сбиться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лкать и осуждать, мешая ошибиться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кто нам дал такое право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го и я не знаю, ох, не знаю, право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Е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ь шаг: любить, исследуя, не ждать мольб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Л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шь в чуде внутренней борьб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Ю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ится взлёт людской судьбы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.И. Емельянов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ё , что я хотел бы знать, - это ябло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9200" indent="-259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ё, что я знаю, - ветвь ябло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9200" indent="-259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ё, что я могу преподать ученикам, - это яблок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9200" indent="-259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ё, что останется в них, - это семечко, но из любой семечки может вырасти ябло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9200" indent="-2592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. Эрве - Баз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Функции воспитательной системы школы по отношению к классу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уманиз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ордин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енс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щи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4" descr="DSCN1300"/>
          <p:cNvPicPr/>
          <p:nvPr/>
        </p:nvPicPr>
        <p:blipFill>
          <a:blip r:embed="rId1"/>
          <a:stretch/>
        </p:blipFill>
        <p:spPr>
          <a:xfrm>
            <a:off x="4038480" y="1828800"/>
            <a:ext cx="4559400" cy="34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заимовлияние коллектива и ученика зависит от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обенностей и уровня развития коллектив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ожения ребёнка в системе внутри классных отношен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рактера взаимоотношений с классным руководителе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ожения микрогруппы ребёнка в класс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чимости коллектива для ребён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b9efee"/>
                </a:solidFill>
                <a:latin typeface="Garamond"/>
              </a:rPr>
              <a:t>Функции классного руководителя:</a:t>
            </a:r>
            <a:endParaRPr b="1" lang="en-US" sz="35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ординирующ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иагностирующ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нтролирующ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спитатель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ектирующ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ганизационно 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еятельност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вающ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етодическ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тимулирующ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ценивающ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хранно-защит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рректирующа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0920" indent="-2509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кодак 110"/>
          <p:cNvPicPr/>
          <p:nvPr/>
        </p:nvPicPr>
        <p:blipFill>
          <a:blip r:embed="rId1"/>
          <a:stretch/>
        </p:blipFill>
        <p:spPr>
          <a:xfrm>
            <a:off x="4572000" y="914400"/>
            <a:ext cx="38862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ff66"/>
                </a:solidFill>
                <a:latin typeface="Garamond"/>
              </a:rPr>
              <a:t>Тема  работы школы «Социально и личностно ориентированное взаимодействие педагогов с учащимися и родителями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Цели воспитательной работы школы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59200" indent="-259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этапное создание условий для личностного роста учащихс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9200" indent="-259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ание комплексной поддержки со стороны всех служб школ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9200" indent="-259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стороннее развитие ребёнка в учебно-воспитательной деятельности в рамках воспитательной системы школ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сновные направления деятель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доровь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уч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су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мь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у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агнос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кодак 083"/>
          <p:cNvPicPr/>
          <p:nvPr/>
        </p:nvPicPr>
        <p:blipFill>
          <a:blip r:embed="rId1"/>
          <a:stretch/>
        </p:blipFill>
        <p:spPr>
          <a:xfrm>
            <a:off x="3962520" y="1676520"/>
            <a:ext cx="4724280" cy="44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огика развития классного коллектив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1447920"/>
          <a:ext cx="8610480" cy="5357520"/>
        </p:xfrm>
        <a:graphic>
          <a:graphicData uri="http://schemas.openxmlformats.org/drawingml/2006/table">
            <a:tbl>
              <a:tblPr/>
              <a:tblGrid>
                <a:gridCol w="2749320"/>
                <a:gridCol w="5861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пери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Знаком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(адапт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1.Сформировать чувство «мы»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2.Помочьопределить свое «место» в коллектив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3.Составить первоначальное впечатление о детя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Конфлик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1.Развитие  моральных суждений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2.Исследование  жизненных ценностей подростков, причин конфликтов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3.Конструктивное взаимодействие  в конфликтной ситуац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7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Основной (деловой период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1.Организация личностно и общественно значимой деятельност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2.Формирование ответственности за принятие решени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3.Создание системы адаптивно необходимых интересов и видов деятельности, позволяющих поддерживать физическое, психическое, социальное здоровье детей и подрост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Диагностика в процессе развития классного коллектив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0880" y="1447920"/>
          <a:ext cx="8001000" cy="4748040"/>
        </p:xfrm>
        <a:graphic>
          <a:graphicData uri="http://schemas.openxmlformats.org/drawingml/2006/table">
            <a:tbl>
              <a:tblPr/>
              <a:tblGrid>
                <a:gridCol w="2076480"/>
                <a:gridCol w="592452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пери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Знаком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(адапт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Девиз: «Темп и разнообразие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Тренинги по общению ( игры на знакомство; социометрия; тест на тревожность; тест Айзенка), соревнования, игр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Конфлик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Решение нравственных дилемм; экспресс- методика «Отношения в коллективе»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искусственное создание «ситуаций успех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Основно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(деловой период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Коллективно творческие дел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Деловые игры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Диспуты и дискуссии о смысле жизни, перспективах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Создание «ситуаций успеха» коллективу как субъекту деятель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Клубы по интересам, творческие гостин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7-09-17T03:11:0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