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5DD8-F757-4850-A98C-06F0C7E4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DD15-AD21-4C77-B154-2193F8BB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97EE-F2B8-4658-9270-3CA87F2EC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A180-84AA-4694-A994-4D2D3D8D1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F7FA-FE4B-4B74-BACC-804B0623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CA65-2B0F-4F46-AE3B-05ECB37C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4BB0-5C2C-458A-8039-13CCB488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A8B5-EF10-4BEA-A070-45A6B885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F320-F57C-4F9C-BE27-85A4D069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A64C-4239-4172-AF4E-666961F1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4F07-D574-41C8-84E7-5FF55124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0A25-43DD-48EA-A3E8-D3D152D3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6BF5-837A-4E2E-9DB9-D7103245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A314-003B-4FF9-B4AF-02DE7494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54D9-B65C-4F40-A649-D0480F10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7F1F-D5EF-48C1-AA60-F95BF6324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6639-3396-405E-A095-1C515A2F7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0A6815-DC98-45FF-8159-9F2990866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B21EC6-468F-4F50-9E89-06F1A41B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C43FD5-41A9-44E9-98B6-01C6626D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2F0A62-0420-4359-95A3-06894C78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B4A714-8C27-4BFA-B853-5FEDE371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8A32-00A1-425E-BF3F-A532C369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A30751-A193-4E67-BD1B-18FAE367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EF22D2-39B2-4A6D-BB87-E0A82A05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AE1C6D-A5A8-4B33-A3BF-17846963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24B26F-3A45-4A89-9160-F217A69E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1113EF-A0BF-434E-ADD8-448B3BC4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54296E-7BF3-4A2A-AF6E-663E8607C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7FB5DB-0DFF-4157-80A7-8B933C6B4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FD12B-8FBE-4097-A0F5-7D1FC77D5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F6066-3D86-4749-9517-F92DC188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E304E-72A7-47CF-95B0-46AAD955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94E6-D203-461C-9E15-76EFFFC8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EE3F9-6FE3-4A62-8DCB-03B61268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6C082-851B-4152-B576-291358E1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B3134-7A7C-4BD6-A176-B933FE23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3D34E-967D-43F5-81C5-32DA63DE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A5145-6249-4E65-BFCE-D5C8A432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048D8-A2D5-4E6D-8DB9-4922B292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F5151-AB9C-4811-9EBF-7AE066FA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A1CD0-768D-4605-95B2-1178CEEC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6E9BB-BD2D-4F3A-AD58-B3B278227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FD67B3-BCED-4104-B505-70D03A43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9125-6387-4215-9C07-BA2D3D5A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A2CE3F-76EA-40AA-A989-19754541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6944F1-FBCB-4EC6-9E17-688B3B4D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4A7EDE-8147-49B5-A0E7-12429177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1AE908-E8CB-4266-BD7C-D6EDA296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0366A0-7DE7-49B3-90FC-6C9D7AA6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8FC185-0030-403B-80AA-5D8A35CE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02570E-BC77-4F9B-874D-18264CA7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6F0CE7-0257-43A1-8319-043FF99F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8CD292-4771-4B99-98AE-99439EC8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2A3CA7-A2D0-43F4-B111-09E3480B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C5E1-929D-4C8C-B264-AC9CFAB0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932F11-5E31-42C6-B5CC-C80CB1FD9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FF9CD3-3902-482A-8D12-B57DA12C2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770D5E-A13D-4CE0-B7D4-16C2D98F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954D1B-FD64-4CD2-9B7C-E711AF58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27CC80-2F0E-4494-A3FA-157E37D4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251E01-442A-4D39-A416-94784400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0C6678-832E-4558-A7A4-435452F0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326672-2AB8-4F4C-BC7D-4FE256B7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8A51F4-0185-422A-B51D-B4387E14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F77DA2-1154-4080-B14A-508CD867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849E-54E8-4A8D-8E3F-26C8C084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6E9968-3694-4DB3-890D-2F19312C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AC05EE-D9F2-434D-8258-23608E41A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129BDD-D368-4775-B681-E442B1EB1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8D1AE8-37F5-4D69-AC85-FC5FFE433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F7B2AD-F3C8-425F-87E8-F68C0D56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0F63ED-3CA9-460B-9813-2259E274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3620F6-1FB1-4674-9F12-608B9ECE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69D211-9B1E-4ADA-9B9A-ADEB4A93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9DA816-FB78-4431-8514-2852D44A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F60821-A4FD-4AC1-A2E4-FFFA6D70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58AB-081C-4C26-B592-21DF1695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99F270-6C4C-430D-B1F1-EDC56853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0F2BF6-30D2-43A6-AE3A-CEBE0E20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6DC8DC-3B27-4A24-BA13-C87139E7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8587C0-FE0D-41A5-8EA8-3E1408B5E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ECEDEC-6395-4398-9326-F655DA7FE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85D7-975B-43B6-AE96-82638024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D078-4B47-4333-BD0F-C80A09B1A01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EDCD-E181-4677-B97F-64AF4F1CECE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F125-EB64-40E8-BE5D-1DAC9071AD2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CCF9-9B0E-4848-ABE7-D9BFACC902B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180C-D49E-45C6-9D2A-9EA6D99B163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910A-3479-46E9-AD76-6C6CE224A62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0A4B-66EE-4C40-90FF-9929A1CDB77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777240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ПРОЕКТ</a:t>
            </a:r>
            <a:br>
              <a:rPr sz="3200"/>
            </a:b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«МОЙ ВЕСЕЛЫЙ ЗВОНКИЙ МЯЧ»</a:t>
            </a:r>
            <a:br>
              <a:rPr sz="3200"/>
            </a:b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6-АЯ ГРУППА (СТАРШАЯ)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ВОСПИТАТЕЛЬ: ТКАЧЕВА Н.Я.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4" name="Содержимое 3" descr="P1040155.JPG"/>
          <p:cNvPicPr/>
          <p:nvPr/>
        </p:nvPicPr>
        <p:blipFill>
          <a:blip r:embed="rId1"/>
          <a:stretch/>
        </p:blipFill>
        <p:spPr>
          <a:xfrm>
            <a:off x="214200" y="285840"/>
            <a:ext cx="864396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6" name="Содержимое 5" descr="P1040157.JPG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8" name="Содержимое 3" descr="P1040160.JPG"/>
          <p:cNvPicPr/>
          <p:nvPr/>
        </p:nvPicPr>
        <p:blipFill>
          <a:blip r:embed="rId1"/>
          <a:stretch/>
        </p:blipFill>
        <p:spPr>
          <a:xfrm>
            <a:off x="642960" y="214200"/>
            <a:ext cx="8223120" cy="59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0" name="Содержимое 3" descr="P1040163.JPG"/>
          <p:cNvPicPr/>
          <p:nvPr/>
        </p:nvPicPr>
        <p:blipFill>
          <a:blip r:embed="rId1"/>
          <a:stretch/>
        </p:blipFill>
        <p:spPr>
          <a:xfrm>
            <a:off x="428760" y="138240"/>
            <a:ext cx="867384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2" name="Содержимое 7" descr="P1040168.JPG"/>
          <p:cNvPicPr/>
          <p:nvPr/>
        </p:nvPicPr>
        <p:blipFill>
          <a:blip r:embed="rId1"/>
          <a:stretch/>
        </p:blipFill>
        <p:spPr>
          <a:xfrm>
            <a:off x="285840" y="214200"/>
            <a:ext cx="8358120" cy="56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4" name="Содержимое 3" descr="P1040172.JPG"/>
          <p:cNvPicPr/>
          <p:nvPr/>
        </p:nvPicPr>
        <p:blipFill>
          <a:blip r:embed="rId1"/>
          <a:stretch/>
        </p:blipFill>
        <p:spPr>
          <a:xfrm>
            <a:off x="190440" y="214200"/>
            <a:ext cx="873936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6" name="Содержимое 3" descr="P1040173.JPG"/>
          <p:cNvPicPr/>
          <p:nvPr/>
        </p:nvPicPr>
        <p:blipFill>
          <a:blip r:embed="rId1"/>
          <a:stretch/>
        </p:blipFill>
        <p:spPr>
          <a:xfrm>
            <a:off x="428760" y="214200"/>
            <a:ext cx="8246880" cy="618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8" name="Содержимое 3" descr="P1040188.JPG"/>
          <p:cNvPicPr/>
          <p:nvPr/>
        </p:nvPicPr>
        <p:blipFill>
          <a:blip r:embed="rId1"/>
          <a:stretch/>
        </p:blipFill>
        <p:spPr>
          <a:xfrm>
            <a:off x="277920" y="214200"/>
            <a:ext cx="8223120" cy="59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0" name="Содержимое 3" descr="P1040190.JPG"/>
          <p:cNvPicPr/>
          <p:nvPr/>
        </p:nvPicPr>
        <p:blipFill>
          <a:blip r:embed="rId1"/>
          <a:stretch/>
        </p:blipFill>
        <p:spPr>
          <a:xfrm>
            <a:off x="571680" y="285840"/>
            <a:ext cx="8199360" cy="58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2" name="Содержимое 3" descr="P1040191.JPG"/>
          <p:cNvPicPr/>
          <p:nvPr/>
        </p:nvPicPr>
        <p:blipFill>
          <a:blip r:embed="rId1"/>
          <a:stretch/>
        </p:blipFill>
        <p:spPr>
          <a:xfrm>
            <a:off x="500040" y="285840"/>
            <a:ext cx="81756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Цель: 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продолжать работу по укреплению здоровья детей, формировать представление о здоровом образе жизни человека. Воспитывать желание быть здоровым, выполнять простые правила бережного отношения к своему здоровью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Задачи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- развивать психофизические качества в разнообразных формах двигательной деятельности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-  совершенствовать двигательные умения и навыки детей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- прививать любовь к спорту, желание заниматься спортом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- развивать у детей интерес к знаниям о своем организме, желание заботиться  о своем здоровье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4" name="Содержимое 7" descr="P1040203.JPG"/>
          <p:cNvPicPr/>
          <p:nvPr/>
        </p:nvPicPr>
        <p:blipFill>
          <a:blip r:embed="rId1"/>
          <a:stretch/>
        </p:blipFill>
        <p:spPr>
          <a:xfrm>
            <a:off x="285840" y="285840"/>
            <a:ext cx="8758080" cy="58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6" name="Содержимое 3" descr="P1040204.JPG"/>
          <p:cNvPicPr/>
          <p:nvPr/>
        </p:nvPicPr>
        <p:blipFill>
          <a:blip r:embed="rId1"/>
          <a:stretch/>
        </p:blipFill>
        <p:spPr>
          <a:xfrm>
            <a:off x="500040" y="214200"/>
            <a:ext cx="8366040" cy="59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8" name="Содержимое 3" descr="P1040216.JPG"/>
          <p:cNvPicPr/>
          <p:nvPr/>
        </p:nvPicPr>
        <p:blipFill>
          <a:blip r:embed="rId1"/>
          <a:stretch/>
        </p:blipFill>
        <p:spPr>
          <a:xfrm>
            <a:off x="500040" y="209520"/>
            <a:ext cx="7889760" cy="59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0" name="Содержимое 3" descr="P1040218.JPG"/>
          <p:cNvPicPr/>
          <p:nvPr/>
        </p:nvPicPr>
        <p:blipFill>
          <a:blip r:embed="rId1"/>
          <a:stretch/>
        </p:blipFill>
        <p:spPr>
          <a:xfrm>
            <a:off x="571680" y="333360"/>
            <a:ext cx="772308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2" name="Содержимое 3" descr="P1040220.JPG"/>
          <p:cNvPicPr/>
          <p:nvPr/>
        </p:nvPicPr>
        <p:blipFill>
          <a:blip r:embed="rId1"/>
          <a:stretch/>
        </p:blipFill>
        <p:spPr>
          <a:xfrm>
            <a:off x="357120" y="101520"/>
            <a:ext cx="8032680" cy="60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4" name="Содержимое 3" descr="P1040221.JPG"/>
          <p:cNvPicPr/>
          <p:nvPr/>
        </p:nvPicPr>
        <p:blipFill>
          <a:blip r:embed="rId1"/>
          <a:stretch/>
        </p:blipFill>
        <p:spPr>
          <a:xfrm>
            <a:off x="642960" y="214200"/>
            <a:ext cx="822312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6" name="Содержимое 3" descr="P1040222.JPG"/>
          <p:cNvPicPr/>
          <p:nvPr/>
        </p:nvPicPr>
        <p:blipFill>
          <a:blip r:embed="rId1"/>
          <a:stretch/>
        </p:blipFill>
        <p:spPr>
          <a:xfrm>
            <a:off x="500040" y="285840"/>
            <a:ext cx="8366040" cy="58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8" name="Содержимое 3" descr="P1040225.JPG"/>
          <p:cNvPicPr/>
          <p:nvPr/>
        </p:nvPicPr>
        <p:blipFill>
          <a:blip r:embed="rId1"/>
          <a:stretch/>
        </p:blipFill>
        <p:spPr>
          <a:xfrm>
            <a:off x="500040" y="66600"/>
            <a:ext cx="808056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0" name="Содержимое 3" descr="P1040225.JPG"/>
          <p:cNvPicPr/>
          <p:nvPr/>
        </p:nvPicPr>
        <p:blipFill>
          <a:blip r:embed="rId1"/>
          <a:stretch/>
        </p:blipFill>
        <p:spPr>
          <a:xfrm>
            <a:off x="500040" y="209520"/>
            <a:ext cx="7889760" cy="62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2" name="Содержимое 3" descr="P1040226.JPG"/>
          <p:cNvPicPr/>
          <p:nvPr/>
        </p:nvPicPr>
        <p:blipFill>
          <a:blip r:embed="rId1"/>
          <a:stretch/>
        </p:blipFill>
        <p:spPr>
          <a:xfrm>
            <a:off x="500040" y="214200"/>
            <a:ext cx="8271000" cy="59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4" name="Содержимое 5" descr="P1040029.JPG"/>
          <p:cNvPicPr/>
          <p:nvPr/>
        </p:nvPicPr>
        <p:blipFill>
          <a:blip r:embed="rId1"/>
          <a:stretch/>
        </p:blipFill>
        <p:spPr>
          <a:xfrm>
            <a:off x="0" y="0"/>
            <a:ext cx="4889520" cy="366696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6" descr="P1040027.JPG"/>
          <p:cNvPicPr/>
          <p:nvPr/>
        </p:nvPicPr>
        <p:blipFill>
          <a:blip r:embed="rId2"/>
          <a:stretch/>
        </p:blipFill>
        <p:spPr>
          <a:xfrm>
            <a:off x="5000760" y="0"/>
            <a:ext cx="4000320" cy="364320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7" descr="P1040024.JPG"/>
          <p:cNvPicPr/>
          <p:nvPr/>
        </p:nvPicPr>
        <p:blipFill>
          <a:blip r:embed="rId3"/>
          <a:stretch/>
        </p:blipFill>
        <p:spPr>
          <a:xfrm>
            <a:off x="0" y="3643200"/>
            <a:ext cx="4857840" cy="316080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8" descr="P1040025.JPG"/>
          <p:cNvPicPr/>
          <p:nvPr/>
        </p:nvPicPr>
        <p:blipFill>
          <a:blip r:embed="rId4"/>
          <a:stretch/>
        </p:blipFill>
        <p:spPr>
          <a:xfrm>
            <a:off x="5000760" y="3714840"/>
            <a:ext cx="40003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4" name="Содержимое 3" descr="P1040228.JPG"/>
          <p:cNvPicPr/>
          <p:nvPr/>
        </p:nvPicPr>
        <p:blipFill>
          <a:blip r:embed="rId1"/>
          <a:stretch/>
        </p:blipFill>
        <p:spPr>
          <a:xfrm>
            <a:off x="571680" y="-23760"/>
            <a:ext cx="8199360" cy="61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9" name="Содержимое 7" descr="P1040030.JPG"/>
          <p:cNvPicPr/>
          <p:nvPr/>
        </p:nvPicPr>
        <p:blipFill>
          <a:blip r:embed="rId1"/>
          <a:stretch/>
        </p:blipFill>
        <p:spPr>
          <a:xfrm>
            <a:off x="142920" y="0"/>
            <a:ext cx="4248000" cy="340056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8" descr="P1040031.JPG"/>
          <p:cNvPicPr/>
          <p:nvPr/>
        </p:nvPicPr>
        <p:blipFill>
          <a:blip r:embed="rId2"/>
          <a:stretch/>
        </p:blipFill>
        <p:spPr>
          <a:xfrm>
            <a:off x="4429080" y="0"/>
            <a:ext cx="4572000" cy="335772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9" descr="P1040033.JPG"/>
          <p:cNvPicPr/>
          <p:nvPr/>
        </p:nvPicPr>
        <p:blipFill>
          <a:blip r:embed="rId3"/>
          <a:stretch/>
        </p:blipFill>
        <p:spPr>
          <a:xfrm>
            <a:off x="142920" y="3535200"/>
            <a:ext cx="4286160" cy="332280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11" descr="P1040034.JPG"/>
          <p:cNvPicPr/>
          <p:nvPr/>
        </p:nvPicPr>
        <p:blipFill>
          <a:blip r:embed="rId4"/>
          <a:stretch/>
        </p:blipFill>
        <p:spPr>
          <a:xfrm>
            <a:off x="4500720" y="3571920"/>
            <a:ext cx="44766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4" name="Содержимое 3" descr="P1040037.JPG"/>
          <p:cNvPicPr/>
          <p:nvPr/>
        </p:nvPicPr>
        <p:blipFill>
          <a:blip r:embed="rId1"/>
          <a:stretch/>
        </p:blipFill>
        <p:spPr>
          <a:xfrm>
            <a:off x="142920" y="142920"/>
            <a:ext cx="4660920" cy="349560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4" descr="P1040038.JPG"/>
          <p:cNvPicPr/>
          <p:nvPr/>
        </p:nvPicPr>
        <p:blipFill>
          <a:blip r:embed="rId2"/>
          <a:stretch/>
        </p:blipFill>
        <p:spPr>
          <a:xfrm>
            <a:off x="142920" y="3643200"/>
            <a:ext cx="4572000" cy="3071880"/>
          </a:xfrm>
          <a:prstGeom prst="rect">
            <a:avLst/>
          </a:prstGeom>
          <a:ln w="0">
            <a:noFill/>
          </a:ln>
        </p:spPr>
      </p:pic>
      <p:pic>
        <p:nvPicPr>
          <p:cNvPr id="366" name="Рисунок 5" descr="P1040039.JPG"/>
          <p:cNvPicPr/>
          <p:nvPr/>
        </p:nvPicPr>
        <p:blipFill>
          <a:blip r:embed="rId3"/>
          <a:stretch/>
        </p:blipFill>
        <p:spPr>
          <a:xfrm>
            <a:off x="4929120" y="142920"/>
            <a:ext cx="4000680" cy="3500280"/>
          </a:xfrm>
          <a:prstGeom prst="rect">
            <a:avLst/>
          </a:prstGeom>
          <a:ln w="0">
            <a:noFill/>
          </a:ln>
        </p:spPr>
      </p:pic>
      <p:pic>
        <p:nvPicPr>
          <p:cNvPr id="367" name="Рисунок 7" descr="P1040044.JPG"/>
          <p:cNvPicPr/>
          <p:nvPr/>
        </p:nvPicPr>
        <p:blipFill>
          <a:blip r:embed="rId4"/>
          <a:stretch/>
        </p:blipFill>
        <p:spPr>
          <a:xfrm>
            <a:off x="4857840" y="3697200"/>
            <a:ext cx="407196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Содержимое 3" descr="P1040076.JPG"/>
          <p:cNvPicPr/>
          <p:nvPr/>
        </p:nvPicPr>
        <p:blipFill>
          <a:blip r:embed="rId1"/>
          <a:stretch/>
        </p:blipFill>
        <p:spPr>
          <a:xfrm>
            <a:off x="142920" y="142920"/>
            <a:ext cx="4946760" cy="3816360"/>
          </a:xfrm>
          <a:prstGeom prst="rect">
            <a:avLst/>
          </a:prstGeom>
          <a:ln w="0">
            <a:noFill/>
          </a:ln>
        </p:spPr>
      </p:pic>
      <p:pic>
        <p:nvPicPr>
          <p:cNvPr id="370" name="Рисунок 4" descr="P1040074.JPG"/>
          <p:cNvPicPr/>
          <p:nvPr/>
        </p:nvPicPr>
        <p:blipFill>
          <a:blip r:embed="rId2"/>
          <a:stretch/>
        </p:blipFill>
        <p:spPr>
          <a:xfrm>
            <a:off x="5143680" y="142920"/>
            <a:ext cx="3857400" cy="378612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7" descr="P1040082.JPG"/>
          <p:cNvPicPr/>
          <p:nvPr/>
        </p:nvPicPr>
        <p:blipFill>
          <a:blip r:embed="rId3"/>
          <a:stretch/>
        </p:blipFill>
        <p:spPr>
          <a:xfrm>
            <a:off x="142920" y="4071960"/>
            <a:ext cx="4857840" cy="278604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8" descr="P1040083.JPG"/>
          <p:cNvPicPr/>
          <p:nvPr/>
        </p:nvPicPr>
        <p:blipFill>
          <a:blip r:embed="rId4"/>
          <a:stretch/>
        </p:blipFill>
        <p:spPr>
          <a:xfrm>
            <a:off x="5143680" y="4071960"/>
            <a:ext cx="3857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4" name="Содержимое 3" descr="P1040090.JPG"/>
          <p:cNvPicPr/>
          <p:nvPr/>
        </p:nvPicPr>
        <p:blipFill>
          <a:blip r:embed="rId1"/>
          <a:stretch/>
        </p:blipFill>
        <p:spPr>
          <a:xfrm>
            <a:off x="142920" y="0"/>
            <a:ext cx="4875120" cy="365616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4" descr="P1040091.JPG"/>
          <p:cNvPicPr/>
          <p:nvPr/>
        </p:nvPicPr>
        <p:blipFill>
          <a:blip r:embed="rId2"/>
          <a:stretch/>
        </p:blipFill>
        <p:spPr>
          <a:xfrm>
            <a:off x="5118120" y="0"/>
            <a:ext cx="3882960" cy="364320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5" descr="P1040092.JPG"/>
          <p:cNvPicPr/>
          <p:nvPr/>
        </p:nvPicPr>
        <p:blipFill>
          <a:blip r:embed="rId3"/>
          <a:stretch/>
        </p:blipFill>
        <p:spPr>
          <a:xfrm>
            <a:off x="214200" y="3786120"/>
            <a:ext cx="4714920" cy="307188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7" descr="P1040097.JPG"/>
          <p:cNvPicPr/>
          <p:nvPr/>
        </p:nvPicPr>
        <p:blipFill>
          <a:blip r:embed="rId4"/>
          <a:stretch/>
        </p:blipFill>
        <p:spPr>
          <a:xfrm>
            <a:off x="5072040" y="3786120"/>
            <a:ext cx="3929040" cy="292896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8" descr="P1040099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0" name="Содержимое 3" descr="P1040150.JPG"/>
          <p:cNvPicPr/>
          <p:nvPr/>
        </p:nvPicPr>
        <p:blipFill>
          <a:blip r:embed="rId1"/>
          <a:stretch/>
        </p:blipFill>
        <p:spPr>
          <a:xfrm>
            <a:off x="285840" y="17640"/>
            <a:ext cx="8143920" cy="61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2" name="Содержимое 3" descr="P1040151.JPG"/>
          <p:cNvPicPr/>
          <p:nvPr/>
        </p:nvPicPr>
        <p:blipFill>
          <a:blip r:embed="rId1"/>
          <a:stretch/>
        </p:blipFill>
        <p:spPr>
          <a:xfrm>
            <a:off x="285840" y="285840"/>
            <a:ext cx="8675640" cy="58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9T20:06:03Z</dcterms:created>
  <dc:creator>MasterX</dc:creator>
  <dc:description/>
  <dc:language>en-US</dc:language>
  <cp:lastModifiedBy>AS</cp:lastModifiedBy>
  <dcterms:modified xsi:type="dcterms:W3CDTF">2017-09-17T18:29:21Z</dcterms:modified>
  <cp:revision>37</cp:revision>
  <dc:subject/>
  <dc:title>ПРОЕКТ «МОЙ ВЕСЕЛЫЙ ЗВОНКИЙ МЯЧ»</dc:title>
</cp:coreProperties>
</file>