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C12-B530-433D-A773-B4313D92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831-B0AA-49D4-A0E4-2F7162A0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CF9-7C34-433B-A376-B93603DE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512-3FC5-46F3-B02C-3C1E0499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299B-965A-4B24-ABDA-64225035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E659-1321-4CB4-BB48-FB1A8FA2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7DE5-D796-4331-89DB-05056833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A1CC-A742-481A-B614-DB1EBB18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8D6F-A3E8-410A-A005-934340CB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C6C7-1461-4A9B-809D-1E929D5B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C245-8FBF-4F50-82BA-20990C22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229-69D4-4330-885A-ECC34750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A4F5-AE4A-4679-B4CC-63C70BE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CA2A-2491-49E6-B8AC-E26C0014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518-0708-4A99-ADC0-0C09A293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450-B9E1-4BF0-8ADC-AD502AF1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F54-B4CF-468F-90AB-A70059A8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F927E-B727-4C66-AA98-1712C23B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903B9-473F-45BB-BAAF-3C11676E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FD3EE-07C3-4F13-AFE8-49C6D998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FEEEE-549E-4712-AEB3-99D86289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7F395-A164-4A44-81C5-F06E5C0C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DF0-E460-4963-99B4-7E656D3B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E8D51-6AD1-4C16-B581-FF329BFD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7A50A-B8B7-49ED-B298-9425367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D291F-02D6-4864-A401-FD9BB6D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6771E-E345-4500-B3D8-5F811A7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778B9-F570-4FD7-90FA-5D46971B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D4E32-6114-404B-9E37-8E535D10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2A101-A75B-4111-9696-1D5CD83A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9834-FEE6-4D54-921A-14568437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98A1-3799-45E0-88BB-3B95DE51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5113-682E-4F75-AE87-44FC67A7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2C8-146F-4F93-B9B9-EA58E4FD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F94B-99C9-4671-8F50-C0A1A060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E381-9D33-4837-A979-7FCCB11E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3851-5FDE-4E5C-9C79-E968167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0B4D-FB43-4424-AA72-7052B60E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82D8-13A9-4151-970B-7C7CFD04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BEE2-3630-402F-BD9A-243FA4A4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7529-CD1E-4BA0-A785-DE4E7E3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B9A3-93FD-4217-9CBF-DE7D25BA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4A49-1F32-4785-BF04-23AB6FF6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A81C8-D71C-459B-9136-A0553DDB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FDF-E7A9-4E9B-A493-5DDFA53E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7C001-701F-4037-9B3A-D2E8E7E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A5CCD-BFB5-476B-B9B2-63E73AC6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3D6C0-8ED6-4EA8-9CBB-BE05C89E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205F8-5D68-469C-92B0-665D48DB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D510F-ABC3-41A1-A6BB-3BFD1B90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87847-13E9-46C0-9604-597AE58B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1CA38-1802-4BC1-8D8E-30E0D209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92E33-8E95-478B-85FE-DDA5EE1F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BACA6-C717-4A96-B784-69589E30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A0830-D045-4CCA-B824-E28273E3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00A-37BE-49A1-B138-584A109B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E45C7-EB83-4645-ABC5-526A0EEF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626B4-9B4F-4968-87F2-06312C1E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90F7C-9A7B-4D50-B916-2FD627BC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F7FE1-8D6E-42C5-A3EF-F905F92D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032D5-4A2C-4BCC-9ADD-5DDC84AF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DEDD6-2722-434D-8A8A-D33CBD96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64731-FE33-4606-B561-9D2F8E26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950D5E-6BFB-44D6-ACC2-D7D5A794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71B2C-6290-4D9F-AF6C-F2DF7EC7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45CEB-88F0-492B-B1A9-4B05B97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149-C2C9-412A-AF26-7C2D653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C7EC1-D50B-4D9F-9940-5E534331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5550C-54A6-4A33-BFAA-01DE71B9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C6BF6-FC2E-4400-8A42-6153A557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D0432-41B2-4BAD-9B2C-075E0B42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C68B1-BE7B-40FE-8126-C70C56C8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9F2CC-5A44-4A54-8C92-A097D8CF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E598B-9A88-40E6-A419-D9468C7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2E0EA-466A-42CB-AA63-1953FF17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ABE0D-3A56-45AA-8C75-7A78AA8F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66AC4-F807-46BA-89A3-5C8BE1D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21C-E612-4A99-9F94-EF8D7DA7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82715-0F9B-49E6-9EB6-3C340C7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1089E-7F80-40A9-A7A9-424DCCD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48531-131C-43CF-8AA3-A623BD69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631C5-3FD1-48DE-80DD-1FDC930E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44D83-E2EA-4C0A-8F2C-DCE6A2FF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C3D-2339-4AFF-946B-D14F7532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AF0D-BB80-47A8-8D7F-5212416AE0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9E46-BFE8-448B-ADF0-D30E5B6B638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0BD8-5A7F-4060-986A-DAD3BCDA1D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E6B2-A2E9-4A94-A4E6-85606A054D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563A-01F8-41C2-A458-879CD9DDC4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3558-9560-4A26-B681-9286454759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B852-1FFF-4FC3-B0C9-59FEEF5916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ПРОЕКТ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«МОЙ ВЕСЕЛЫЙ ЗВОНКИЙ МЯЧ»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6-АЯ ГРУППА (СТАРШАЯ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ВОСПИТАТЕЛЬ: ТКАЧЕВА Н.Я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Содержимое 3" descr="P1040155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Содержимое 5" descr="P1040157.JPG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Содержимое 3" descr="P1040160.JPG"/>
          <p:cNvPicPr/>
          <p:nvPr/>
        </p:nvPicPr>
        <p:blipFill>
          <a:blip r:embed="rId1"/>
          <a:stretch/>
        </p:blipFill>
        <p:spPr>
          <a:xfrm>
            <a:off x="642960" y="214200"/>
            <a:ext cx="822312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Содержимое 3" descr="P1040163.JPG"/>
          <p:cNvPicPr/>
          <p:nvPr/>
        </p:nvPicPr>
        <p:blipFill>
          <a:blip r:embed="rId1"/>
          <a:stretch/>
        </p:blipFill>
        <p:spPr>
          <a:xfrm>
            <a:off x="428760" y="138240"/>
            <a:ext cx="86738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Содержимое 7" descr="P1040168.JPG"/>
          <p:cNvPicPr/>
          <p:nvPr/>
        </p:nvPicPr>
        <p:blipFill>
          <a:blip r:embed="rId1"/>
          <a:stretch/>
        </p:blipFill>
        <p:spPr>
          <a:xfrm>
            <a:off x="285840" y="214200"/>
            <a:ext cx="83581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Содержимое 3" descr="P1040172.JPG"/>
          <p:cNvPicPr/>
          <p:nvPr/>
        </p:nvPicPr>
        <p:blipFill>
          <a:blip r:embed="rId1"/>
          <a:stretch/>
        </p:blipFill>
        <p:spPr>
          <a:xfrm>
            <a:off x="190440" y="214200"/>
            <a:ext cx="87393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Содержимое 3" descr="P1040173.JPG"/>
          <p:cNvPicPr/>
          <p:nvPr/>
        </p:nvPicPr>
        <p:blipFill>
          <a:blip r:embed="rId1"/>
          <a:stretch/>
        </p:blipFill>
        <p:spPr>
          <a:xfrm>
            <a:off x="428760" y="214200"/>
            <a:ext cx="8246880" cy="61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Содержимое 3" descr="P1040188.JPG"/>
          <p:cNvPicPr/>
          <p:nvPr/>
        </p:nvPicPr>
        <p:blipFill>
          <a:blip r:embed="rId1"/>
          <a:stretch/>
        </p:blipFill>
        <p:spPr>
          <a:xfrm>
            <a:off x="277920" y="214200"/>
            <a:ext cx="822312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Содержимое 3" descr="P1040190.JPG"/>
          <p:cNvPicPr/>
          <p:nvPr/>
        </p:nvPicPr>
        <p:blipFill>
          <a:blip r:embed="rId1"/>
          <a:stretch/>
        </p:blipFill>
        <p:spPr>
          <a:xfrm>
            <a:off x="571680" y="285840"/>
            <a:ext cx="819936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Содержимое 3" descr="P1040191.JPG"/>
          <p:cNvPicPr/>
          <p:nvPr/>
        </p:nvPicPr>
        <p:blipFill>
          <a:blip r:embed="rId1"/>
          <a:stretch/>
        </p:blipFill>
        <p:spPr>
          <a:xfrm>
            <a:off x="500040" y="285840"/>
            <a:ext cx="8175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Цель: 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родолжать работу по укреплению здоровья детей, формировать представление о здоровом образе жизни человека. Воспитывать желание быть здоровым, выполнять простые правила бережного отношения к своему здоровью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 развивать психофизические качества в разнообразных формах двигательной деятельност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  совершенствовать двигательные умения и навыки дете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 прививать любовь к спорту, желание заниматься спорто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 развивать у детей интерес к знаниям о своем организме, желание заботиться  о своем здоровь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Содержимое 7" descr="P1040203.JPG"/>
          <p:cNvPicPr/>
          <p:nvPr/>
        </p:nvPicPr>
        <p:blipFill>
          <a:blip r:embed="rId1"/>
          <a:stretch/>
        </p:blipFill>
        <p:spPr>
          <a:xfrm>
            <a:off x="285840" y="285840"/>
            <a:ext cx="87580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6" name="Содержимое 3" descr="P1040204.JPG"/>
          <p:cNvPicPr/>
          <p:nvPr/>
        </p:nvPicPr>
        <p:blipFill>
          <a:blip r:embed="rId1"/>
          <a:stretch/>
        </p:blipFill>
        <p:spPr>
          <a:xfrm>
            <a:off x="500040" y="214200"/>
            <a:ext cx="836604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8" name="Содержимое 3" descr="P1040216.JPG"/>
          <p:cNvPicPr/>
          <p:nvPr/>
        </p:nvPicPr>
        <p:blipFill>
          <a:blip r:embed="rId1"/>
          <a:stretch/>
        </p:blipFill>
        <p:spPr>
          <a:xfrm>
            <a:off x="500040" y="209520"/>
            <a:ext cx="788976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Содержимое 3" descr="P1040218.JPG"/>
          <p:cNvPicPr/>
          <p:nvPr/>
        </p:nvPicPr>
        <p:blipFill>
          <a:blip r:embed="rId1"/>
          <a:stretch/>
        </p:blipFill>
        <p:spPr>
          <a:xfrm>
            <a:off x="571680" y="333360"/>
            <a:ext cx="77230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2" name="Содержимое 3" descr="P1040220.JPG"/>
          <p:cNvPicPr/>
          <p:nvPr/>
        </p:nvPicPr>
        <p:blipFill>
          <a:blip r:embed="rId1"/>
          <a:stretch/>
        </p:blipFill>
        <p:spPr>
          <a:xfrm>
            <a:off x="357120" y="101520"/>
            <a:ext cx="8032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4" name="Содержимое 3" descr="P1040221.JPG"/>
          <p:cNvPicPr/>
          <p:nvPr/>
        </p:nvPicPr>
        <p:blipFill>
          <a:blip r:embed="rId1"/>
          <a:stretch/>
        </p:blipFill>
        <p:spPr>
          <a:xfrm>
            <a:off x="642960" y="214200"/>
            <a:ext cx="8223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6" name="Содержимое 3" descr="P1040222.JPG"/>
          <p:cNvPicPr/>
          <p:nvPr/>
        </p:nvPicPr>
        <p:blipFill>
          <a:blip r:embed="rId1"/>
          <a:stretch/>
        </p:blipFill>
        <p:spPr>
          <a:xfrm>
            <a:off x="500040" y="285840"/>
            <a:ext cx="836604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Содержимое 3" descr="P1040225.JPG"/>
          <p:cNvPicPr/>
          <p:nvPr/>
        </p:nvPicPr>
        <p:blipFill>
          <a:blip r:embed="rId1"/>
          <a:stretch/>
        </p:blipFill>
        <p:spPr>
          <a:xfrm>
            <a:off x="500040" y="66600"/>
            <a:ext cx="80805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Содержимое 3" descr="P1040225.JPG"/>
          <p:cNvPicPr/>
          <p:nvPr/>
        </p:nvPicPr>
        <p:blipFill>
          <a:blip r:embed="rId1"/>
          <a:stretch/>
        </p:blipFill>
        <p:spPr>
          <a:xfrm>
            <a:off x="500040" y="209520"/>
            <a:ext cx="78897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2" name="Содержимое 3" descr="P1040226.JPG"/>
          <p:cNvPicPr/>
          <p:nvPr/>
        </p:nvPicPr>
        <p:blipFill>
          <a:blip r:embed="rId1"/>
          <a:stretch/>
        </p:blipFill>
        <p:spPr>
          <a:xfrm>
            <a:off x="500040" y="214200"/>
            <a:ext cx="82710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Содержимое 5" descr="P1040029.JPG"/>
          <p:cNvPicPr/>
          <p:nvPr/>
        </p:nvPicPr>
        <p:blipFill>
          <a:blip r:embed="rId1"/>
          <a:stretch/>
        </p:blipFill>
        <p:spPr>
          <a:xfrm>
            <a:off x="0" y="0"/>
            <a:ext cx="4889520" cy="36669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P1040027.JPG"/>
          <p:cNvPicPr/>
          <p:nvPr/>
        </p:nvPicPr>
        <p:blipFill>
          <a:blip r:embed="rId2"/>
          <a:stretch/>
        </p:blipFill>
        <p:spPr>
          <a:xfrm>
            <a:off x="5000760" y="0"/>
            <a:ext cx="4000320" cy="364320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P1040024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1608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8" descr="P1040025.JPG"/>
          <p:cNvPicPr/>
          <p:nvPr/>
        </p:nvPicPr>
        <p:blipFill>
          <a:blip r:embed="rId4"/>
          <a:stretch/>
        </p:blipFill>
        <p:spPr>
          <a:xfrm>
            <a:off x="5000760" y="371484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4" name="Содержимое 3" descr="P1040228.JPG"/>
          <p:cNvPicPr/>
          <p:nvPr/>
        </p:nvPicPr>
        <p:blipFill>
          <a:blip r:embed="rId1"/>
          <a:stretch/>
        </p:blipFill>
        <p:spPr>
          <a:xfrm>
            <a:off x="571680" y="-23760"/>
            <a:ext cx="81993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7" descr="P1040030.JPG"/>
          <p:cNvPicPr/>
          <p:nvPr/>
        </p:nvPicPr>
        <p:blipFill>
          <a:blip r:embed="rId1"/>
          <a:stretch/>
        </p:blipFill>
        <p:spPr>
          <a:xfrm>
            <a:off x="142920" y="0"/>
            <a:ext cx="4248000" cy="34005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8" descr="P1040031.JPG"/>
          <p:cNvPicPr/>
          <p:nvPr/>
        </p:nvPicPr>
        <p:blipFill>
          <a:blip r:embed="rId2"/>
          <a:stretch/>
        </p:blipFill>
        <p:spPr>
          <a:xfrm>
            <a:off x="442908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9" descr="P1040033.JPG"/>
          <p:cNvPicPr/>
          <p:nvPr/>
        </p:nvPicPr>
        <p:blipFill>
          <a:blip r:embed="rId3"/>
          <a:stretch/>
        </p:blipFill>
        <p:spPr>
          <a:xfrm>
            <a:off x="142920" y="3535200"/>
            <a:ext cx="4286160" cy="332280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P1040034.JPG"/>
          <p:cNvPicPr/>
          <p:nvPr/>
        </p:nvPicPr>
        <p:blipFill>
          <a:blip r:embed="rId4"/>
          <a:stretch/>
        </p:blipFill>
        <p:spPr>
          <a:xfrm>
            <a:off x="4500720" y="3571920"/>
            <a:ext cx="4476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Содержимое 3" descr="P1040037.JPG"/>
          <p:cNvPicPr/>
          <p:nvPr/>
        </p:nvPicPr>
        <p:blipFill>
          <a:blip r:embed="rId1"/>
          <a:stretch/>
        </p:blipFill>
        <p:spPr>
          <a:xfrm>
            <a:off x="142920" y="142920"/>
            <a:ext cx="4660920" cy="34956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4" descr="P1040038.JPG"/>
          <p:cNvPicPr/>
          <p:nvPr/>
        </p:nvPicPr>
        <p:blipFill>
          <a:blip r:embed="rId2"/>
          <a:stretch/>
        </p:blipFill>
        <p:spPr>
          <a:xfrm>
            <a:off x="142920" y="3643200"/>
            <a:ext cx="4572000" cy="30718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5" descr="P1040039.JPG"/>
          <p:cNvPicPr/>
          <p:nvPr/>
        </p:nvPicPr>
        <p:blipFill>
          <a:blip r:embed="rId3"/>
          <a:stretch/>
        </p:blipFill>
        <p:spPr>
          <a:xfrm>
            <a:off x="4929120" y="142920"/>
            <a:ext cx="4000680" cy="350028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7" descr="P1040044.JPG"/>
          <p:cNvPicPr/>
          <p:nvPr/>
        </p:nvPicPr>
        <p:blipFill>
          <a:blip r:embed="rId4"/>
          <a:stretch/>
        </p:blipFill>
        <p:spPr>
          <a:xfrm>
            <a:off x="4857840" y="3697200"/>
            <a:ext cx="40719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Содержимое 3" descr="P1040076.JPG"/>
          <p:cNvPicPr/>
          <p:nvPr/>
        </p:nvPicPr>
        <p:blipFill>
          <a:blip r:embed="rId1"/>
          <a:stretch/>
        </p:blipFill>
        <p:spPr>
          <a:xfrm>
            <a:off x="142920" y="142920"/>
            <a:ext cx="4946760" cy="38163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P1040074.JPG"/>
          <p:cNvPicPr/>
          <p:nvPr/>
        </p:nvPicPr>
        <p:blipFill>
          <a:blip r:embed="rId2"/>
          <a:stretch/>
        </p:blipFill>
        <p:spPr>
          <a:xfrm>
            <a:off x="5143680" y="142920"/>
            <a:ext cx="3857400" cy="378612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7" descr="P1040082.JPG"/>
          <p:cNvPicPr/>
          <p:nvPr/>
        </p:nvPicPr>
        <p:blipFill>
          <a:blip r:embed="rId3"/>
          <a:stretch/>
        </p:blipFill>
        <p:spPr>
          <a:xfrm>
            <a:off x="142920" y="4071960"/>
            <a:ext cx="4857840" cy="27860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8" descr="P1040083.JPG"/>
          <p:cNvPicPr/>
          <p:nvPr/>
        </p:nvPicPr>
        <p:blipFill>
          <a:blip r:embed="rId4"/>
          <a:stretch/>
        </p:blipFill>
        <p:spPr>
          <a:xfrm>
            <a:off x="5143680" y="4071960"/>
            <a:ext cx="3857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Содержимое 3" descr="P1040090.JPG"/>
          <p:cNvPicPr/>
          <p:nvPr/>
        </p:nvPicPr>
        <p:blipFill>
          <a:blip r:embed="rId1"/>
          <a:stretch/>
        </p:blipFill>
        <p:spPr>
          <a:xfrm>
            <a:off x="142920" y="0"/>
            <a:ext cx="4875120" cy="365616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P1040091.JPG"/>
          <p:cNvPicPr/>
          <p:nvPr/>
        </p:nvPicPr>
        <p:blipFill>
          <a:blip r:embed="rId2"/>
          <a:stretch/>
        </p:blipFill>
        <p:spPr>
          <a:xfrm>
            <a:off x="5118120" y="0"/>
            <a:ext cx="3882960" cy="36432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P1040092.JPG"/>
          <p:cNvPicPr/>
          <p:nvPr/>
        </p:nvPicPr>
        <p:blipFill>
          <a:blip r:embed="rId3"/>
          <a:stretch/>
        </p:blipFill>
        <p:spPr>
          <a:xfrm>
            <a:off x="214200" y="3786120"/>
            <a:ext cx="4714920" cy="30718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7" descr="P1040097.JPG"/>
          <p:cNvPicPr/>
          <p:nvPr/>
        </p:nvPicPr>
        <p:blipFill>
          <a:blip r:embed="rId4"/>
          <a:stretch/>
        </p:blipFill>
        <p:spPr>
          <a:xfrm>
            <a:off x="5072040" y="3786120"/>
            <a:ext cx="3929040" cy="29289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8" descr="P10400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Содержимое 3" descr="P1040150.JPG"/>
          <p:cNvPicPr/>
          <p:nvPr/>
        </p:nvPicPr>
        <p:blipFill>
          <a:blip r:embed="rId1"/>
          <a:stretch/>
        </p:blipFill>
        <p:spPr>
          <a:xfrm>
            <a:off x="285840" y="17640"/>
            <a:ext cx="8143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Содержимое 3" descr="P1040151.JPG"/>
          <p:cNvPicPr/>
          <p:nvPr/>
        </p:nvPicPr>
        <p:blipFill>
          <a:blip r:embed="rId1"/>
          <a:stretch/>
        </p:blipFill>
        <p:spPr>
          <a:xfrm>
            <a:off x="285840" y="285840"/>
            <a:ext cx="867564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20:06:03Z</dcterms:created>
  <dc:creator>MasterX</dc:creator>
  <dc:description/>
  <dc:language>en-US</dc:language>
  <cp:lastModifiedBy>AS</cp:lastModifiedBy>
  <dcterms:modified xsi:type="dcterms:W3CDTF">2017-09-17T18:29:21Z</dcterms:modified>
  <cp:revision>37</cp:revision>
  <dc:subject/>
  <dc:title>ПРОЕКТ «МОЙ ВЕСЕЛЫЙ ЗВОНКИЙ МЯЧ»</dc:title>
</cp:coreProperties>
</file>