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A54-59B7-4549-910E-78BEC798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7C1-1C41-4181-8175-98252B2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826-FD73-418A-BD84-310D3EBE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8DA-7562-4CE8-89F9-7E7F3C58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E494-1FF1-4AD6-AC21-0C80C1F5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E845-BC42-4B77-B20E-A35838F1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9569-002C-4DAC-B365-612E4C32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4DA3-6DC6-427D-933E-3521557E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CA8B-8B19-4C77-B744-50078C72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C352-B2A1-4C4A-BF92-BA47BCB7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2297-2EFE-4D1B-8071-2FC26AC6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A18-6849-464B-8DB5-505D96E4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C741-EF1A-442B-90CD-BE9589BD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DFEA-EBAE-4F6D-9FD2-14F5EF29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7E6B-CF5A-45B0-8A46-E130E6B6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B525-D246-402A-A4F5-73DCCDB6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660E-0F48-43D2-94F0-C3322B88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856-F550-4A52-A1B6-D68A38C4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B65-D3AB-488B-8D77-3CFBD9BC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93F-617E-4244-A0CF-A78FE9D7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E26-B9E0-4F8C-9D5A-F4E65B53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BFA-AA38-43BE-9ED2-0A1821AE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D1F-9871-4CC9-BE17-DC9AC655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079-F6BF-412E-B640-7DD62E5F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145D-D131-4A15-83F1-D7AACDFBE7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70C1-0E57-42D2-BE83-BBAAB8BAEB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ародная педагогика в наследии Л.Н.Толстог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932000" y="5589360"/>
            <a:ext cx="42116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асильева Гали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Картинки по запросу картинки книги"/>
          <p:cNvPicPr/>
          <p:nvPr/>
        </p:nvPicPr>
        <p:blipFill>
          <a:blip r:embed="rId2"/>
          <a:stretch/>
        </p:blipFill>
        <p:spPr>
          <a:xfrm>
            <a:off x="1403280" y="1628640"/>
            <a:ext cx="648180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476360" y="1844640"/>
            <a:ext cx="5975280" cy="18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0"/>
            <a:ext cx="54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Способности даны каждому: одного природа одарила музыкальным слухом, другого - склонностью к изучению наук, третьему дала руку мастера, четвертому - глаз художника, а кому-то даровала только доброе сердце, готовое бескорыстно служить людям...» Л.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Картинки по запросу картинки Толстого"/>
          <p:cNvPicPr/>
          <p:nvPr/>
        </p:nvPicPr>
        <p:blipFill>
          <a:blip r:embed="rId2"/>
          <a:stretch/>
        </p:blipFill>
        <p:spPr>
          <a:xfrm>
            <a:off x="1619280" y="2273400"/>
            <a:ext cx="68770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в Николаевич Толстой (1828 – 1910) – великий русский писатель и мыслитель, педагог, горячий сторонник «свободного воспитания». На формирование философско-педагогических взглядов Л.Н.Толстого огромное влияние оказал Ж.-Ж. Русс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Картинки по запросу картинки Толстого"/>
          <p:cNvPicPr/>
          <p:nvPr/>
        </p:nvPicPr>
        <p:blipFill>
          <a:blip r:embed="rId2"/>
          <a:stretch/>
        </p:blipFill>
        <p:spPr>
          <a:xfrm>
            <a:off x="0" y="2698920"/>
            <a:ext cx="6588000" cy="4159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Картинки по запросу картинки Толстого"/>
          <p:cNvPicPr/>
          <p:nvPr/>
        </p:nvPicPr>
        <p:blipFill>
          <a:blip r:embed="rId3"/>
          <a:stretch/>
        </p:blipFill>
        <p:spPr>
          <a:xfrm>
            <a:off x="5589720" y="0"/>
            <a:ext cx="35542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18900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жнейшее место в педагогической теории Л. Н. Толстого занимает идея свободного воспитания. Она тесно связана с его философско-идеалистическими и политическими взгляд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03640" y="4843440"/>
            <a:ext cx="50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Во всех веках и у всех людей,— писал Толстой,— ребенок представлялся образцом невинности, безгрешности, добра, правды и красоты. Человек родится совершенным — есть великое слово, сказанное Руссо, и слово это, как камень, останется твердым и истинным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Картинки по запросу картинки Лев Толстой и дети"/>
          <p:cNvPicPr/>
          <p:nvPr/>
        </p:nvPicPr>
        <p:blipFill>
          <a:blip r:embed="rId2"/>
          <a:stretch/>
        </p:blipFill>
        <p:spPr>
          <a:xfrm>
            <a:off x="179280" y="1413000"/>
            <a:ext cx="3286080" cy="3809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Картинки по запросу картинки Лев Толстой и дети"/>
          <p:cNvPicPr/>
          <p:nvPr/>
        </p:nvPicPr>
        <p:blipFill>
          <a:blip r:embed="rId3"/>
          <a:stretch/>
        </p:blipFill>
        <p:spPr>
          <a:xfrm>
            <a:off x="3635280" y="1268280"/>
            <a:ext cx="507708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11280" y="189000"/>
            <a:ext cx="59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 мнению Толстого, свободное воспитание содействует саморазвитию, самораскрытию Нравственных качеств, склонностей и способностей, заложенных в ребенке от рождения. Он идеализировал природу детей, указывал, что “детский возраст есть первообраз гармонии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Картинки по запросу картинки Лев Толстой и дети"/>
          <p:cNvPicPr/>
          <p:nvPr/>
        </p:nvPicPr>
        <p:blipFill>
          <a:blip r:embed="rId2"/>
          <a:stretch/>
        </p:blipFill>
        <p:spPr>
          <a:xfrm>
            <a:off x="1692360" y="2133720"/>
            <a:ext cx="666756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340000" y="4869000"/>
            <a:ext cx="60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дея свободного воспитания была глубоко противоречивой, антинаучной. В действительности воспитание — организованный, целенаправленный процесс, имеющий определенные задачи, содержание и осуществляющийся с помощью различные средств и методов воспитательного воздействия на детей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Картинки по запросу картинки Лев Толстой и дети"/>
          <p:cNvPicPr/>
          <p:nvPr/>
        </p:nvPicPr>
        <p:blipFill>
          <a:blip r:embed="rId2"/>
          <a:stretch/>
        </p:blipFill>
        <p:spPr>
          <a:xfrm>
            <a:off x="0" y="0"/>
            <a:ext cx="7142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189000"/>
            <a:ext cx="3382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. Н. Толстой выступил против правительственных и земских школ в России, опекаемых и контролируемых правящими классами, и защищал глубоко демократическую идею открытия народных школ самим народом, помимо правительства и зем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Картинки по запросу картинки земских школ в россии"/>
          <p:cNvPicPr/>
          <p:nvPr/>
        </p:nvPicPr>
        <p:blipFill>
          <a:blip r:embed="rId2"/>
          <a:stretch/>
        </p:blipFill>
        <p:spPr>
          <a:xfrm>
            <a:off x="3851280" y="333360"/>
            <a:ext cx="4052880" cy="568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Картинки по запросу картинки земских школ в россии"/>
          <p:cNvPicPr/>
          <p:nvPr/>
        </p:nvPicPr>
        <p:blipFill>
          <a:blip r:embed="rId3"/>
          <a:stretch/>
        </p:blipFill>
        <p:spPr>
          <a:xfrm>
            <a:off x="1332000" y="3357720"/>
            <a:ext cx="648000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4000" y="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поведуя в своих педагогических статьях идею развития широкой крестьянской самодеятельности в создании народных школ, Толстой, однако, принял отсталые взгляды патриархального крестьянства на школу за выражение потребностей в области образования всего народа. В соответствии с этими взглядами он обеднял содержание учебной программы школы для народа, оставив в ней как обязательное лишь обучение грамоте и сче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Картинки по запросу картинки Лев Толстой и дети"/>
          <p:cNvPicPr/>
          <p:nvPr/>
        </p:nvPicPr>
        <p:blipFill>
          <a:blip r:embed="rId2"/>
          <a:stretch/>
        </p:blipFill>
        <p:spPr>
          <a:xfrm>
            <a:off x="0" y="2658960"/>
            <a:ext cx="4968720" cy="4199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Картинки по запросу картинки Лев Толстой и дети"/>
          <p:cNvPicPr/>
          <p:nvPr/>
        </p:nvPicPr>
        <p:blipFill>
          <a:blip r:embed="rId3"/>
          <a:stretch/>
        </p:blipFill>
        <p:spPr>
          <a:xfrm>
            <a:off x="5245200" y="1916280"/>
            <a:ext cx="38988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8900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сторический очерк для истории педагогики русского крестьянства”, в котором собирался обосновать общие правила организации образования русского крестья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Картинки по запросу картинки Лев Толстой и дети"/>
          <p:cNvPicPr/>
          <p:nvPr/>
        </p:nvPicPr>
        <p:blipFill>
          <a:blip r:embed="rId2"/>
          <a:stretch/>
        </p:blipFill>
        <p:spPr>
          <a:xfrm>
            <a:off x="1258920" y="1700280"/>
            <a:ext cx="707544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2T20:10:16Z</dcterms:created>
  <dc:creator>user</dc:creator>
  <dc:description/>
  <dc:language>en-US</dc:language>
  <cp:lastModifiedBy>user</cp:lastModifiedBy>
  <dcterms:modified xsi:type="dcterms:W3CDTF">2016-10-02T20:29:01Z</dcterms:modified>
  <cp:revision>2</cp:revision>
  <dc:subject/>
  <dc:title>Народная педагогика в наследии Л.Н.Толстого</dc:title>
</cp:coreProperties>
</file>