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B97-6407-4CF7-B037-02C90293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BE7-D34F-4660-97FC-AF39B733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FCB-4BC1-40D1-879B-ECA74A6F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054-58A3-44FC-B4E7-650CC596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7E8E-A14C-4791-823C-5FE0D330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30D5-6565-482C-BD23-199E79E5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928E-EA20-45DE-822D-664620F0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51B9-7F05-44C2-BAB3-AC089CD5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D33D-167D-4E51-84A9-EFCC4866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11CF-88A2-4CE5-9992-245E3F56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AECD-9792-430E-8183-9973F8B3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544-6CB4-4D9A-893F-E4BCCCAA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B6BF-1BF0-48EF-97E0-16BB13AD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25FD-6EA7-4867-B8A1-E770728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0A61-939C-4514-91E5-C5C04FF9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3DE2-92FD-492C-869F-0E451FFB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C7F0-9DAF-4990-8AE3-3CB688B2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CD9-5B72-4110-B1B7-F50BEA06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6B3-1750-4DBE-9884-79BAAE63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A9E-33ED-46BA-A111-11E4311C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F9C-D938-4B76-826A-D373A676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EC5-A142-4E96-BE5E-7459A041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9DB-A3E2-4877-8F7D-743F0E8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700-8BEB-4F40-9D19-1FEA23DB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200E-5FBF-45C7-8F83-A61E0284B5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9C97-1221-40D7-83EA-C81208287F6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ародная педагогика в наследии Л.Н.Толстог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932000" y="5589360"/>
            <a:ext cx="4211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асильева Гали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Картинки по запросу картинки книги"/>
          <p:cNvPicPr/>
          <p:nvPr/>
        </p:nvPicPr>
        <p:blipFill>
          <a:blip r:embed="rId2"/>
          <a:stretch/>
        </p:blipFill>
        <p:spPr>
          <a:xfrm>
            <a:off x="1403280" y="1628640"/>
            <a:ext cx="64818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476360" y="1844640"/>
            <a:ext cx="5975280" cy="18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0"/>
            <a:ext cx="54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Способности даны каждому: одного природа одарила музыкальным слухом, другого - склонностью к изучению наук, третьему дала руку мастера, четвертому - глаз художника, а кому-то даровала только доброе сердце, готовое бескорыстно служить людям...» 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Картинки по запросу картинки Толстого"/>
          <p:cNvPicPr/>
          <p:nvPr/>
        </p:nvPicPr>
        <p:blipFill>
          <a:blip r:embed="rId2"/>
          <a:stretch/>
        </p:blipFill>
        <p:spPr>
          <a:xfrm>
            <a:off x="1619280" y="2273400"/>
            <a:ext cx="68770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в Николаевич Толстой (1828 – 1910) – великий русский писатель и мыслитель, педагог, горячий сторонник «свободного воспитания». На формирование философско-педагогических взглядов Л.Н.Толстого огромное влияние оказал Ж.-Ж. Русс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Картинки по запросу картинки Толстого"/>
          <p:cNvPicPr/>
          <p:nvPr/>
        </p:nvPicPr>
        <p:blipFill>
          <a:blip r:embed="rId2"/>
          <a:stretch/>
        </p:blipFill>
        <p:spPr>
          <a:xfrm>
            <a:off x="0" y="2698920"/>
            <a:ext cx="6588000" cy="415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и по запросу картинки Толстого"/>
          <p:cNvPicPr/>
          <p:nvPr/>
        </p:nvPicPr>
        <p:blipFill>
          <a:blip r:embed="rId3"/>
          <a:stretch/>
        </p:blipFill>
        <p:spPr>
          <a:xfrm>
            <a:off x="5589720" y="0"/>
            <a:ext cx="35542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18900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ейшее место в педагогической теории Л. Н. Толстого занимает идея свободного воспитания. Она тесно связана с его философско-идеалистическими и политическими взгляд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03640" y="4843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Во всех веках и у всех людей,— писал Толстой,— ребенок представлялся образцом невинности, безгрешности, добра, правды и красоты. Человек родится совершенным — есть великое слово, сказанное Руссо, и слово это, как камень, останется твердым и истинным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Картинки по запросу картинки Лев Толстой и дети"/>
          <p:cNvPicPr/>
          <p:nvPr/>
        </p:nvPicPr>
        <p:blipFill>
          <a:blip r:embed="rId2"/>
          <a:stretch/>
        </p:blipFill>
        <p:spPr>
          <a:xfrm>
            <a:off x="179280" y="1413000"/>
            <a:ext cx="3286080" cy="3809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и по запросу картинки Лев Толстой и дети"/>
          <p:cNvPicPr/>
          <p:nvPr/>
        </p:nvPicPr>
        <p:blipFill>
          <a:blip r:embed="rId3"/>
          <a:stretch/>
        </p:blipFill>
        <p:spPr>
          <a:xfrm>
            <a:off x="3635280" y="1268280"/>
            <a:ext cx="50770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1280" y="189000"/>
            <a:ext cx="59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 мнению Толстого, свободное воспитание содействует саморазвитию, самораскрытию Нравственных качеств, склонностей и способностей, заложенных в ребенке от рождения. Он идеализировал природу детей, указывал, что “детский возраст есть первообраз гармонии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Картинки по запросу картинки Лев Толстой и дети"/>
          <p:cNvPicPr/>
          <p:nvPr/>
        </p:nvPicPr>
        <p:blipFill>
          <a:blip r:embed="rId2"/>
          <a:stretch/>
        </p:blipFill>
        <p:spPr>
          <a:xfrm>
            <a:off x="1692360" y="2133720"/>
            <a:ext cx="666756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340000" y="4869000"/>
            <a:ext cx="60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дея свободного воспитания была глубоко противоречивой, антинаучной. В действительности воспитание — организованный, целенаправленный процесс, имеющий определенные задачи, содержание и осуществляющийся с помощью различные средств и методов воспитательного воздействия на детей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Картинки по запросу картинки Лев Толстой и дети"/>
          <p:cNvPicPr/>
          <p:nvPr/>
        </p:nvPicPr>
        <p:blipFill>
          <a:blip r:embed="rId2"/>
          <a:stretch/>
        </p:blipFill>
        <p:spPr>
          <a:xfrm>
            <a:off x="0" y="0"/>
            <a:ext cx="714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189000"/>
            <a:ext cx="3382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. Н. Толстой выступил против правительственных и земских школ в России, опекаемых и контролируемых правящими классами, и защищал глубоко демократическую идею открытия народных школ самим народом, помимо правительства и зем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Картинки по запросу картинки земских школ в россии"/>
          <p:cNvPicPr/>
          <p:nvPr/>
        </p:nvPicPr>
        <p:blipFill>
          <a:blip r:embed="rId2"/>
          <a:stretch/>
        </p:blipFill>
        <p:spPr>
          <a:xfrm>
            <a:off x="3851280" y="333360"/>
            <a:ext cx="4052880" cy="568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Картинки по запросу картинки земских школ в россии"/>
          <p:cNvPicPr/>
          <p:nvPr/>
        </p:nvPicPr>
        <p:blipFill>
          <a:blip r:embed="rId3"/>
          <a:stretch/>
        </p:blipFill>
        <p:spPr>
          <a:xfrm>
            <a:off x="1332000" y="3357720"/>
            <a:ext cx="64800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4000" y="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поведуя в своих педагогических статьях идею развития широкой крестьянской самодеятельности в создании народных школ, Толстой, однако, принял отсталые взгляды патриархального крестьянства на школу за выражение потребностей в области образования всего народа. В соответствии с этими взглядами он обеднял содержание учебной программы школы для народа, оставив в ней как обязательное лишь обучение грамоте и сч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Картинки по запросу картинки Лев Толстой и дети"/>
          <p:cNvPicPr/>
          <p:nvPr/>
        </p:nvPicPr>
        <p:blipFill>
          <a:blip r:embed="rId2"/>
          <a:stretch/>
        </p:blipFill>
        <p:spPr>
          <a:xfrm>
            <a:off x="0" y="2658960"/>
            <a:ext cx="4968720" cy="4199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Картинки по запросу картинки Лев Толстой и дети"/>
          <p:cNvPicPr/>
          <p:nvPr/>
        </p:nvPicPr>
        <p:blipFill>
          <a:blip r:embed="rId3"/>
          <a:stretch/>
        </p:blipFill>
        <p:spPr>
          <a:xfrm>
            <a:off x="5245200" y="1916280"/>
            <a:ext cx="3898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8900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сторический очерк для истории педагогики русского крестьянства”, в котором собирался обосновать общие правила организации образования русского крестья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Картинки по запросу картинки Лев Толстой и дети"/>
          <p:cNvPicPr/>
          <p:nvPr/>
        </p:nvPicPr>
        <p:blipFill>
          <a:blip r:embed="rId2"/>
          <a:stretch/>
        </p:blipFill>
        <p:spPr>
          <a:xfrm>
            <a:off x="1258920" y="1700280"/>
            <a:ext cx="70754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2T20:10:16Z</dcterms:created>
  <dc:creator>user</dc:creator>
  <dc:description/>
  <dc:language>en-US</dc:language>
  <cp:lastModifiedBy>user</cp:lastModifiedBy>
  <dcterms:modified xsi:type="dcterms:W3CDTF">2016-10-02T20:29:01Z</dcterms:modified>
  <cp:revision>2</cp:revision>
  <dc:subject/>
  <dc:title>Народная педагогика в наследии Л.Н.Толстого</dc:title>
</cp:coreProperties>
</file>