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84A-8A8D-4126-9365-4F1C5FD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2B1-4FBF-43B4-AD0F-7E432084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B0B-0A37-49A5-A11E-F673900A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D8E-BBBA-4D7A-8C76-1696F7AA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624-41AB-43CD-95CF-ADD4F6C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26C-056F-4C9A-B836-27C1976C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27F-C529-4985-B819-9762C53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23B-4FBA-4F5D-98FC-70FE4A2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9F1-262B-47B0-9739-750748D3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6EF-2CB8-41C7-BED6-7510F56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414-B9B0-41C7-B359-A622F98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015-2672-43D9-9B29-493E55C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66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77F-D953-4528-8446-99424F693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907920"/>
            <a:ext cx="86421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Преемственность в обуч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чальной школы и среднего звена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. Наличие большей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вободы и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начальных классах большую часть времени дети находились  вместе с учителем как на уроках, так и на переменах. А в среднем звене классный руководитель не имеет возможности постоянно находиться с детьми. Поэтому ученики  порой не знают, как правильно распорядиться свободным  временем, что зачастую приводит к нарушению дисциплины на пере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. Личностный контакт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с уч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следует забывать, что пятиклассники - народ эмоциональный. И во многом школьную жизнь они воспринимают через призму собственных эмоций. Отношение к предмету определяется личностным отношением к учителю, а не наоборот. Если нравится учитель, то нравится и предмет. Это уже в более старшем возрасте школьники будут способны оценить интеллектуальный багаж педагога, его дости­жения и знания. А пока для них важны забота и внимание со стороны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ути реализации  преемствен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ебно –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можно раньше определить учителей-предметников и классных руководителей будущих пятикласс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щение уроков в 4 классе учителями – предмет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ые уроки учителей 4-х классов (письмо и развитие речи, математика, развитие устной реч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психологической  игры «Впереди у нас – 5-ый класс» для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щение будущим классным руководителем уро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единых педагогических  требований к обучению и поведению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учебных программ: учитель начальных классов должен знать программу 5  класса. Учитель-предметник среднего звена может начинать работу в 5 классе, только изучив программу начальной школы, чтобы правильно организовать повторение материала, изученного в начальной школе и разработать систему мер по дальнейшему  формированию новых учебных знаний и ум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гностика сформированности  общеучебных умений и навы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психолого – педагогического консилиума по вопросам адаптации пятиклассников к новой ситуации обучения и жизнедеятельности в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2286000" y="297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забывай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0920" y="1557360"/>
            <a:ext cx="879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и учитель – союз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учение должно быть бесконфликт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сь учить не у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организованная работа по преемственности – залог успеха обучения детей в основной школ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shkolazhizni.ru/img/content/i112/112756_or.jpg"/>
          <p:cNvPicPr/>
          <p:nvPr/>
        </p:nvPicPr>
        <p:blipFill>
          <a:blip r:embed="rId1"/>
          <a:stretch/>
        </p:blipFill>
        <p:spPr>
          <a:xfrm>
            <a:off x="2411280" y="2492280"/>
            <a:ext cx="50817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1116000" y="90792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емственность- это последовательная, непрерывная связь между различными ступенями в развитии качеств личности школьника, опора на его нравственный опыт, знания, умения, навыки, расширение и углубление их в последующие годы образования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11280" y="76500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 учащихся из начального в среднее звено школы – одна из педагогически наиболее сложных проблем, а период адаптации в 5-м классе – один из труднейших периодов школьного обучения. В последние годы  много говорится о сложностях этого периода обучения, который порождает серьёзные педагогические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68360" y="549360"/>
            <a:ext cx="80643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ины возникновения рассматриваемой 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мена социальной обстан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роли учащего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величением учебной нагруз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режима д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ностью систем и форм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стыковка программ начальной и основной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личием требований со стороны учителей-предме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стиля общения учителей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360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вязанные с переходом учащих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начального звена в средне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. В среднюю школу дети приходят с разным уровнем подготовл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ащиеся отличаю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ношением к учё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щим развит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ием самостоятельно работать, осмысливать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. Большое количество учителей вместо одного порождает вариативность поведени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дни учителя предпочитают «живые» уроки, когда дети активно работают, вступают в учебные дискуссии, спо­рят с товарищами, отстаивая свою точку з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ругие педагоги отдают предпочтение более спокойным урокам. Основными их лозунгами становятся: «Отвечаем только с поднятой рукой!», «Никаких споров и совместных решений! Это слишком шумн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.Создание ситуации успеха для пяти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я­тиклассники еще очень нуждаются в позитивных отзывах. Ошибочным мнением педагогов среднего и старшего звена является признание того, что в пятом классе нужно приучать школьников к нелегкому учебному труду, а создание ситуации успеха, равно так же как и использование игровых мо­ментов на уроке, - это удел начальной школы. Ситуация успеха и эмоциональные переживания, связанные с ней, продолжают оставаться действен­ными мотивами для успеш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.Отсутствие гибкого переноса традиций классного коллектива в средней школ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ятиклассники обычно очень тяжело переживают, когда рушатся традиции, которые они вместе с учителем создавали и хранили на протяжении четы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думчивые педагоги, понимая значимость этих традиций в жизни детей, стре­мятся сохранить их и продолжить в пятом классе с последующей трансформацией в соответствии с возрастными особенностями в более важные и необходимые для уче­ников меропри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.Отсутствие коллективных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редств обуч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едует помнить о том, что в подростковом возрасте ведущей деятельностью для школьников становится деятельность общения. Ребята хотят взаимодей­ствовать со сверстниками и в учебной деятельности. Они с удовольствием работают в больших и малых группах, парах, парах сменного состава. Кроме того, позитивные отношения к сверстнику они переносят и на педагога, способного организовать значимое для школьников 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33:30Z</dcterms:created>
  <dc:creator>admin</dc:creator>
  <dc:description/>
  <dc:language>en-US</dc:language>
  <cp:lastModifiedBy>Admin</cp:lastModifiedBy>
  <dcterms:modified xsi:type="dcterms:W3CDTF">2016-12-12T14:57:31Z</dcterms:modified>
  <cp:revision>18</cp:revision>
  <dc:subject/>
  <dc:title>Слайд 1</dc:title>
</cp:coreProperties>
</file>