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6C0-57E8-4DD2-990B-5A8243FA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283-EE7A-4C2B-A9C1-20145B5F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0B2-A6D5-4AE2-AFA4-8A6B0E15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ED6-5027-4335-9870-E56BEE02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BA1-4E79-45B8-A99D-41DB20FC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821-6426-41A3-A2DB-A438B683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32F-152F-4B62-8B46-4F1C66E6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4F6-721F-4FFA-8019-E6BB0711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4C1-01F6-430F-9882-E5D1E924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A49-31FB-462D-8361-A14AA4F2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E89-E14B-4F79-B755-020074C6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120-E7E1-41EC-A75E-0B5690E8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66"/>
            </a:gs>
            <a:gs pos="100000">
              <a:srgbClr val="00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587D-AB2D-4EAB-B18E-2209CEB6B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907920"/>
            <a:ext cx="86421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Преемственность в обуч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чальной школы и среднего звена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6. Наличие большей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вободы и самосто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начальных классах большую часть времени дети находились  вместе с учителем как на уроках, так и на переменах. А в среднем звене классный руководитель не имеет возможности постоянно находиться с детьми. Поэтому ученики  порой не знают, как правильно распорядиться свободным  временем, что зачастую приводит к нарушению дисциплины на пере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7. Личностный контакт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с уч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следует забывать, что пятиклассники - народ эмоциональный. И во многом школьную жизнь они воспринимают через призму собственных эмоций. Отношение к предмету определяется личностным отношением к учителю, а не наоборот. Если нравится учитель, то нравится и предмет. Это уже в более старшем возрасте школьники будут способны оценить интеллектуальный багаж педагога, его дости­жения и знания. А пока для них важны забота и внимание со стороны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ути реализации  преемственно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учебно – воспитатель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можно раньше определить учителей-предметников и классных руководителей будущих пятикласс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ещение уроков в 4 классе учителями – предмет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рытые уроки учителей 4-х классов (письмо и развитие речи, математика, развитие устной реч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а психологической  игры «Впереди у нас – 5-ый класс» для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ещение будущим классным руководителем уро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блюдение единых педагогических  требований к обучению и поведению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чение учебных программ: учитель начальных классов должен знать программу 5  класса. Учитель-предметник среднего звена может начинать работу в 5 классе, только изучив программу начальной школы, чтобы правильно организовать повторение материала, изученного в начальной школе и разработать систему мер по дальнейшему  формированию новых учебных знаний и ум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агностика сформированности  общеучебных умений и навы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дение психолого – педагогического консилиума по вопросам адаптации пятиклассников к новой ситуации обучения и жизнедеятельности в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2286000" y="2971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забывай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10920" y="1557360"/>
            <a:ext cx="879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 и учитель – союзн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учение должно быть бесконфликт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итесь учить не у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 организованная работа по преемственности – залог успеха обучения детей в основной школ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shkolazhizni.ru/img/content/i112/112756_or.jpg"/>
          <p:cNvPicPr/>
          <p:nvPr/>
        </p:nvPicPr>
        <p:blipFill>
          <a:blip r:embed="rId1"/>
          <a:stretch/>
        </p:blipFill>
        <p:spPr>
          <a:xfrm>
            <a:off x="2411280" y="2492280"/>
            <a:ext cx="50817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2"/>
          <p:cNvSpPr/>
          <p:nvPr/>
        </p:nvSpPr>
        <p:spPr>
          <a:xfrm>
            <a:off x="1116000" y="907920"/>
            <a:ext cx="727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емственность- это последовательная, непрерывная связь между различными ступенями в развитии качеств личности школьника, опора на его нравственный опыт, знания, умения, навыки, расширение и углубление их в последующие годы образования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611280" y="765000"/>
            <a:ext cx="741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ход учащихся из начального в среднее звено школы – одна из педагогически наиболее сложных проблем, а период адаптации в 5-м классе – один из труднейших периодов школьного обучения. В последние годы  много говорится о сложностях этого периода обучения, который порождает серьёзные педагогические пробл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68360" y="549360"/>
            <a:ext cx="806436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чины возникновения рассматриваемой пробл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мена социальной обстанов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менением роли учащего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величением учебной нагруз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менением режима дн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зностью систем и форм обу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стыковка программ начальной и основной шко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зличием требований со стороны учителей-предмет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менением стиля общения учителей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39640" y="360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вязанные с переходом учащихс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начального звена в средне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1. В среднюю школу дети приходят с разным уровнем подготовл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ащиеся отличаютс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ношением к учёб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щим развит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нием самостоятельно работать, осмысливать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2. Большое количество учителей вместо одного порождает вариативность поведения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дни учителя предпочитают «живые» уроки, когда дети активно работают, вступают в учебные дискуссии, спо­рят с товарищами, отстаивая свою точку з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ругие педагоги отдают предпочтение более спокойным урокам. Основными их лозунгами становятся: «Отвечаем только с поднятой рукой!», «Никаких споров и совместных решений! Это слишком шумно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3.Создание ситуации успеха для пяти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я­тиклассники еще очень нуждаются в позитивных отзывах. Ошибочным мнением педагогов среднего и старшего звена является признание того, что в пятом классе нужно приучать школьников к нелегкому учебному труду, а создание ситуации успеха, равно так же как и использование игровых мо­ментов на уроке, - это удел начальной школы. Ситуация успеха и эмоциональные переживания, связанные с ней, продолжают оставаться действен­ными мотивами для успеш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4.Отсутствие гибкого переноса традиций классного коллектива в средней школ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ятиклассники обычно очень тяжело переживают, когда рушатся традиции, которые они вместе с учителем создавали и хранили на протяжении четырех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думчивые педагоги, понимая значимость этих традиций в жизни детей, стре­мятся сохранить их и продолжить в пятом классе с последующей трансформацией в соответствии с возрастными особенностями в более важные и необходимые для уче­ников меропри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5.Отсутствие коллективных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редств обуч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ледует помнить о том, что в подростковом возрасте ведущей деятельностью для школьников становится деятельность общения. Ребята хотят взаимодей­ствовать со сверстниками и в учебной деятельности. Они с удовольствием работают в больших и малых группах, парах, парах сменного состава. Кроме того, позитивные отношения к сверстнику они переносят и на педагога, способного организовать значимое для школьников об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33:30Z</dcterms:created>
  <dc:creator>admin</dc:creator>
  <dc:description/>
  <dc:language>en-US</dc:language>
  <cp:lastModifiedBy>Admin</cp:lastModifiedBy>
  <dcterms:modified xsi:type="dcterms:W3CDTF">2016-12-12T14:57:31Z</dcterms:modified>
  <cp:revision>18</cp:revision>
  <dc:subject/>
  <dc:title>Слайд 1</dc:title>
</cp:coreProperties>
</file>