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CD1-7139-4251-94BC-E0E57BF7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B14-EBFC-4F81-91C3-07EEBF80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2F5-8719-4CAC-AE95-CDF101C0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7F8-3EAE-434B-B6C0-3A8357F5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1E2-0920-45C2-9C6C-45B08909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1EC-73B2-4068-A897-539A902E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849-57D4-4F94-9B87-76BFE9A9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199-DE0F-4FAF-A802-0CE8D93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779-1DEC-49CB-9355-6C9E10D0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A6D-066E-46D9-94D4-B36D7EE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813-3C46-4A6E-96CF-6D31BAF8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95D-8010-4B27-A9C8-70BBE2CA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9A19-1420-4951-ACE7-B9CDF0433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71720" y="2500200"/>
            <a:ext cx="630684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6" descr="j0233964"/>
          <p:cNvPicPr/>
          <p:nvPr/>
        </p:nvPicPr>
        <p:blipFill>
          <a:blip r:embed="rId1"/>
          <a:stretch/>
        </p:blipFill>
        <p:spPr>
          <a:xfrm>
            <a:off x="3500280" y="4643280"/>
            <a:ext cx="2048040" cy="2076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untitled"/>
          <p:cNvPicPr/>
          <p:nvPr/>
        </p:nvPicPr>
        <p:blipFill>
          <a:blip r:embed="rId2"/>
          <a:stretch/>
        </p:blipFill>
        <p:spPr>
          <a:xfrm>
            <a:off x="6715080" y="714240"/>
            <a:ext cx="1928880" cy="2006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286000" y="1285920"/>
            <a:ext cx="4786200" cy="49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786120" y="-857160"/>
            <a:ext cx="435780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5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 rot="13759800">
            <a:off x="4654440" y="704520"/>
            <a:ext cx="38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7 0.06041 C -0.07344 0.05 -0.07552 0.05347 -0.07083 0.04907 C -0.06476 0.03588 -0.07327 0.05185 -0.06545 0.0419 C -0.06163 0.03634 -0.05938 0.03009 -0.05538 0.02569 C -0.05399 0.02014 -0.05191 0.01875 -0.04809 0.0169 C -0.04653 0.01574 -0.04497 0.01412 -0.04358 0.01273 C -0.04306 0.01134 -0.04306 0.00926 -0.04184 0.00833 C -0.03785 0.00463 -0.03316 0.0044 -0.02952 0.00139 C -0.02587 -0.00579 -0.02274 -0.00695 -0.01684 -0.00926 C -0.00851 -0.01713 -0.00347 -0.01597 0.0059 -0.02037 C 0.01354 -0.02824 0.01823 -0.0257 0.02969 -0.02616 C 0.05 -0.03218 0.07222 -0.02685 0.09271 -0.025 C 0.0967 -0.02361 0.10052 -0.02153 0.10434 -0.02037 C 0.10642 -0.01968 0.11059 -0.01759 0.11059 -0.01736 C 0.11389 -0.01459 0.11562 -0.00787 0.11979 -0.00602 C 0.1217 -0.00533 0.12361 -0.00463 0.12604 -0.00324 C 0.12708 -0.00278 0.12899 -0.00185 0.12899 -0.00162 C 0.13246 0.00162 0.13385 0.00486 0.13732 0.00833 C 0.13871 0.01366 0.1401 0.01805 0.14375 0.02153 C 0.14548 0.02338 0.14982 0.02731 0.14982 0.02754 C 0.15677 0.0419 0.15226 0.02986 0.15469 0.05162 C 0.15503 0.05578 0.15694 0.06342 0.15694 0.06366 C 0.15677 0.07916 0.1566 0.09491 0.15607 0.11088 C 0.15486 0.13264 0.1467 0.17361 0.13212 0.18727 C 0.12917 0.19328 0.12708 0.19907 0.12292 0.20324 C 0.11892 0.21134 0.1158 0.21157 0.1217 0.21342 C 0.12396 0.21389 0.12604 0.21412 0.12795 0.21435 C 0.13316 0.21643 0.13628 0.22129 0.14132 0.22315 C 0.14462 0.22592 0.14757 0.22778 0.15069 0.23009 C 0.15625 0.2412 0.15781 0.25185 0.16719 0.25648 C 0.1717 0.26319 0.1743 0.27176 0.17951 0.27685 C 0.1809 0.28472 0.18246 0.29143 0.18576 0.29838 C 0.18698 0.30717 0.18785 0.31319 0.19236 0.31991 C 0.19826 0.34328 0.19444 0.37176 0.19114 0.39514 C 0.19028 0.40833 0.18889 0.43634 0.18281 0.44815 C 0.18125 0.45555 0.17969 0.45903 0.17673 0.46574 C 0.1743 0.47083 0.175 0.47801 0.17239 0.48264 C 0.16962 0.48842 0.16701 0.49444 0.16406 0.50023 C 0.16232 0.50787 0.16007 0.51551 0.15607 0.52176 C 0.15434 0.52824 0.15139 0.53356 0.14861 0.53889 C 0.14722 0.54143 0.14236 0.54491 0.14236 0.54514 C 0.13871 0.55231 0.13385 0.55555 0.12795 0.55764 C 0.12482 0.56041 0.12187 0.56551 0.11875 0.56759 C 0.11562 0.56967 0.1125 0.57106 0.1092 0.57199 C 0.10816 0.57291 0.10764 0.5743 0.10642 0.575 C 0.0993 0.57893 0.09149 0.58125 0.08437 0.58379 C 0.08229 0.58472 0.08038 0.58773 0.0783 0.58819 C 0.07274 0.58935 0.06719 0.58912 0.06198 0.58935 C 0.05364 0.59768 0.06111 0.59097 0.04114 0.59375 C 0.02864 0.5956 0.02153 0.59722 0.0059 0.59791 C -0.01285 0.60787 -0.02691 0.59537 -0.04358 0.59259 C -0.05243 0.58379 -0.06111 0.58379 -0.07083 0.57893 C -0.07327 0.57616 -0.07431 0.57384 -0.07743 0.57384 E">
                                      <p:cBhvr>
                                        <p:cTn id="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643040" y="1500120"/>
            <a:ext cx="585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 + 24 =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14200" y="257184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енство    Неравенство   С перем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143080" y="500040"/>
            <a:ext cx="50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Уравн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2857680" y="2857680"/>
            <a:ext cx="2928600" cy="7128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14240" y="3214800"/>
            <a:ext cx="821556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Алгоритм решения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 название неизвестного компо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омнить правило нахождения этого компо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значение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провер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2195640" y="549360"/>
            <a:ext cx="4970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100000">
                      <a:srgbClr val="000099"/>
                    </a:gs>
                  </a:gsLst>
                  <a:lin ang="2700000"/>
                </a:gradFill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100000">
                    <a:srgbClr val="0000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pic>
        <p:nvPicPr>
          <p:cNvPr id="53" name="Рисунок 2" descr="Рисунок2.png"/>
          <p:cNvPicPr/>
          <p:nvPr/>
        </p:nvPicPr>
        <p:blipFill>
          <a:blip r:embed="rId1"/>
          <a:stretch/>
        </p:blipFill>
        <p:spPr>
          <a:xfrm>
            <a:off x="3071880" y="1736640"/>
            <a:ext cx="31431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6:01:56Z</dcterms:created>
  <dc:creator>Дмитруша</dc:creator>
  <dc:description/>
  <dc:language>en-US</dc:language>
  <cp:lastModifiedBy>user</cp:lastModifiedBy>
  <dcterms:modified xsi:type="dcterms:W3CDTF">2017-09-11T17:53:32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