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11.gif" ContentType="image/gif"/>
  <Override PartName="/ppt/media/image7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0879-E213-49B2-BA2F-3F59D33B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189C-6358-445C-A3A4-139B518A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6CC-7247-405D-A5E8-C4B7B09E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C60-C801-40A8-8C39-C837D388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4AB5-D0CF-4424-B5D2-8440CBC7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68DF-3A0D-4AA4-B486-462A27DC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ABD-C2BC-4199-971A-D5D71676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0544-F2EC-4A59-8ADA-707522C5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07A6-8EB7-4C12-80D6-795EC34F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57D4-F4DF-4723-A4DA-D485952B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10E5-3CE9-4F6A-85C6-58242E1B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02F2-B915-41EB-80BD-C6C91ADF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F55F-E3AE-4156-83BB-474B54662F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2.gif"/><Relationship Id="rId17" Type="http://schemas.openxmlformats.org/officeDocument/2006/relationships/image" Target="../media/image12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image" Target="../media/image12.gi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58640" y="1600200"/>
            <a:ext cx="822672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14200" y="1214280"/>
            <a:ext cx="8643960" cy="52898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4"/>
          <p:cNvSpPr/>
          <p:nvPr/>
        </p:nvSpPr>
        <p:spPr>
          <a:xfrm>
            <a:off x="0" y="214200"/>
            <a:ext cx="9144000" cy="91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Государственное автономное профессиональное образовательное учреждение Саратовской области «Вольский медицинский колледж имени З.И. Маресев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Admin\Рабочий стол\проекты мои\Проект В ДВИЖЕНИИ _ ЖИЗНЬ!\фото проект В движении - жизнь!.jpg"/>
          <p:cNvPicPr/>
          <p:nvPr/>
        </p:nvPicPr>
        <p:blipFill>
          <a:blip r:embed="rId2"/>
          <a:srcRect l="0" t="4840" r="0" b="80383"/>
          <a:stretch/>
        </p:blipFill>
        <p:spPr>
          <a:xfrm>
            <a:off x="5651640" y="333360"/>
            <a:ext cx="3492360" cy="6224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1"/>
          <p:cNvSpPr/>
          <p:nvPr/>
        </p:nvSpPr>
        <p:spPr>
          <a:xfrm>
            <a:off x="0" y="2077920"/>
            <a:ext cx="9144000" cy="1433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 Black"/>
                <a:ea typeface="Calibri"/>
              </a:rPr>
              <a:t>Название проект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 Black"/>
                <a:ea typeface="Calibri"/>
              </a:rPr>
              <a:t>«Сохранение чистоты р. Волги и впадающих в нее малых ре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3"/>
          <p:cNvSpPr/>
          <p:nvPr/>
        </p:nvSpPr>
        <p:spPr>
          <a:xfrm>
            <a:off x="2000160" y="6000840"/>
            <a:ext cx="68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четный период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апреля 2015 г. по ноябрь 201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5"/>
          <p:cNvSpPr/>
          <p:nvPr/>
        </p:nvSpPr>
        <p:spPr>
          <a:xfrm>
            <a:off x="2484360" y="3573360"/>
            <a:ext cx="44308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студенческий экологический проек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2"/>
          <p:cNvSpPr/>
          <p:nvPr/>
        </p:nvSpPr>
        <p:spPr>
          <a:xfrm>
            <a:off x="3059280" y="5375520"/>
            <a:ext cx="54003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ководитель проекта: преподаватель Левинова Маргарита Конста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079800" y="3933720"/>
            <a:ext cx="601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уденты 613 г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дыркаева Наталья, Саратовцева Ан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еев Данил, Казакова Анастасия, Герасько Ари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явская 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Экологическая пробл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4200" y="642960"/>
            <a:ext cx="8715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Arial Black"/>
              </a:rPr>
              <a:t>Волга в настоящее время находится в плачевном состоянии, интенсивное использование Волги человеком привело и к загрязнению реки промышленными стоками и отходами ТБ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Arial Black"/>
              </a:rPr>
              <a:t>Одна из малых рек Малыковка находится в экологическом состоянии берег, русло реки нуждается в сохранение через очистку впадающих малых рек, что позволит свести к минимуму риск загрязнения ТБО р. Вол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7030a0"/>
                </a:solidFill>
                <a:latin typeface="Arial Black"/>
              </a:rPr>
              <a:t>Собранный мусор будет вывезен и утилизирован на полигоне ТБО. Эта работа не предполагает больших финансовых вложений и п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Arial Black"/>
              </a:rPr>
              <a:t>После реализации проекта МУП «Благоустройство»  будет систематически осуществлять вывоз и утилизацию  твердых бытовых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Arial Black"/>
              </a:rPr>
              <a:t>Сегодня экологи бьют тревогу — возможности реки к самоочищению исчерпаны, она стала одной из самых грязных рек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2" descr=""/>
          <p:cNvPicPr/>
          <p:nvPr/>
        </p:nvPicPr>
        <p:blipFill>
          <a:blip r:embed="rId1"/>
          <a:srcRect l="0" t="3846" r="1069" b="10233"/>
          <a:stretch/>
        </p:blipFill>
        <p:spPr>
          <a:xfrm>
            <a:off x="214200" y="3143160"/>
            <a:ext cx="8643960" cy="354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7b3"/>
          <p:cNvPicPr/>
          <p:nvPr/>
        </p:nvPicPr>
        <p:blipFill>
          <a:blip r:embed="rId2"/>
          <a:stretch/>
        </p:blipFill>
        <p:spPr>
          <a:xfrm>
            <a:off x="0" y="257184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7b3"/>
          <p:cNvPicPr/>
          <p:nvPr/>
        </p:nvPicPr>
        <p:blipFill>
          <a:blip r:embed="rId3"/>
          <a:stretch/>
        </p:blipFill>
        <p:spPr>
          <a:xfrm rot="10800000">
            <a:off x="7991280" y="478620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7b3"/>
          <p:cNvPicPr/>
          <p:nvPr/>
        </p:nvPicPr>
        <p:blipFill>
          <a:blip r:embed="rId4"/>
          <a:stretch/>
        </p:blipFill>
        <p:spPr>
          <a:xfrm>
            <a:off x="8352000" y="178596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9"/>
          <p:cNvSpPr/>
          <p:nvPr/>
        </p:nvSpPr>
        <p:spPr>
          <a:xfrm>
            <a:off x="357120" y="357120"/>
            <a:ext cx="8501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экологического проекта </a:t>
            </a:r>
            <a:r>
              <a:rPr b="1" lang="ru-RU" sz="2000" spc="-1" strike="noStrike">
                <a:solidFill>
                  <a:srgbClr val="7030a0"/>
                </a:solidFill>
                <a:latin typeface="Arial Black"/>
                <a:ea typeface="Calibri"/>
              </a:rPr>
              <a:t>«Сохранение чистоты р. Волги и впадающих в нее малых рек»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го  на решение  экологических  проблем реки Волга и ее притоков в черте  города Вольска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ьшение общего уровня загрязнения водоемов в регион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оект осуществляется совместно с общественным движением «Чистая Волга», при финансовой поддержке компании «Holcim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мусор-1"/>
          <p:cNvPicPr/>
          <p:nvPr/>
        </p:nvPicPr>
        <p:blipFill>
          <a:blip r:embed="rId5"/>
          <a:stretch/>
        </p:blipFill>
        <p:spPr>
          <a:xfrm>
            <a:off x="2357280" y="3143160"/>
            <a:ext cx="4071960" cy="30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21"/>
          <p:cNvSpPr/>
          <p:nvPr/>
        </p:nvSpPr>
        <p:spPr>
          <a:xfrm>
            <a:off x="571680" y="1285920"/>
            <a:ext cx="814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сохранение и уменьшение общего уровня загрязнения р. Волги и впадающих в нее малых р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:\чистая Волга\Сохранение р. Волга\dsc01726.jpg"/>
          <p:cNvPicPr/>
          <p:nvPr/>
        </p:nvPicPr>
        <p:blipFill>
          <a:blip r:embed="rId2"/>
          <a:stretch/>
        </p:blipFill>
        <p:spPr>
          <a:xfrm>
            <a:off x="500040" y="2786040"/>
            <a:ext cx="8215200" cy="3857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7"/>
          <p:cNvGrpSpPr/>
          <p:nvPr/>
        </p:nvGrpSpPr>
        <p:grpSpPr>
          <a:xfrm>
            <a:off x="8820000" y="189000"/>
            <a:ext cx="142920" cy="6191280"/>
            <a:chOff x="8820000" y="189000"/>
            <a:chExt cx="142920" cy="6191280"/>
          </a:xfrm>
        </p:grpSpPr>
        <p:pic>
          <p:nvPicPr>
            <p:cNvPr id="63" name="Picture 8" descr="anim081"/>
            <p:cNvPicPr/>
            <p:nvPr/>
          </p:nvPicPr>
          <p:blipFill>
            <a:blip r:embed="rId2"/>
            <a:stretch/>
          </p:blipFill>
          <p:spPr>
            <a:xfrm>
              <a:off x="8820000" y="62064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9" descr="anim081"/>
            <p:cNvPicPr/>
            <p:nvPr/>
          </p:nvPicPr>
          <p:blipFill>
            <a:blip r:embed="rId3"/>
            <a:stretch/>
          </p:blipFill>
          <p:spPr>
            <a:xfrm>
              <a:off x="8820000" y="148428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" descr="anim081"/>
            <p:cNvPicPr/>
            <p:nvPr/>
          </p:nvPicPr>
          <p:blipFill>
            <a:blip r:embed="rId4"/>
            <a:stretch/>
          </p:blipFill>
          <p:spPr>
            <a:xfrm>
              <a:off x="8820000" y="105264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1" descr="anim081"/>
            <p:cNvPicPr/>
            <p:nvPr/>
          </p:nvPicPr>
          <p:blipFill>
            <a:blip r:embed="rId5"/>
            <a:stretch/>
          </p:blipFill>
          <p:spPr>
            <a:xfrm>
              <a:off x="8820000" y="198900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2" descr="anim081"/>
            <p:cNvPicPr/>
            <p:nvPr/>
          </p:nvPicPr>
          <p:blipFill>
            <a:blip r:embed="rId6"/>
            <a:stretch/>
          </p:blipFill>
          <p:spPr>
            <a:xfrm>
              <a:off x="8820000" y="249228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3" descr="anim081"/>
            <p:cNvPicPr/>
            <p:nvPr/>
          </p:nvPicPr>
          <p:blipFill>
            <a:blip r:embed="rId7"/>
            <a:stretch/>
          </p:blipFill>
          <p:spPr>
            <a:xfrm>
              <a:off x="8820000" y="292428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4" descr="anim081"/>
            <p:cNvPicPr/>
            <p:nvPr/>
          </p:nvPicPr>
          <p:blipFill>
            <a:blip r:embed="rId8"/>
            <a:stretch/>
          </p:blipFill>
          <p:spPr>
            <a:xfrm>
              <a:off x="8820000" y="494172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15" descr="anim081"/>
            <p:cNvPicPr/>
            <p:nvPr/>
          </p:nvPicPr>
          <p:blipFill>
            <a:blip r:embed="rId9"/>
            <a:stretch/>
          </p:blipFill>
          <p:spPr>
            <a:xfrm>
              <a:off x="8820000" y="443700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16" descr="anim081"/>
            <p:cNvPicPr/>
            <p:nvPr/>
          </p:nvPicPr>
          <p:blipFill>
            <a:blip r:embed="rId10"/>
            <a:stretch/>
          </p:blipFill>
          <p:spPr>
            <a:xfrm>
              <a:off x="8820000" y="342900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17" descr="anim081"/>
            <p:cNvPicPr/>
            <p:nvPr/>
          </p:nvPicPr>
          <p:blipFill>
            <a:blip r:embed="rId11"/>
            <a:stretch/>
          </p:blipFill>
          <p:spPr>
            <a:xfrm>
              <a:off x="8820000" y="623736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18" descr="anim081"/>
            <p:cNvPicPr/>
            <p:nvPr/>
          </p:nvPicPr>
          <p:blipFill>
            <a:blip r:embed="rId12"/>
            <a:stretch/>
          </p:blipFill>
          <p:spPr>
            <a:xfrm>
              <a:off x="8820000" y="580536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19" descr="anim081"/>
            <p:cNvPicPr/>
            <p:nvPr/>
          </p:nvPicPr>
          <p:blipFill>
            <a:blip r:embed="rId13"/>
            <a:stretch/>
          </p:blipFill>
          <p:spPr>
            <a:xfrm>
              <a:off x="8820000" y="537372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0" descr="anim081"/>
            <p:cNvPicPr/>
            <p:nvPr/>
          </p:nvPicPr>
          <p:blipFill>
            <a:blip r:embed="rId14"/>
            <a:stretch/>
          </p:blipFill>
          <p:spPr>
            <a:xfrm>
              <a:off x="8820000" y="18900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1" descr="anim081"/>
            <p:cNvPicPr/>
            <p:nvPr/>
          </p:nvPicPr>
          <p:blipFill>
            <a:blip r:embed="rId15"/>
            <a:stretch/>
          </p:blipFill>
          <p:spPr>
            <a:xfrm>
              <a:off x="8820000" y="3933720"/>
              <a:ext cx="142920" cy="14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" name="Group 34"/>
          <p:cNvGrpSpPr/>
          <p:nvPr/>
        </p:nvGrpSpPr>
        <p:grpSpPr>
          <a:xfrm>
            <a:off x="178920" y="1628280"/>
            <a:ext cx="181080" cy="2629080"/>
            <a:chOff x="178920" y="1628280"/>
            <a:chExt cx="181080" cy="2629080"/>
          </a:xfrm>
        </p:grpSpPr>
        <p:pic>
          <p:nvPicPr>
            <p:cNvPr id="78" name="Picture 24" descr="5b1"/>
            <p:cNvPicPr/>
            <p:nvPr/>
          </p:nvPicPr>
          <p:blipFill>
            <a:blip r:embed="rId16"/>
            <a:stretch/>
          </p:blipFill>
          <p:spPr>
            <a:xfrm rot="10800000">
              <a:off x="178920" y="1628280"/>
              <a:ext cx="18108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9" descr="5b1"/>
            <p:cNvPicPr/>
            <p:nvPr/>
          </p:nvPicPr>
          <p:blipFill>
            <a:blip r:embed="rId17"/>
            <a:stretch/>
          </p:blipFill>
          <p:spPr>
            <a:xfrm rot="10800000">
              <a:off x="178920" y="2565000"/>
              <a:ext cx="18108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30" descr="5b1"/>
            <p:cNvPicPr/>
            <p:nvPr/>
          </p:nvPicPr>
          <p:blipFill>
            <a:blip r:embed="rId18"/>
            <a:stretch/>
          </p:blipFill>
          <p:spPr>
            <a:xfrm rot="10800000">
              <a:off x="178920" y="2060280"/>
              <a:ext cx="18108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31" descr="5b1"/>
            <p:cNvPicPr/>
            <p:nvPr/>
          </p:nvPicPr>
          <p:blipFill>
            <a:blip r:embed="rId19"/>
            <a:stretch/>
          </p:blipFill>
          <p:spPr>
            <a:xfrm rot="10800000">
              <a:off x="178920" y="3068280"/>
              <a:ext cx="18108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32" descr="5b1"/>
            <p:cNvPicPr/>
            <p:nvPr/>
          </p:nvPicPr>
          <p:blipFill>
            <a:blip r:embed="rId20"/>
            <a:stretch/>
          </p:blipFill>
          <p:spPr>
            <a:xfrm rot="10800000">
              <a:off x="178920" y="3573000"/>
              <a:ext cx="18108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33" descr="5b1"/>
            <p:cNvPicPr/>
            <p:nvPr/>
          </p:nvPicPr>
          <p:blipFill>
            <a:blip r:embed="rId21"/>
            <a:stretch/>
          </p:blipFill>
          <p:spPr>
            <a:xfrm rot="10800000">
              <a:off x="178920" y="4076280"/>
              <a:ext cx="181080" cy="1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Rectangle 30"/>
          <p:cNvSpPr/>
          <p:nvPr/>
        </p:nvSpPr>
        <p:spPr>
          <a:xfrm>
            <a:off x="500040" y="1634400"/>
            <a:ext cx="8215200" cy="4483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Привлечение молодежи г. Вольска к волонтер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2. Организовать работы по очистке береговой линии на протяжении 2000 м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3. Организовать  работу по очистке русла реки Верхняя Малык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4. Провести экологические волонтерские акции с целью привлечения членов местного сообщества к проблеме загрязнения р. Волги.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0"/>
          <p:cNvSpPr/>
          <p:nvPr/>
        </p:nvSpPr>
        <p:spPr>
          <a:xfrm>
            <a:off x="2389320" y="214200"/>
            <a:ext cx="426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 Black"/>
                <a:ea typeface="Calibri"/>
              </a:rPr>
              <a:t>Задачи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5:48:28Z</dcterms:created>
  <dc:creator>Admin</dc:creator>
  <dc:description/>
  <dc:language>en-US</dc:language>
  <cp:lastModifiedBy>Пользователь</cp:lastModifiedBy>
  <dcterms:modified xsi:type="dcterms:W3CDTF">2017-09-17T20:58:31Z</dcterms:modified>
  <cp:revision>193</cp:revision>
  <dc:subject/>
  <dc:title>Слайд 1</dc:title>
</cp:coreProperties>
</file>