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22E-E5B0-41A8-BD6E-BC33D06B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88F-AB39-4743-8E21-1E2E352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5BD-84ED-4823-9845-C45E330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65E-C2B6-4F70-A685-7F0E0CE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DB5A2-EC40-430A-81D9-17EE2784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9E8F9-A3F0-4D25-9F6D-A8104C3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FE5D-8111-42DB-A0A6-6EB2D728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1EA8-B151-4FE2-899E-7EAB320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0CE7-4A4F-425D-8A54-DA091D9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1492-90EE-4F0E-85A4-D024448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1E72-113F-43A1-AD0D-935B59E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71A-3421-449E-89E3-755D654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1C18-03E5-46B0-B17E-6E9F352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E8DC-B57E-48BC-8350-79B75A2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826C-D785-495A-85EC-E70C601D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EAF83-6E15-4C6F-9DF4-1326B9C9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22DA-039B-436B-B4BD-D4966558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7A4-6297-47A5-96D4-2AF179C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DF6-9286-4ABA-B289-0E47EE59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5FE-0C1C-4267-91DD-D71C3C3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6C4-FBBE-4B6F-AF55-46D5F73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362-EF0C-4E9E-B9F8-3BED416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E80-7419-438E-B5E2-997AC29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56E-8A1D-4D22-8DC4-60583A1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D8E-AE2C-486C-AC9B-69C120C7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751E-4C1E-47A7-8075-34E9CF3AC0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-163476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Тема: «ПОДГОТОВКА К ОБУЧЕНИЮ ГРАМОТ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НА ЭТАПЕ ДОШКОЛЬНОГО ДЕТСТВ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спитатель МБДО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Детский сад № 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Ромашка» с.Никольско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зибаева И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вуковой анализа сло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дагог предлагает детям рассмотреть картинку-схему, которую демонстрирует детям на доске; просит назвать слово, которое будут анализирова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ти «измеряют» слово, делают предположение, сколько звуков в н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дагог произносит слово с интонационным выделением первого звука, ведя указкой по схеме и задерживая указку в первой клеточк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ти вслед за педагогом произносят слово так ж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тем педагог называет первый звук так как он слышится в слове (если слово мак, то [м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ти произносят звук  вслед за педагогом и кладут фишку в первую клеточ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дя указкой по схеме, педагог интонационно выделяет второй звук, задерживая указку во второй клеточке (слово произносится каждый раз полностью), называет второй звук изолированн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ти произносят второй звук изолированно и выкладывают фишку во вторую клеточ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ак же выделяется третий звук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гда будут выделены все звуки в слове, воспитатель предлагает детям «прочитать» слово так, как движется указка по звуковой схе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5148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лее дет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комят с гласными и согласными зву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ат различать на слух твердые и мягкие согласные зву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комят с предложение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учатся составлять предложения из 2-4 слов, делить предложения на слова, называть их по порядку, переставляют, добавляют или заменяют слова в предложении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ат делить слова на части (слог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мят с ударени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комлением с соответствующими образами – буквами.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3. Подготовка к обучению письм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исьм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сложный навык и в полном объеме недоступен дошкольни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ка к обучению письму требует особого педагогического воздействия, выстроенного в систему специальных игр, упражнения и заданий. Это должна быть не механическая тренировка, а осознанная творческая деятельность ребенка под руководством и при помощи взросл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направления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развитие ру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подготовка к технике пись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аналитико-синтет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формирование элементарных графических ум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азвитие рук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ильный захват орудия пись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ильное распределение мышечной нагрузки ру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мелкой моторики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одготовка техники письм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пространственной ориентир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чувство рит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ило проведения горизонтальных и вертикальных ли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налитико-синтетическая деятельност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умение ребенка проводить анализ и синтез графического образа букв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403848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оцесс анализа образа букв состоит из умения ребенка определя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личество элементов (сколько элементов составляет букву?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арактеристику элементов (какие  это элементы?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странственное расположение элементов в бук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ормирование элементарных графических навыков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в осознанном печатании элементов букв и самих бук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, подготавливающие к написанию элементов школьного шриф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291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55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 ВНИМАНИЕ!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-520020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рамота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это овладение умением читать и писать тексты, излагать свои мысли в письменной форме, понимать при чтении не только значение отдельных слов и предложений, но и смысл текста, то есть овладение письменной реч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1036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4114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дготовка детей к обучению грамоте включает в себя три направл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развитие связной ре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дготовка к обучению чт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дготовка к обучению письм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Должны стать обязательными структурными компонентами  заня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         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1. Развитие связной реч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язная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ч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это такая речь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рая организована по законам логики и грамматики, представляет единое целое, систему, обладает относительной самостоятельностью, законченностью и расчленяется на более или менее значимые части, связанные между соб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Формирование связности речи включ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логическая реч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нологическая реч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мение строить высказывания разных типов (описание, повествование, рассуждени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мение выделять структуру текста (начало, середина, конец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гащение словаря;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ершенствование грамматического строя речи;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5112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Для ребенка серьезное и основательное упражнение в устной речи является лучшим фундаментом и подготовкой к усвоению речи графическо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есталоцци: «Ребенок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должен научиться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оворить прежде, чем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н может перейти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азумному чтению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3109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879640" cy="388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5112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4581360"/>
            <a:ext cx="302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.И.Тихе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08000" y="475920"/>
            <a:ext cx="497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Этим неоспоримым положением должен руководствоваться каждый, кто занимается воспитанием и обучением детей: нельзя подводить к грамоте ребенка, который не владеет устной речь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2. Подготовка к обучению чтени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 – научить детей различать смысловую и формальную стороны слова, а также правильно понимать и употреблять термин «слово», «звук», вслушиваться в звучание слова. 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4879800"/>
            <a:ext cx="4428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59920"/>
            <a:ext cx="814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слово» (игры, упражнения, пример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ти узнают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слов мн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лова состоят из зву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лова звучат по-разном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лова могут быть длинные и коротк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атся сравнивать слова по протяж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о основа для развития фонематического слух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675640" y="6597720"/>
            <a:ext cx="2174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Sergey</cp:lastModifiedBy>
  <dcterms:modified xsi:type="dcterms:W3CDTF">2015-11-22T16:04:58Z</dcterms:modified>
  <cp:revision>232</cp:revision>
  <dc:subject/>
  <dc:title>Слайд 1</dc:title>
</cp:coreProperties>
</file>