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19924-01A0-4409-854D-5A84AF20B6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2207-8FBC-43BD-9845-46377F7B9E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548B3-672D-4311-BB1F-A0E8255028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15A92-3D25-4480-A97D-2A0EDF5D3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6607-B31F-485E-B009-BF92D89D3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E14D5-E80E-4E7B-A172-C0E115097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E6491-524E-4796-9A04-79C7491F33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476A-EF53-4248-AF01-F3D0D5142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BC36E-1F34-43F1-B5C8-A3BDB9B339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A318A-0DFA-4275-8B57-CEF476E7A6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F0D49-10A9-40FA-8534-32673CEA76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0" y="-6192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D57B6-C512-4E26-8F51-2815A703288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5904-3896-422A-9CF4-3A337B372C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F8CC-217A-46DF-B1FF-5865AC1E1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EF760-821E-445B-A95C-F8D40CDC3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82FD-22D7-4CB1-975F-9B1454EE4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9F465-5A2F-427A-9DB9-9263497647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EB1CA-B0D8-45C4-A387-8BC0D8EFE0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0735C-61CE-4F10-864B-5194104EC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034E-8749-4427-ADD4-A193E02B3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234F-CBBB-49C5-98C9-F934BC60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13AF-7AF8-468D-BB11-1179F03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78AC-D07B-428D-BABB-8D0458309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328A9-EDB8-41D5-915E-09AF957AE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90AD-B92A-4189-8DD3-69B8E34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AF82-25A2-448F-B152-679F884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197C8-BDB1-40AA-BDB8-2E204A4F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1A2BC-B5C1-4BCB-90D6-FBF001B9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C67A1-BE6B-46A8-9778-3705C2B3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AAE9D-BF67-4458-8F96-FC17F757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2116-62A9-4AB5-8E57-AA6D91F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0B1D-E507-42BD-B983-7C3452C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65517-A6CE-40BE-9527-7A4AB09A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84ED9-53FB-46C4-856B-7C9E087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C54A3-3D49-423F-BB19-DC28726E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24DB1-AE95-4E9F-8D5E-6ACEFB9BA8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B7DA-BFF8-4098-9926-B4DAA8611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3B69-7D64-4293-920E-2381B650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52FE-892D-452A-9C63-51FF273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3AD4-56C2-4EDC-A15F-A9457489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7FB9-C5CC-40EF-81DB-9457579C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826B-F5A7-418D-9A73-D303670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8809-1FF6-421D-ADCA-217D5BCE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149F-C3A2-4A9B-8FF0-15BBBC7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AC09-8583-4226-8326-29CB781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785F-F1D1-4A3F-BB9A-BDBC693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5FB1-C8A2-4915-AB11-19D6DAA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0615-9576-423E-B9E0-72BC4B4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6C8-0D3A-4EA6-B655-B00184DCF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D3D3-C9A0-42A5-82B0-F6CA08E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2E13-8728-441C-84F9-5DDBD040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6332-9323-40F5-BB44-678087F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F698-DE71-4963-8A5F-0EE304A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5FC2-CAC0-4B17-9B8C-A361044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430D-434F-4DD4-AE9A-BE448B4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4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E8CA51-0E71-4CCC-8A27-D961B7456A0E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1"/>
          <p:cNvSpPr/>
          <p:nvPr/>
        </p:nvSpPr>
        <p:spPr>
          <a:xfrm>
            <a:off x="1157400" y="1344600"/>
            <a:ext cx="63360" cy="63360"/>
          </a:xfrm>
          <a:prstGeom prst="ellipse">
            <a:avLst/>
          </a:prstGeom>
          <a:noFill/>
          <a:ln w="12600">
            <a:solidFill>
              <a:srgbClr val="31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3000"/>
          </a:bodyPr>
          <a:p>
            <a:pPr marL="31896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22C84F-A899-47D6-B1A3-1646EAD5B5EB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2340000">
            <a:off x="183960" y="1053720"/>
            <a:ext cx="1125360" cy="1101600"/>
          </a:xfrm>
          <a:custGeom>
            <a:avLst/>
            <a:gdLst>
              <a:gd name="textAreaLeft" fmla="*/ 164520 w 1125360"/>
              <a:gd name="textAreaRight" fmla="*/ 960840 w 112536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8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8BA25F-B82D-4979-93CB-6140FE01833D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9720" y="1371600"/>
            <a:ext cx="8001000" cy="2200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оектные задачи в начальной                                                       школе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000080" y="990720"/>
            <a:ext cx="55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Gill Sans MT"/>
              </a:rPr>
              <a:t>СТАНДАРТЫ ВТОРОГО ПОКО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71720" y="3794040"/>
            <a:ext cx="2500200" cy="3062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516720" y="-531720"/>
            <a:ext cx="2801880" cy="28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81280" y="533520"/>
            <a:ext cx="5105520" cy="13557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Идея системы</a:t>
            </a:r>
            <a:r>
              <a:rPr b="0" lang="ru-RU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проектных задач</a:t>
            </a:r>
            <a:r>
              <a:rPr b="0" lang="ru-RU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24382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ключается в том, что, решая их, младший школьник фактически осваивает основы способа проект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47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6516720" y="-171360"/>
            <a:ext cx="2971800" cy="2361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Проектная задача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 ситуации, в которой не должна быть напрямую поставлена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дача должна быть сформулирована самими  детьми по результатам разбора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роблемная ситуация должна быть такой, чтобы путей её преодоления, а следовательно, возможных вариантов конечного «продукта» было несколь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естом «сборки продукта», оформления итогового результата является итогово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4" marL="1604520" indent="0">
              <a:lnSpc>
                <a:spcPct val="115000"/>
              </a:lnSpc>
              <a:spcAft>
                <a:spcPts val="286"/>
              </a:spcAft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Gill Sans MT"/>
              </a:rPr>
              <a:t>Проектная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принципиально носит групповой характер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4" name="Picture 4" descr="P4210101"/>
          <p:cNvPicPr/>
          <p:nvPr/>
        </p:nvPicPr>
        <p:blipFill>
          <a:blip r:embed="rId1"/>
          <a:stretch/>
        </p:blipFill>
        <p:spPr>
          <a:xfrm>
            <a:off x="2050920" y="2421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3024000" cy="2478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3851280" y="404640"/>
            <a:ext cx="496872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 Black"/>
              </a:rPr>
              <a:t>Педагогические эффекты, в ходе решения проект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84360" y="2421000"/>
            <a:ext cx="8135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Возможность организации сотрудничества между детьми при решении проект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Обучение способу проектирования через специально разработанны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0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romanL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ill Sans MT"/>
              </a:rPr>
              <a:t>Возможность «переноса» известных способов действия в  модельн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7583400" y="-243000"/>
            <a:ext cx="1560600" cy="2232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 Black"/>
              </a:rPr>
              <a:t>Этапы решения ПЗ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50920" y="1125360"/>
            <a:ext cx="7634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Анализ ситуации. Переформулирование её в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Установление приоритетов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Формулирование принципов отбора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остановка(принятие) цели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оиск средств - перевод проблемы в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Выбор средств решения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Решени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Анализ полученного результата соотнесение его с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Gill Sans MT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ill Sans MT"/>
              </a:rPr>
              <a:t>Представление окружающим полученного результата (продук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27600" y="3554280"/>
            <a:ext cx="3416400" cy="3303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 Black"/>
              </a:rPr>
              <a:t>   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Типы ПЗ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434960" y="1447920"/>
            <a:ext cx="749808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Меж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Разновозрас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ill Sans MT"/>
              </a:rPr>
              <a:t>Одновозрас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В 1-3 класса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066680" y="1219320"/>
            <a:ext cx="7239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сновная педагогическая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цель проектных задач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– способствовать формированию разных способов учебного сотрудни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основной метод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– встроенное наблю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В 4-5 класса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762120" y="137160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целью становится выявление у школьников способности к переносу известных способов действий в новую для них квазиреальную (модельную) ситуац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чащиеся, пользуясь описанием проблемной ситуации, должны сами сформулировать стоящую перед ними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Gill Sans MT"/>
              </a:rPr>
              <a:t>То, что дети могут сделать вместе сегодня, завтра каждый из них сможет сделать самостоятельно</a:t>
            </a:r>
            <a:br>
              <a:rPr sz="4300"/>
            </a:br>
            <a:r>
              <a:rPr b="0" i="1" lang="ru-RU" sz="4300" spc="-1" strike="noStrike">
                <a:solidFill>
                  <a:srgbClr val="572314"/>
                </a:solidFill>
                <a:latin typeface="Gill Sans MT"/>
              </a:rPr>
              <a:t>Л. Выготский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9280" y="4016520"/>
            <a:ext cx="1954440" cy="284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6227640" y="-243000"/>
            <a:ext cx="3168720" cy="272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250920" y="2565360"/>
            <a:ext cx="698508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Не существует сколько-нибудь достоверных тестов на одарённость, кроме тех, которые проявляются в </a:t>
            </a:r>
            <a:r>
              <a:rPr b="1" i="1" lang="ru-RU" sz="2800" spc="-1" strike="noStrike">
                <a:solidFill>
                  <a:srgbClr val="262699"/>
                </a:solidFill>
                <a:latin typeface="Gill Sans MT"/>
              </a:rPr>
              <a:t>результате</a:t>
            </a: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 активного участия хотя бы в самой маленькой поисковой исследовательск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                              </a:t>
            </a:r>
            <a:r>
              <a:rPr b="1" lang="ru-RU" sz="2800" spc="-1" strike="noStrike">
                <a:solidFill>
                  <a:srgbClr val="262699"/>
                </a:solidFill>
                <a:latin typeface="Gill Sans MT"/>
              </a:rPr>
              <a:t>А.Н. Колмог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5334120" cy="1965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 Unicode MS"/>
              </a:rPr>
              <a:t>Отличие проекта от проектной задачи 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2514600"/>
            <a:ext cx="8153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Arial Black"/>
              </a:rPr>
              <a:t>Проект</a:t>
            </a: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 -</a:t>
            </a:r>
            <a:r>
              <a:rPr b="0" lang="ru-RU" sz="28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нет определённых заданий, материалов, действий, проектировщики сами определяют весь набор необходим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Gill Sans MT"/>
              </a:rPr>
              <a:t>Проектная задача</a:t>
            </a: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 – проектировщикам предлагаются все необходимые средства и материалы в  виде набора (системы)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74920" cy="263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e17b7c"/>
                </a:solidFill>
                <a:latin typeface="Gill Sans MT"/>
              </a:rPr>
              <a:t>«ЗАДАЧА»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5800" y="1828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ложный вопрос, проблема, требующая исследования и раз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949560" cy="26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8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17b7c"/>
                </a:solidFill>
                <a:latin typeface="Gill Sans MT"/>
              </a:rPr>
              <a:t>В образовательной практике используются разные </a:t>
            </a: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типы задач:</a:t>
            </a:r>
            <a:r>
              <a:rPr b="0" lang="ru-RU" sz="4300" spc="-1" strike="noStrike">
                <a:solidFill>
                  <a:srgbClr val="e17b7c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071720" y="2209680"/>
            <a:ext cx="3786120" cy="6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чебная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71720" y="3429000"/>
            <a:ext cx="621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7dec9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онкретно-практическая задач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43000" y="4714920"/>
            <a:ext cx="7000920" cy="695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7dec9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творческая (олимпиадная) задач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214800" y="178596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500800" y="1785960"/>
            <a:ext cx="144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7429680" y="1857240"/>
            <a:ext cx="1440" cy="2667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Учебная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правлена на нахождение общих способов решения большого круга частных задач, требующих детального анализа и теоретического (содержательного) об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443640" y="228600"/>
            <a:ext cx="29815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Конкретно-практическая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990720" y="1447920"/>
            <a:ext cx="7315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риентирована на применение (отработку) уже освоенных способов действий (знаний, умений) в известной школьникам ситуации, как правило, внутри учебного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Творческая (олимпиадная) задач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219320" y="1905120"/>
            <a:ext cx="7010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дача, кото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е имеет готового формального способа 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Перечисленные типы задач </a:t>
            </a:r>
            <a:br>
              <a:rPr sz="3600"/>
            </a:br>
            <a:r>
              <a:rPr b="1" lang="ru-RU" sz="3600" spc="-1" strike="noStrike">
                <a:solidFill>
                  <a:srgbClr val="e17b7c"/>
                </a:solidFill>
                <a:latin typeface="Gill Sans MT"/>
              </a:rPr>
              <a:t>не позволяют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000080" y="1341360"/>
            <a:ext cx="7929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учить самостоятельному выбору способа решения задач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тимулировать получение принципиально нового «продукта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держательно мотивировать поиск решения задачи в малой групп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ценить возможности детей действовать в незнакомой, нестандартной ситуаци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3891a7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дать разные «стратегии» решения задачи с получением «веера» возмож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1-26T15:21:10Z</dcterms:modified>
  <cp:revision>15</cp:revision>
  <dc:subject/>
  <dc:title>Проектные задачи в начальной                                                       школе</dc:title>
</cp:coreProperties>
</file>