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09A03-7147-4F09-B830-B3938A10E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285D0-83CC-4CF2-809A-4A3FADB6C7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5430C-2185-43AE-8959-E5CAA1C2DC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FF71-06F8-451E-9E14-6A46477323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C518-7E27-40B0-A800-0B289271BC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40BCA-49CB-4635-BD2D-F09DB767E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C95F9-17C5-4B57-A77C-5FB63ED7F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EAC8D-6591-46AA-BF1C-41DE0550B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DDD4-42AE-41C4-A471-A31A53D7B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29557-5DE6-49F0-BC74-0A1E2D4166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2E3E-6F41-49FD-8569-76C953654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0" y="-6192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68109A-AD36-46ED-95AB-544E70FEF37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D05CC-EF81-48F5-8EA0-BF221E838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5AE3-9FDD-4AFA-9843-E4EA4A8974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BFFC5-CDA3-4E45-8D66-E9ED2B556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8AB96-2043-4B89-9FFD-7F321B645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62BBF-5E2D-4FEA-91F3-2A96208FA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73C6C-AEF4-4310-8BB2-F6A7334C8D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11F0-E0DB-4A18-9A3C-3BD80941E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6D0F-350B-4C73-8774-FC4466B30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7C7B-98C9-4201-80DE-D9A6D63C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B9BE-0DEB-4CDB-9DC9-0BB7FE1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C80F-365C-4EB4-9946-A008A99BB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0742A-49F1-49A8-9DBA-B08A4CBE0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15219-1700-48ED-80F5-D989484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60A0-8BA5-4CDC-A3A0-9D7A866D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7B8C7-9269-4ECA-9B0E-0E966E2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4680D-EA23-446B-BC82-63E171B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B43E7-414E-4E58-8BC5-3371745D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8BA59-8D9D-4289-A5C5-AFB75C5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3DF3-0848-4271-8947-F460E25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E8BF5-25C5-459E-A3D9-7441B79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BBB8A-1898-4370-A117-8DAE3A5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A9975-9973-4CE4-B6B2-E1FCE92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E05EB-218B-4CC6-8F3E-8255CDF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82E9B-BD6D-46CF-9B50-C54A40060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3A8F-C795-4E3A-8044-2B76C3328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328-1390-4F71-8A98-A7B81E3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723-B84F-4525-96A8-97EB30E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F06A-CEA8-4989-9181-2597CE2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CEB-4CA8-410C-BE2D-AB9C5E7C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A5A5-4B9C-45FA-8188-F7782FD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1E1-C662-4E8A-B5FB-5B38DC2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438F-576B-4124-89CE-B2076D9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9786-532F-4C2F-A09A-AFFF623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F4A-1E0A-47C0-81A1-47D7999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7F1-B320-4BB8-85A7-B247C31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590A-CE7D-4C25-8BDE-82DE42A9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CCC-1FC0-47D0-8E26-07EB322217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766A-3A7D-464E-92C8-A9346CD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CEC4-3AC5-4B60-9779-9EB8BBD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606A-6FA8-4C69-94C0-4E8AC8B4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5CC1-8FDA-4A1C-B5C4-61A3AD82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6968-17B4-4057-9CC3-FA4ECEC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5E2F-B6E9-4BA8-90C6-A1C4A4E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4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65EE74-A84E-44F8-B473-47AF4BA2A5F8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1"/>
          <p:cNvSpPr/>
          <p:nvPr/>
        </p:nvSpPr>
        <p:spPr>
          <a:xfrm>
            <a:off x="1157400" y="1344600"/>
            <a:ext cx="63360" cy="63360"/>
          </a:xfrm>
          <a:prstGeom prst="ellipse">
            <a:avLst/>
          </a:prstGeom>
          <a:noFill/>
          <a:ln w="12600">
            <a:solidFill>
              <a:srgbClr val="31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3000"/>
          </a:bodyPr>
          <a:p>
            <a:pPr marL="31896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F87F55-AD83-4391-A57B-5FEDC62DC563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C2E06F-815D-4628-8DAE-B6AD6C783FA8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9720" y="1371600"/>
            <a:ext cx="8001000" cy="2200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оектные задачи в начальной                                                       школе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000080" y="990720"/>
            <a:ext cx="55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Gill Sans MT"/>
              </a:rPr>
              <a:t>СТАНДАРТЫ ВТОРОГО ПОКО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71720" y="3794040"/>
            <a:ext cx="2500200" cy="3062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516720" y="-531720"/>
            <a:ext cx="2801880" cy="28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81280" y="533520"/>
            <a:ext cx="5105520" cy="13557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Идея системы</a:t>
            </a:r>
            <a:r>
              <a:rPr b="0" lang="ru-RU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проектных задач</a:t>
            </a:r>
            <a:r>
              <a:rPr b="0" lang="ru-RU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24382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ключается в том, что, решая их, младший школьник фактически осваивает основы способа проект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47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6516720" y="-171360"/>
            <a:ext cx="2971800" cy="2361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Проектная задача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 ситуации, в которой не должна быть напрямую поставлена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дача должна быть сформулирована самими  детьми по результатам разбора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роблемная ситуация должна быть такой, чтобы путей её преодоления, а следовательно, возможных вариантов конечного «продукта» было несколь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естом «сборки продукта», оформления итогового результата является итогово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4" marL="1604520" indent="0">
              <a:lnSpc>
                <a:spcPct val="115000"/>
              </a:lnSpc>
              <a:spcAft>
                <a:spcPts val="286"/>
              </a:spcAft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Gill Sans MT"/>
              </a:rPr>
              <a:t>Проектная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принципиально носит групповой характер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4" name="Picture 4" descr="P4210101"/>
          <p:cNvPicPr/>
          <p:nvPr/>
        </p:nvPicPr>
        <p:blipFill>
          <a:blip r:embed="rId1"/>
          <a:stretch/>
        </p:blipFill>
        <p:spPr>
          <a:xfrm>
            <a:off x="2050920" y="2421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3024000" cy="2478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3851280" y="404640"/>
            <a:ext cx="496872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 Black"/>
              </a:rPr>
              <a:t>Педагогические эффекты, в ходе решения проект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84360" y="2421000"/>
            <a:ext cx="8135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Возможность организации сотрудничества между детьми при решении проект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Обучение способу проектирования через специально разработанны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Возможность «переноса» известных способов действия в  модельн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7583400" y="-243000"/>
            <a:ext cx="1560600" cy="2232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 Black"/>
              </a:rPr>
              <a:t>Этапы решения ПЗ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50920" y="1125360"/>
            <a:ext cx="7634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Анализ ситуации. Переформулирование её в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Установление приоритетов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Формулирование принципов отбора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остановка(принятие) цели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оиск средств - перевод проблемы в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Выбор средств решения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Решени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Анализ полученного результата соотнесение его с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редставление окружающим полученного результата (продук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27600" y="3554280"/>
            <a:ext cx="3416400" cy="3303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 Black"/>
              </a:rPr>
              <a:t>   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Типы ПЗ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434960" y="1447920"/>
            <a:ext cx="749808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Меж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Разновозрас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Одновозрас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В 1-3 класса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066680" y="1219320"/>
            <a:ext cx="7239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сновная педагогическая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цель проектных задач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– способствовать формированию разных способов учебного сотрудни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основной метод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– встроенное наблю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В 4-5 класса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762120" y="137160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целью становится выявление у школьников способности к переносу известных способов действий в новую для них квазиреальную (модельную) ситуац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чащиеся, пользуясь описанием проблемной ситуации, должны сами сформулировать стоящую перед ними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Gill Sans MT"/>
              </a:rPr>
              <a:t>То, что дети могут сделать вместе сегодня, завтра каждый из них сможет сделать самостоятельно</a:t>
            </a:r>
            <a:br>
              <a:rPr sz="4300"/>
            </a:br>
            <a:r>
              <a:rPr b="0" i="1" lang="ru-RU" sz="4300" spc="-1" strike="noStrike">
                <a:solidFill>
                  <a:srgbClr val="572314"/>
                </a:solidFill>
                <a:latin typeface="Gill Sans MT"/>
              </a:rPr>
              <a:t>Л. Выготский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9280" y="4016520"/>
            <a:ext cx="1954440" cy="284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6227640" y="-243000"/>
            <a:ext cx="3168720" cy="272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250920" y="2565360"/>
            <a:ext cx="698508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Не существует сколько-нибудь достоверных тестов на одарённость, кроме тех, которые проявляются в </a:t>
            </a:r>
            <a:r>
              <a:rPr b="1" i="1" lang="ru-RU" sz="2800" spc="-1" strike="noStrike">
                <a:solidFill>
                  <a:srgbClr val="262699"/>
                </a:solidFill>
                <a:latin typeface="Gill Sans MT"/>
              </a:rPr>
              <a:t>результате</a:t>
            </a: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 активного участия хотя бы в самой маленькой поисковой исследовательск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                              </a:t>
            </a: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А.Н. Колмог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5334120" cy="1965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 Unicode MS"/>
              </a:rPr>
              <a:t>Отличие проекта от проектной задачи 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2514600"/>
            <a:ext cx="8153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Arial Black"/>
              </a:rPr>
              <a:t>Проект</a:t>
            </a: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 -</a:t>
            </a:r>
            <a:r>
              <a:rPr b="0" lang="ru-RU" sz="28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нет определённых заданий, материалов, действий, проектировщики сами определяют весь набор необходим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Gill Sans MT"/>
              </a:rPr>
              <a:t>Проектная задача</a:t>
            </a: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 – проектировщикам предлагаются все необходимые средства и материалы в  виде набора (системы)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74920" cy="263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e17b7c"/>
                </a:solidFill>
                <a:latin typeface="Gill Sans MT"/>
              </a:rPr>
              <a:t>«ЗАДАЧА»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5800" y="1828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ложный вопрос, проблема, требующая исследования и раз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949560" cy="26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8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17b7c"/>
                </a:solidFill>
                <a:latin typeface="Gill Sans MT"/>
              </a:rPr>
              <a:t>В образовательной практике используются разные </a:t>
            </a: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типы задач: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071720" y="2209680"/>
            <a:ext cx="3786120" cy="6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чебная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71720" y="3429000"/>
            <a:ext cx="621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7dec9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онкретно-практическая задач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43000" y="4714920"/>
            <a:ext cx="7000920" cy="695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7dec9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творческая (олимпиадная)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214800" y="178596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500800" y="1785960"/>
            <a:ext cx="144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7429680" y="1857240"/>
            <a:ext cx="1440" cy="2667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Учебная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правлена на нахождение общих способов решения большого круга частных задач, требующих детального анализа и теоретического (содержательного) об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443640" y="228600"/>
            <a:ext cx="29815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Конкретно-практическая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990720" y="1447920"/>
            <a:ext cx="7315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риентирована на применение (отработку) уже освоенных способов действий (знаний, умений) в известной школьникам ситуации, как правило, внутри учебного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Творческая (олимпиадная)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219320" y="1905120"/>
            <a:ext cx="7010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дача, кото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е имеет готового формального способа 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Перечисленные типы задач </a:t>
            </a:r>
            <a:br>
              <a:rPr sz="3600"/>
            </a:b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не позволяю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000080" y="1341360"/>
            <a:ext cx="7929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учить самостоятельному выбору способа решения задач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тимулировать получение принципиально нового «продукта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держательно мотивировать поиск решения задачи в малой групп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ценить возможности детей действовать в незнакомой, нестандартной ситуаци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дать разные «стратегии» решения задачи с получением «веера» возмож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1-26T15:21:10Z</dcterms:modified>
  <cp:revision>15</cp:revision>
  <dc:subject/>
  <dc:title>Проектные задачи в начальной                                                       школе</dc:title>
</cp:coreProperties>
</file>