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4DAE-0912-4886-BC9F-20A5091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1BB6-5921-41A6-9E1C-0BDBF89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60902-3C37-4BD4-B670-060EA6A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E3A8B-CA74-465B-9914-EBC0BB6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8AD4-5C4C-4865-AD9E-89578E6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719A-3FBA-43D1-A113-B10D4DDF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98853-7812-4259-A210-E95418C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52C3-BE31-415C-8785-7AB85F6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D3C4-E940-4A46-923C-968F145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AB97-AD1B-41C4-85CC-C4001F3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CA27E-E32E-4276-B1BC-FFA5D63C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C424E-6CE1-4256-A660-2800C52A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0642-BFBE-4CB9-90F3-F7CB92CE3D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928520"/>
            <a:ext cx="6715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Деревья, бельё,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ручьи, ночью,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веселье.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1" name="Picture 26" descr="книга"/>
          <p:cNvPicPr/>
          <p:nvPr/>
        </p:nvPicPr>
        <p:blipFill>
          <a:blip r:embed="rId1"/>
          <a:stretch/>
        </p:blipFill>
        <p:spPr>
          <a:xfrm>
            <a:off x="7667640" y="0"/>
            <a:ext cx="1190520" cy="1428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56800" y="898560"/>
            <a:ext cx="7667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37416"/>
              </a:solidFill>
              <a:latin typeface="Arial Narrow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5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700280"/>
            <a:ext cx="7561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плат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е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огон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ки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гост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я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прос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ба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жил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ё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лен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обез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я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на         пал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то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5906880" y="1500120"/>
            <a:ext cx="2095560" cy="4249800"/>
            <a:chOff x="5906880" y="1500120"/>
            <a:chExt cx="2095560" cy="424980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"/>
            <p:cNvPicPr/>
            <p:nvPr/>
          </p:nvPicPr>
          <p:blipFill>
            <a:blip r:embed="rId2"/>
            <a:stretch/>
          </p:blipFill>
          <p:spPr>
            <a:xfrm rot="10603200">
              <a:off x="5940000" y="1557000"/>
              <a:ext cx="202896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 rot="2569200">
            <a:off x="3203280" y="4941360"/>
            <a:ext cx="638280" cy="147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 rot="19145400">
            <a:off x="1476360" y="400500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 rot="20531400">
            <a:off x="3924000" y="3644640"/>
            <a:ext cx="143820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032 Dorogoyu Dobra.wav" descr=""/>
          <p:cNvPicPr/>
          <p:nvPr/>
        </p:nvPicPr>
        <p:blipFill>
          <a:blip r:embed="rId6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2948E-006 C 0.00782 0.00624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4360" y="692280"/>
            <a:ext cx="7416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</a:t>
            </a:r>
            <a:r>
              <a:rPr b="1" lang="ru-RU" sz="3200" spc="-1" strike="noStrike" u="sng">
                <a:solidFill>
                  <a:srgbClr val="244e93"/>
                </a:solidFill>
                <a:uFillTx/>
                <a:latin typeface="Arial Narrow"/>
              </a:rPr>
              <a:t>Игра «Найди пару»   (антонимы)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работа  - весел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болезнь  -  здоров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свет    -       тьм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скука   -     бездел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польза  -     вред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враги -   друзья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cxnSp>
        <p:nvCxnSpPr>
          <p:cNvPr id="155" name="Прямая со стрелкой 3"/>
          <p:cNvCxnSpPr/>
          <p:nvPr/>
        </p:nvCxnSpPr>
        <p:spPr>
          <a:xfrm flipH="1" flipV="1">
            <a:off x="5363640" y="2133360"/>
            <a:ext cx="145440" cy="72000"/>
          </a:xfrm>
          <a:prstGeom prst="straightConnector1">
            <a:avLst/>
          </a:prstGeom>
          <a:ln w="9360">
            <a:solidFill>
              <a:srgbClr val="fadd4d"/>
            </a:solidFill>
            <a:miter/>
            <a:tailEnd len="med" type="arrow" w="med"/>
          </a:ln>
        </p:spPr>
      </p:cxnSp>
      <p:cxnSp>
        <p:nvCxnSpPr>
          <p:cNvPr id="156" name="Прямая со стрелкой 9"/>
          <p:cNvCxnSpPr/>
          <p:nvPr/>
        </p:nvCxnSpPr>
        <p:spPr>
          <a:xfrm flipH="1">
            <a:off x="5434920" y="1628280"/>
            <a:ext cx="73800" cy="1080"/>
          </a:xfrm>
          <a:prstGeom prst="straightConnector1">
            <a:avLst/>
          </a:prstGeom>
          <a:ln w="9360">
            <a:solidFill>
              <a:srgbClr val="fadd4d"/>
            </a:solidFill>
            <a:miter/>
            <a:tailEnd len="med" type="arrow" w="med"/>
          </a:ln>
        </p:spPr>
      </p:cxnSp>
    </p:spTree>
  </p:cSld>
  <p:transition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414360"/>
            <a:ext cx="58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Задание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42920" y="170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жная буря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155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427640" y="429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16000" y="23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, папа, дети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356000" y="2276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116000" y="2997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оды, сваренные в сахар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1200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ен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116000" y="364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, жилищ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851280" y="35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л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3995640" y="220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3995640" y="213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4932360" y="28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643280" y="213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643280" y="220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4788000" y="4869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4788000" y="4940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5508720" y="4869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5508720" y="4940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7164360" y="3500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932360" y="2924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5651640" y="29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5651640" y="285264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7812000" y="3500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7812000" y="3573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49892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4498920" y="4221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521964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5219640" y="4221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187280" y="429264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ики для пчё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e93"/>
                </a:solidFill>
                <a:latin typeface="Arial Narrow"/>
              </a:rPr>
              <a:t>Без ученья  нет уменья.</a:t>
            </a:r>
            <a:endParaRPr b="0" lang="en-US" sz="8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5"/>
          <p:cNvSpPr txBox="1"/>
          <p:nvPr/>
        </p:nvSpPr>
        <p:spPr>
          <a:xfrm>
            <a:off x="500040" y="2714760"/>
            <a:ext cx="835812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040" y="2642760"/>
            <a:ext cx="8072640" cy="14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user</cp:lastModifiedBy>
  <dcterms:modified xsi:type="dcterms:W3CDTF">2017-01-26T15:37:55Z</dcterms:modified>
  <cp:revision>124</cp:revision>
  <dc:subject/>
  <dc:title>шаблон для презентаций</dc:title>
</cp:coreProperties>
</file>