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5DAC3-5529-400D-8587-CF71CD22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07AC4-07E5-4C43-AC90-15BA4B28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CEF4D-D7C9-4F66-9F32-B9CEBEDD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4E611-4E14-4DEE-B2B6-25781351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DF85C-89D9-477E-B340-9DF512DB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FA373-DDFD-42DA-BDE4-6C523760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96512-41DB-4CF8-844B-FC1F1ECB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C9DAA-CF98-4E8F-8BB6-734E06B2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7F4DD-AF6E-4360-B4D0-2CA160D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2178D-EFB1-478A-9F13-A6F4658F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E2752-8808-4FC9-A340-36E79830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38D35-FE0C-4467-86BD-35CEE3F1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4D32-0710-4081-84CB-95E7ED3D0D6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2640" y="1928520"/>
            <a:ext cx="6715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86"/>
                </a:solidFill>
                <a:latin typeface="Tahoma"/>
              </a:rPr>
              <a:t>Деревья, бельё,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86"/>
                </a:solidFill>
                <a:latin typeface="Tahoma"/>
              </a:rPr>
              <a:t>ручьи, ночью,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686"/>
                </a:solidFill>
                <a:latin typeface="Tahoma"/>
              </a:rPr>
              <a:t>веселье.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44e93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44e93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1" name="Picture 26" descr="книга"/>
          <p:cNvPicPr/>
          <p:nvPr/>
        </p:nvPicPr>
        <p:blipFill>
          <a:blip r:embed="rId1"/>
          <a:stretch/>
        </p:blipFill>
        <p:spPr>
          <a:xfrm>
            <a:off x="7667640" y="0"/>
            <a:ext cx="1190520" cy="14288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856800" y="898560"/>
            <a:ext cx="7667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37416"/>
              </a:solidFill>
              <a:latin typeface="Arial Narrow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5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1700280"/>
            <a:ext cx="7561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плат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ь</a:t>
            </a:r>
            <a:r>
              <a:rPr b="1" lang="ru-RU" sz="3600" spc="-1" strike="noStrike" u="sng">
                <a:solidFill>
                  <a:srgbClr val="244e93"/>
                </a:solidFill>
                <a:uFillTx/>
                <a:latin typeface="Arial Narrow"/>
              </a:rPr>
              <a:t>е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огон</a:t>
            </a:r>
            <a:r>
              <a:rPr b="1" lang="ru-RU" sz="3600" spc="-1" strike="noStrike">
                <a:solidFill>
                  <a:srgbClr val="ff5d0d"/>
                </a:solidFill>
                <a:latin typeface="Arial Narrow"/>
              </a:rPr>
              <a:t>ь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ки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 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гост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ь</a:t>
            </a:r>
            <a:r>
              <a:rPr b="1" lang="ru-RU" sz="3600" spc="-1" strike="noStrike" u="sng">
                <a:solidFill>
                  <a:srgbClr val="244e93"/>
                </a:solidFill>
                <a:uFillTx/>
                <a:latin typeface="Arial Narrow"/>
              </a:rPr>
              <a:t>я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 прос</a:t>
            </a:r>
            <a:r>
              <a:rPr b="1" lang="ru-RU" sz="3600" spc="-1" strike="noStrike">
                <a:solidFill>
                  <a:srgbClr val="ff5d0d"/>
                </a:solidFill>
                <a:latin typeface="Arial Narrow"/>
              </a:rPr>
              <a:t>ь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ба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жил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ь</a:t>
            </a:r>
            <a:r>
              <a:rPr b="1" lang="ru-RU" sz="3600" spc="-1" strike="noStrike" u="sng">
                <a:solidFill>
                  <a:srgbClr val="244e93"/>
                </a:solidFill>
                <a:uFillTx/>
                <a:latin typeface="Arial Narrow"/>
              </a:rPr>
              <a:t>ё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      лен</a:t>
            </a:r>
            <a:r>
              <a:rPr b="1" lang="ru-RU" sz="3600" spc="-1" strike="noStrike">
                <a:solidFill>
                  <a:srgbClr val="ff5d0d"/>
                </a:solidFill>
                <a:latin typeface="Arial Narrow"/>
              </a:rPr>
              <a:t>ь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        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обез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ь</a:t>
            </a:r>
            <a:r>
              <a:rPr b="1" lang="ru-RU" sz="3600" spc="-1" strike="noStrike" u="sng">
                <a:solidFill>
                  <a:srgbClr val="244e93"/>
                </a:solidFill>
                <a:uFillTx/>
                <a:latin typeface="Arial Narrow"/>
              </a:rPr>
              <a:t>я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на         пал</a:t>
            </a:r>
            <a:r>
              <a:rPr b="1" lang="ru-RU" sz="3600" spc="-1" strike="noStrike">
                <a:solidFill>
                  <a:srgbClr val="ff5d0d"/>
                </a:solidFill>
                <a:latin typeface="Arial Narrow"/>
              </a:rPr>
              <a:t>ь</a:t>
            </a:r>
            <a:r>
              <a:rPr b="1" lang="ru-RU" sz="3600" spc="-1" strike="noStrike">
                <a:solidFill>
                  <a:srgbClr val="244e93"/>
                </a:solidFill>
                <a:latin typeface="Arial Narrow"/>
              </a:rPr>
              <a:t>то 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1042920" y="1341360"/>
            <a:ext cx="4176720" cy="2158920"/>
          </a:xfrm>
          <a:prstGeom prst="cloudCallout">
            <a:avLst>
              <a:gd name="adj1" fmla="val 74819"/>
              <a:gd name="adj2" fmla="val 356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ох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5906880" y="1500120"/>
            <a:ext cx="2095560" cy="4249800"/>
            <a:chOff x="5906880" y="1500120"/>
            <a:chExt cx="2095560" cy="4249800"/>
          </a:xfrm>
        </p:grpSpPr>
        <p:pic>
          <p:nvPicPr>
            <p:cNvPr id="148" name="Picture 4" descr=""/>
            <p:cNvPicPr/>
            <p:nvPr/>
          </p:nvPicPr>
          <p:blipFill>
            <a:blip r:embed="rId1"/>
            <a:stretch/>
          </p:blipFill>
          <p:spPr>
            <a:xfrm>
              <a:off x="6156360" y="2492280"/>
              <a:ext cx="163836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"/>
            <p:cNvPicPr/>
            <p:nvPr/>
          </p:nvPicPr>
          <p:blipFill>
            <a:blip r:embed="rId2"/>
            <a:stretch/>
          </p:blipFill>
          <p:spPr>
            <a:xfrm rot="10603200">
              <a:off x="5940000" y="1557000"/>
              <a:ext cx="2028960" cy="122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 rot="2569200">
            <a:off x="3203280" y="4941360"/>
            <a:ext cx="638280" cy="147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 rot="19145400">
            <a:off x="1476360" y="4005000"/>
            <a:ext cx="638280" cy="14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5"/>
          <a:stretch/>
        </p:blipFill>
        <p:spPr>
          <a:xfrm rot="20531400">
            <a:off x="3924000" y="3644640"/>
            <a:ext cx="1438200" cy="1285920"/>
          </a:xfrm>
          <a:prstGeom prst="rect">
            <a:avLst/>
          </a:prstGeom>
          <a:ln w="0">
            <a:noFill/>
          </a:ln>
        </p:spPr>
      </p:pic>
      <p:pic>
        <p:nvPicPr>
          <p:cNvPr id="153" name="032 Dorogoyu Dobra.wav" descr=""/>
          <p:cNvPicPr/>
          <p:nvPr/>
        </p:nvPicPr>
        <p:blipFill>
          <a:blip r:embed="rId6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32948E-006 C 0.00782 0.00624 0.01233 0.00948 0.01719 0.02751 C 0.01806 0.03676 0.01736 0.04717 0.01927 0.05549 C 0.02066 0.06196 0.02327 0.06566 0.02535 0.07075 C 0.02952 0.08092 0.02743 0.07584 0.03143 0.08601 C 0.03264 0.08925 0.0349 0.08786 0.03663 0.08855 C 0.04341 0.09017 0.06632 0.09295 0.07118 0.09364 C 0.07292 0.09433 0.07466 0.09503 0.07622 0.09595 C 0.0783 0.09734 0.08229 0.10104 0.08229 0.10127 C 0.08334 0.10266 0.0842 0.10474 0.08542 0.10613 C 0.08733 0.10844 0.09132 0.11121 0.09132 0.11144 C 0.09202 0.11376 0.09288 0.11607 0.09341 0.11884 C 0.09393 0.12115 0.09462 0.1267 0.09462 0.12694 E">
                                      <p:cBhvr>
                                        <p:cTn id="4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4360" y="692280"/>
            <a:ext cx="7416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      </a:t>
            </a:r>
            <a:r>
              <a:rPr b="1" lang="ru-RU" sz="3200" spc="-1" strike="noStrike" u="sng">
                <a:solidFill>
                  <a:srgbClr val="244e93"/>
                </a:solidFill>
                <a:uFillTx/>
                <a:latin typeface="Arial Narrow"/>
              </a:rPr>
              <a:t>Игра «Найди пару»   (антонимы)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работа  - весель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  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болезнь  -  здоровь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свет    -       тьма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   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скука   -     бездель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польза  -     вред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    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враги -   друзья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cxnSp>
        <p:nvCxnSpPr>
          <p:cNvPr id="155" name="Прямая со стрелкой 3"/>
          <p:cNvCxnSpPr/>
          <p:nvPr/>
        </p:nvCxnSpPr>
        <p:spPr>
          <a:xfrm flipH="1" flipV="1">
            <a:off x="5363640" y="2133360"/>
            <a:ext cx="145440" cy="72000"/>
          </a:xfrm>
          <a:prstGeom prst="straightConnector1">
            <a:avLst/>
          </a:prstGeom>
          <a:ln w="9360">
            <a:solidFill>
              <a:srgbClr val="fadd4d"/>
            </a:solidFill>
            <a:miter/>
            <a:tailEnd len="med" type="arrow" w="med"/>
          </a:ln>
        </p:spPr>
      </p:cxnSp>
      <p:cxnSp>
        <p:nvCxnSpPr>
          <p:cNvPr id="156" name="Прямая со стрелкой 9"/>
          <p:cNvCxnSpPr/>
          <p:nvPr/>
        </p:nvCxnSpPr>
        <p:spPr>
          <a:xfrm flipH="1">
            <a:off x="5434920" y="1628280"/>
            <a:ext cx="73800" cy="1080"/>
          </a:xfrm>
          <a:prstGeom prst="straightConnector1">
            <a:avLst/>
          </a:prstGeom>
          <a:ln w="9360">
            <a:solidFill>
              <a:srgbClr val="fadd4d"/>
            </a:solidFill>
            <a:miter/>
            <a:tailEnd len="med" type="arrow" w="med"/>
          </a:ln>
        </p:spPr>
      </p:cxnSp>
    </p:spTree>
  </p:cSld>
  <p:transition>
    <p:diamond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8920" y="414360"/>
            <a:ext cx="58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396c"/>
                </a:solidFill>
                <a:latin typeface="Tahoma"/>
              </a:rPr>
              <a:t>Задание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042920" y="1700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жная буря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24360" y="155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ю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427640" y="429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116000" y="2349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, папа, дети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356000" y="2276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116000" y="2997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оды, сваренные в сахаре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01200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рен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116000" y="364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, жилище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851280" y="35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ил</a:t>
            </a:r>
            <a:r>
              <a:rPr b="1" lang="ru-RU" sz="3600" spc="-1" strike="noStrike" u="sng">
                <a:solidFill>
                  <a:srgbClr val="005686"/>
                </a:solidFill>
                <a:uFillTx/>
                <a:latin typeface="Arial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3995640" y="220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3995640" y="2133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4932360" y="28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4643280" y="2133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4643280" y="220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4788000" y="4869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4788000" y="4940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5508720" y="4869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5508720" y="4940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7164360" y="3500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932360" y="2924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5"/>
          <p:cNvSpPr/>
          <p:nvPr/>
        </p:nvSpPr>
        <p:spPr>
          <a:xfrm>
            <a:off x="5651640" y="29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6"/>
          <p:cNvSpPr/>
          <p:nvPr/>
        </p:nvSpPr>
        <p:spPr>
          <a:xfrm>
            <a:off x="5651640" y="285264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7812000" y="3500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7164360" y="3573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7812000" y="3573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498920" y="4149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4498920" y="4221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5219640" y="4149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5219640" y="4221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1187280" y="429264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ики для пчёл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e93"/>
                </a:solidFill>
                <a:latin typeface="Arial Narrow"/>
              </a:rPr>
              <a:t>Без ученья  нет уменья.</a:t>
            </a:r>
            <a:endParaRPr b="0" lang="en-US" sz="8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>
    <p:diamond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5"/>
          <p:cNvSpPr txBox="1"/>
          <p:nvPr/>
        </p:nvSpPr>
        <p:spPr>
          <a:xfrm>
            <a:off x="500040" y="2714760"/>
            <a:ext cx="8358120" cy="28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0040" y="2642760"/>
            <a:ext cx="8072640" cy="142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user</cp:lastModifiedBy>
  <dcterms:modified xsi:type="dcterms:W3CDTF">2017-01-26T15:37:55Z</dcterms:modified>
  <cp:revision>124</cp:revision>
  <dc:subject/>
  <dc:title>шаблон для презентаций</dc:title>
</cp:coreProperties>
</file>