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1BF-1E76-4B56-913C-86109AD0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867-D3D4-4D0A-84E5-1DC12EC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5FD-E009-4E27-96DF-8964228D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816-15B8-48ED-9AAB-7A0641D7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049-20B4-40CF-83A9-FACD5D04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19E-910E-4929-AC4E-FD8D53E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89D-C8FC-466F-A48D-81C3CA2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394F-5DF9-480A-AD47-3170519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1017-D2F9-4683-807D-A30BADA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E988-197B-4135-8084-E2767B4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7C6C-F365-40BE-81F9-7363F4A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F17-65DE-41BD-A9E2-C72F84E5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C39-FEA4-4ACA-94F5-E2028EB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4DB-3E63-4B3C-9DE5-E24E5D4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500-6187-49EC-A3E2-E75E20C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067-3697-4E3C-9857-E481CEFD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F737-9174-4D19-B37C-5E8A57F9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13C4-C0F1-4289-8113-86BF53DD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4246-63BE-4A53-B939-4AA0F25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FC26-A358-42C9-B8C9-ADA237F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5AB3-EE5B-4682-8E25-89E1548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AD53-E796-49DA-8331-8901D651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4DF-8F03-4B08-9271-797DB432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1EB3-C9CE-4D9F-B321-3B47D3D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F461-20CA-4D36-A900-A657EEF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134E-8DEB-45C2-A994-85E6584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9572-18F9-406B-9EBE-31AE393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9756-0C68-4BF2-9E77-49204AB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E787-E665-4CBF-8E95-905BC60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39B2-571E-4D8A-8B56-B7728DDE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4C45-C75F-47CF-9117-BF45E3EE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B8C8-2CFD-48C0-98B4-FFD90F5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AFE0-D8B2-4127-8DE8-2946CFC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CDA-49CF-4592-BD1B-078E2F3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08DD-A47E-4835-92AA-B93B669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9F79-4553-4861-B1C9-FB8C5DB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D0B7-8066-4DB3-812C-6146F27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B66E-3C40-4F77-92DD-96EA6EB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0728-4F06-40B4-BCEA-6BE4897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04D4-71E7-4168-8C2E-9AAA128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ECFB-FD89-476A-BE8D-A27A56AB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9AF3-6BDA-4B0B-AF84-AEEB06D6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3550-75C1-434F-AA98-8B14241D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68ED-2848-48EB-98A2-867E046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24-192A-410C-A913-315D5EB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9686-C49F-49B6-AA24-548E1199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B288-C025-44B6-918B-65906F4D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82AE-4FDE-4D10-8CB7-DF840FC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3A22-43BE-4871-A83C-73771BE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6922-881A-46CE-97BC-C85EF0D1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C66C-6E79-45C7-A635-09123BD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E2D1-C562-4646-A8A6-9B4298B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5B13-37B8-46C5-A9D9-30C7AE8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E594-9326-4FE4-A44A-047BB5E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A708-4E08-4864-BD42-3D7651B5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24A-D2E2-4CE6-9EE7-29DD7310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970D-6EB8-4DED-ABC2-317736C7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8B13-B00C-4C7D-8DEA-9B0CFB87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3B58-AB4E-4200-B4AF-0B2E45A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C685-D76C-4D1D-BC4C-503AB7A0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D1104-E7E0-4C3B-8FD0-B12B47BE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5F59-8690-4760-AC6D-ECF02C40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1292-D7EF-4F8F-9488-3E653201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7E679-80FB-4286-ACB7-AEDC242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DC74-A4FF-4DA5-96CD-1E95053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D3261-9593-4829-801A-D7429B2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3D8-6DA7-4F5C-91F4-234B8A0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342E-E289-4027-88C8-1BAB70A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CC3F-923C-4A0A-B701-FD6810F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6B7E-7C68-4E61-9495-51C8C722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1D0F7-7CF7-4B06-937B-AD5BB692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C692-680A-4A37-AAF2-3018020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62C6-5E01-46B3-BC7B-F7AA3DC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19DA-ED38-49CA-B660-E743C2C4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6FC8-0FBC-4DA7-AFB4-9934F84C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ADB1C-50EF-4371-BFA4-73819729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132B-FA9A-4319-9851-A908662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B7D-13BE-4585-A206-2A323C26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BB635-2472-4D7A-B625-6BC28FF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B364-C549-4FC1-9166-02B45FB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60D9-0719-430E-ADC2-795796FF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670F-4DFF-46B3-8FFF-9E7BF6BF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48D5-321F-48EC-9672-728C155F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28DE2-A81F-4080-ACDB-47D619AB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C39D-0A96-491B-B1B1-E7B1DBA5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7326-A929-4086-924B-36E19CF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8C96-2530-4AA1-88A8-E71C99C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CB8A-A2FE-4641-A302-ED6F24D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CDB-7456-41C5-85DD-6EBEF40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DD31E-F1DB-4FA1-B673-794AF8A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84328-9C16-4583-BAD8-713CA8B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8EF7-B552-4559-9D7D-71AF456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342F-3D3B-4634-ADCF-8BDB793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B349-C4FB-4397-A8E4-E5E65D06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1404-02FD-4851-9EE3-156D97E2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D6A8-47B0-49B1-8EE8-195C1E47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7AE-E55F-4DB5-AE24-0B79234226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1668-CED2-4A80-8C87-AC07500DBAD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11C-882C-4CEE-9978-F5DD233ABA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2F90-339E-46A8-9AB8-72935476A4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EFB-D156-48D4-926C-9028D043CC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31E-C717-4BCA-8E18-1303C76705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ADD-0F21-4F82-A7E6-6CD94D0292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8D3-C487-4B6F-9886-1A9E296E58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sasemya.ru/detki/reb-nok-starshe-7-let/rezhim-dnja-pervoklasnika/page-2.html" TargetMode="External"/><Relationship Id="rId2" Type="http://schemas.openxmlformats.org/officeDocument/2006/relationships/hyperlink" Target="http://www.google.ru/imghp" TargetMode="External"/><Relationship Id="rId3" Type="http://schemas.openxmlformats.org/officeDocument/2006/relationships/hyperlink" Target="http://www.google.ru/imghp" TargetMode="External"/><Relationship Id="rId4" Type="http://schemas.openxmlformats.org/officeDocument/2006/relationships/hyperlink" Target="http://www.google.ru/imghp" TargetMode="External"/><Relationship Id="rId5" Type="http://schemas.openxmlformats.org/officeDocument/2006/relationships/hyperlink" Target="http://www.google.ru/imghp" TargetMode="External"/><Relationship Id="rId6" Type="http://schemas.openxmlformats.org/officeDocument/2006/relationships/hyperlink" Target="http://www.google.ru/imghp" TargetMode="External"/><Relationship Id="rId7" Type="http://schemas.openxmlformats.org/officeDocument/2006/relationships/hyperlink" Target="http://www.google.ru/imghp" TargetMode="External"/><Relationship Id="rId8" Type="http://schemas.openxmlformats.org/officeDocument/2006/relationships/hyperlink" Target="http://www.google.ru/imghp" TargetMode="External"/><Relationship Id="rId9" Type="http://schemas.openxmlformats.org/officeDocument/2006/relationships/hyperlink" Target="http://dl.dropbox.com/u/64218087/&#1044;&#1077;&#1090;&#1089;&#1082;&#1080;&#1077;%20&#1087;&#1077;&#1089;&#1085;&#1080;/&#1057;&#1045;&#1052;&#1068;&#1071;/&#1055;&#1077;&#1089;&#1085;&#1103;%20&#1087;&#1088;&#1086;%20&#1079;&#1072;&#1088;&#1103;&#1076;&#1082;&#1091;.rar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676520" y="4800600"/>
            <a:ext cx="541008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04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Режим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дня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371" name="Picture 5" descr="буд"/>
          <p:cNvPicPr/>
          <p:nvPr/>
        </p:nvPicPr>
        <p:blipFill>
          <a:blip r:embed="rId1"/>
          <a:stretch/>
        </p:blipFill>
        <p:spPr>
          <a:xfrm>
            <a:off x="6400800" y="2590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768240" y="2438280"/>
            <a:ext cx="59374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еклассное мероприят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ежим дня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4969800" y="53334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икова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7880" y="7308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Основная общеобразовательная Сороки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540bbb08e374"/>
          <p:cNvPicPr/>
          <p:nvPr/>
        </p:nvPicPr>
        <p:blipFill>
          <a:blip r:embed="rId1"/>
          <a:stretch/>
        </p:blipFill>
        <p:spPr>
          <a:xfrm>
            <a:off x="6095880" y="457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2055960" y="2132640"/>
            <a:ext cx="35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дник съели, погул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аботали оп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7" descr="девиз"/>
          <p:cNvPicPr/>
          <p:nvPr/>
        </p:nvPicPr>
        <p:blipFill>
          <a:blip r:embed="rId2"/>
          <a:stretch/>
        </p:blipFill>
        <p:spPr>
          <a:xfrm>
            <a:off x="0" y="3203640"/>
            <a:ext cx="365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5099760" y="5790240"/>
            <a:ext cx="37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портфеля мы до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 учебник и тетрад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53f2c2f77d9at"/>
          <p:cNvPicPr/>
          <p:nvPr/>
        </p:nvPicPr>
        <p:blipFill>
          <a:blip r:embed="rId1"/>
          <a:stretch/>
        </p:blipFill>
        <p:spPr>
          <a:xfrm>
            <a:off x="1143000" y="457200"/>
            <a:ext cx="3971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1368000" y="4479480"/>
            <a:ext cx="342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 мы сходим с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в квартире подмет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гче было ма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оможем ей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61e91ec0bb33t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992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51f16850823bt"/>
          <p:cNvPicPr/>
          <p:nvPr/>
        </p:nvPicPr>
        <p:blipFill>
          <a:blip r:embed="rId2"/>
          <a:stretch/>
        </p:blipFill>
        <p:spPr>
          <a:xfrm>
            <a:off x="228600" y="228600"/>
            <a:ext cx="3429000" cy="3193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00a613512fa5t"/>
          <p:cNvPicPr/>
          <p:nvPr/>
        </p:nvPicPr>
        <p:blipFill>
          <a:blip r:embed="rId3"/>
          <a:stretch/>
        </p:blipFill>
        <p:spPr>
          <a:xfrm>
            <a:off x="5715000" y="3657600"/>
            <a:ext cx="320040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post-53751-1221413255тим"/>
          <p:cNvPicPr/>
          <p:nvPr/>
        </p:nvPicPr>
        <p:blipFill>
          <a:blip r:embed="rId1"/>
          <a:stretch/>
        </p:blipFill>
        <p:spPr>
          <a:xfrm>
            <a:off x="3657600" y="304920"/>
            <a:ext cx="2743200" cy="27255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304920" y="281520"/>
            <a:ext cx="330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 вкусный мы съе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евизор погля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4bd47120e608"/>
          <p:cNvPicPr/>
          <p:nvPr/>
        </p:nvPicPr>
        <p:blipFill>
          <a:blip r:embed="rId2"/>
          <a:stretch/>
        </p:blipFill>
        <p:spPr>
          <a:xfrm>
            <a:off x="6781680" y="457200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8"/>
          <p:cNvSpPr/>
          <p:nvPr/>
        </p:nvSpPr>
        <p:spPr>
          <a:xfrm>
            <a:off x="3425040" y="3199320"/>
            <a:ext cx="29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игры поигр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книжку почит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9" descr="00a613512fa5tи"/>
          <p:cNvPicPr/>
          <p:nvPr/>
        </p:nvPicPr>
        <p:blipFill>
          <a:blip r:embed="rId3"/>
          <a:stretch/>
        </p:blipFill>
        <p:spPr>
          <a:xfrm>
            <a:off x="3505320" y="3962520"/>
            <a:ext cx="2743200" cy="2536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b2fc97cbd319"/>
          <p:cNvPicPr/>
          <p:nvPr/>
        </p:nvPicPr>
        <p:blipFill>
          <a:blip r:embed="rId4"/>
          <a:stretch/>
        </p:blipFill>
        <p:spPr>
          <a:xfrm>
            <a:off x="609480" y="4648320"/>
            <a:ext cx="190512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1511280" y="24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852cb4bd7594t"/>
          <p:cNvPicPr/>
          <p:nvPr/>
        </p:nvPicPr>
        <p:blipFill>
          <a:blip r:embed="rId1"/>
          <a:stretch/>
        </p:blipFill>
        <p:spPr>
          <a:xfrm>
            <a:off x="3809880" y="1752480"/>
            <a:ext cx="4881600" cy="4943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374040" y="379800"/>
            <a:ext cx="56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дёт зубной порошок и журчит вод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забудь, мой дружок, перед сном умытьс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приходит крепк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на свете нужен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spokoynoy_nochi_malyshi_-_spyat_ustalye_igrushki..._(zaycev.net).mp3" descr=""/>
          <p:cNvPicPr/>
          <p:nvPr/>
        </p:nvPicPr>
        <p:blipFill>
          <a:blip r:embed="rId2"/>
          <a:stretch/>
        </p:blipFill>
        <p:spPr>
          <a:xfrm>
            <a:off x="609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722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04920" y="619200"/>
            <a:ext cx="8534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http://vsasemya.ru/detki/reb-nok-starshe-7-let/rezhim-dnja-pervoklasnika/page-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чники заимствования картино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2"/>
              </a:rPr>
              <a:t>h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3"/>
              </a:rPr>
              <a:t>ttp://www.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4"/>
              </a:rPr>
              <a:t>google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6"/>
              </a:rPr>
              <a:t>ru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7"/>
              </a:rPr>
              <a:t>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8"/>
              </a:rPr>
              <a:t>img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http://dl.dropbox.com/u/64218087/%D0%94%D0%B5%D1%82%D1%81%D0%BA%D0%B8%D0%B5%20%D0%BF%D0%B5%D1%81%D0%BD%D0%B8/%D0%A1%D0%95%D0%9C%D0%AC%D0%AF/%D0%9F%D0%B5%D1%81%D0%BD%D1%8F%20%D0%BF%D1%80%D0%BE%20%D0%B7%D0%B0%D1%80%D1%8F%D0%B4%D0%BA%D1%83.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0NjMzLnVzZXJhcGkuY29tL3U3MDgxNDAyOC9hdWRpb3MvYTIxNDdkODQ3ODMyLm1wMw==/barbariki_-_razukrasim_vse_planet_yader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dl2.zaycev.net/5d6f411d-0066-43b9-8450-88d5155c1ed9/191/19166/detskie_pesni_-_uchat_v_shkole_(zaycev.net)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0OTgxLnVzZXJhcGkuY29tL3U1NDU2NzM5L2F1ZGlvcy9mMGRjZGEwYWZiMTkubXAz/detskie_pesni_-_po_doroge_s_oblakami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dl1.zaycev.net/9b654997-4b2c-406d-8318-100d1b867ece/13543/1354352/spokoynoy_nochi_malyshi_-_spyat_ustalye_igrushki..._(zaycev.net)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2MjU1LnVzZXJhcGkuY29tL3UxNTkxNjI1NDUvYXVkaW9zL2IxY2E5MmVlYjE1Mi5tcDM=/viktoriya_babenko_-_doroga_v_shkolu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3581280" y="1487520"/>
            <a:ext cx="5329440" cy="5016600"/>
          </a:xfrm>
          <a:prstGeom prst="rect">
            <a:avLst/>
          </a:prstGeom>
          <a:ln w="0">
            <a:noFill/>
          </a:ln>
        </p:spPr>
      </p:pic>
      <p:pic>
        <p:nvPicPr>
          <p:cNvPr id="376" name="Rectangle 4" descr=""/>
          <p:cNvPicPr/>
          <p:nvPr/>
        </p:nvPicPr>
        <p:blipFill>
          <a:blip r:embed="rId2"/>
          <a:stretch/>
        </p:blipFill>
        <p:spPr>
          <a:xfrm>
            <a:off x="139680" y="0"/>
            <a:ext cx="38228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225000" y="303480"/>
            <a:ext cx="383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имаюсь я зарядк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утрам, по вечера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анцую на ковр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я делаю заряд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утром на зар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ой вращаю смел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лонюсь Вам до земл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здоровый, крепче тел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добрым утром — земля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270915985f52t"/>
          <p:cNvPicPr/>
          <p:nvPr/>
        </p:nvPicPr>
        <p:blipFill>
          <a:blip r:embed="rId1"/>
          <a:stretch/>
        </p:blipFill>
        <p:spPr>
          <a:xfrm>
            <a:off x="4114800" y="1835280"/>
            <a:ext cx="4718160" cy="4706640"/>
          </a:xfrm>
          <a:prstGeom prst="rect">
            <a:avLst/>
          </a:prstGeom>
          <a:ln w="0">
            <a:noFill/>
          </a:ln>
        </p:spPr>
      </p:pic>
      <p:pic>
        <p:nvPicPr>
          <p:cNvPr id="379" name="2. Песня про зарядку +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360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91307b4f8fa3t"/>
          <p:cNvPicPr/>
          <p:nvPr/>
        </p:nvPicPr>
        <p:blipFill>
          <a:blip r:embed="rId1"/>
          <a:stretch/>
        </p:blipFill>
        <p:spPr>
          <a:xfrm>
            <a:off x="0" y="160488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5938920" y="198360"/>
            <a:ext cx="307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ая водич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озовое личик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чеек из каз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носик и на глаз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ызги из кадуш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щечки и на уш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дичек из лей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обик и на шейк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вень с теплой т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ленькие ру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какой чистю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уй меня, маму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6ef2c4d023c6t"/>
          <p:cNvPicPr/>
          <p:nvPr/>
        </p:nvPicPr>
        <p:blipFill>
          <a:blip r:embed="rId1"/>
          <a:stretch/>
        </p:blipFill>
        <p:spPr>
          <a:xfrm>
            <a:off x="3166920" y="685800"/>
            <a:ext cx="5724720" cy="59086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4"/>
          <p:cNvSpPr/>
          <p:nvPr/>
        </p:nvSpPr>
        <p:spPr>
          <a:xfrm>
            <a:off x="152280" y="455760"/>
            <a:ext cx="2905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ует зубная щет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о морю лод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о речке парохо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зубам она ид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рх и вн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да - обратн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стим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ет и пят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зуб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болел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, как зим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 бел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4873680" y="379800"/>
            <a:ext cx="40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ъели завтрак, попроща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о в школу собир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 шко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 клас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дёт учительница на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0c6106eabbf5"/>
          <p:cNvPicPr/>
          <p:nvPr/>
        </p:nvPicPr>
        <p:blipFill>
          <a:blip r:embed="rId1"/>
          <a:stretch/>
        </p:blipFill>
        <p:spPr>
          <a:xfrm>
            <a:off x="380880" y="2133720"/>
            <a:ext cx="433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post-53751-1221158065тб"/>
          <p:cNvPicPr/>
          <p:nvPr/>
        </p:nvPicPr>
        <p:blipFill>
          <a:blip r:embed="rId1"/>
          <a:stretch/>
        </p:blipFill>
        <p:spPr>
          <a:xfrm>
            <a:off x="3429000" y="1447920"/>
            <a:ext cx="5257800" cy="5176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-3977640" y="304920"/>
            <a:ext cx="728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м , по дороге в шко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жим воздухом дыш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ду подружку  я у до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ней теперь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немного поболта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меёмся ведь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дорога в нашу шк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скучит никог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viktoriya_babenko_-_doroga_v_shkolu_muzoo.ru.mp3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4159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4ca1f4b728bc"/>
          <p:cNvPicPr/>
          <p:nvPr/>
        </p:nvPicPr>
        <p:blipFill>
          <a:blip r:embed="rId1"/>
          <a:stretch/>
        </p:blipFill>
        <p:spPr>
          <a:xfrm>
            <a:off x="1523880" y="1676520"/>
            <a:ext cx="5715000" cy="4876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2662200" y="303840"/>
            <a:ext cx="413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звонком звенит 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 в срок идёт у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о очень много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олезным  в жизни с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detskie_pesni_-_uchat_v_shkole_(zaycev.net).mp3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1800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2478240" y="5912280"/>
            <a:ext cx="39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свиданья, школьный д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снова мы прид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post-53751-1221158065тб"/>
          <p:cNvPicPr/>
          <p:nvPr/>
        </p:nvPicPr>
        <p:blipFill>
          <a:blip r:embed="rId1"/>
          <a:stretch/>
        </p:blipFill>
        <p:spPr>
          <a:xfrm>
            <a:off x="2133720" y="762120"/>
            <a:ext cx="4647960" cy="4576680"/>
          </a:xfrm>
          <a:prstGeom prst="rect">
            <a:avLst/>
          </a:prstGeom>
          <a:ln w="0">
            <a:noFill/>
          </a:ln>
        </p:spPr>
      </p:pic>
      <p:pic>
        <p:nvPicPr>
          <p:cNvPr id="394" name="detskie_pesni_-_po_doroge_s_oblakami_muzoo.ru.mp3" descr=""/>
          <p:cNvPicPr/>
          <p:nvPr/>
        </p:nvPicPr>
        <p:blipFill>
          <a:blip r:embed="rId2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204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7-09-17T14:05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