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566B-C0D7-4C9C-A00F-64193EDC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C44-90A8-4BB1-A792-9B89B361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CBC-5C51-459B-8CE0-1DAAD9AF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9F7-88A8-447D-A7AD-C7955550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8806-567C-42B6-B9A0-CE26CF62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7A26-C782-42C2-98C4-FFAF5945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91A9-7E9E-4E1C-9625-C2A94C89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0BEC-1976-4730-B2C3-4A449D6D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0DCF-E34F-45B9-AD5E-623D5B77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7EBC-DF80-46C6-B628-6AF3B43B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AFAB-59EA-4985-85E3-0A409349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BCC-C475-4FB6-9F6C-7013B4E4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B39E-A9CD-48ED-BB8D-0929871E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95F0-A7DF-438A-BE12-0BBC7CEA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A7C9-ECDB-4D2A-9958-4BC2AAE2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101F-0103-4116-ACC3-75A0BDEC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159F-45A1-41EB-8D1C-C3B65FA2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7384E-0125-4E5D-ABB7-173D8129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A3FE8-C30C-4BCB-BFDC-2B26E1F8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7CB56-A6C9-4A1B-B1E7-87BE4DDC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FF38A-C17E-4B4F-B1F8-427D47C0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3F3A7-5446-45EB-BD0F-CE5E1460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D02-4C67-4FE1-9AD7-3668DE17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89D7B-E459-45AC-9ECB-DFEC04A6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0FA44-AD27-4D27-BB11-05789214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D606F-C62A-4116-AF98-3ED4BBE1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9A842-B72F-4AB8-90A2-B9C0D168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8F909-659A-4F6E-B161-CFD9F24D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8848E-2C48-407A-936B-69803821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42722-7509-498D-98EA-24FCD607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1980A-40EE-4615-999E-535AAAF2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480A6-611F-47CA-BF55-27D1F93C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04756-7D5C-4323-8BA0-5E25C416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26A-9487-4E59-B7A6-45423A96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06C71-E0DB-4DEC-87C7-29429188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2DF70-FE6A-499E-AE98-8A7DF078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29A6-3C83-467A-BEBA-0227C25C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DE933-93D4-4A0B-85F8-72303044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1DF12-A50E-4131-AAA2-BEC09754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37D10-BFD8-40EE-B933-F4E9ADB3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155A0-12CE-4D6D-AD77-D48277D2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4FCDA-015A-4018-A97E-5569EEAA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03687-6F9A-40B5-AB0F-FCE3F14C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62456-19FB-4053-9DC3-DFF98968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DBE2-7E0E-4406-AC95-142F481E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0E83B-55B5-4BFE-A0C6-33655F39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AAE6A-434A-47D1-B29E-680B0771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28B9E-91BE-4C4B-BA04-6AA0627D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0A47D-9821-4E82-ADB8-78FE6684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CB21F-54AD-43A9-8BAA-1F8A6C2C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8F4DD-1D17-4314-856A-91CA2F0B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BFCEE-4029-4C72-A84E-3CAD4A09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013AE-8786-4C37-9609-659050EF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BEE38-5609-42EA-A93B-B1986956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89227-3458-4205-9F4D-B9791F34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79B-45DF-4EF0-A6A8-2A44C5F9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65490-F7B5-4ADA-90D9-9270B2AB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AE038-6D2D-410D-8C43-C0BE3286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DB582-ABEE-43CE-8D08-8309E8E9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53EAD-0FAA-4535-9D8F-00D72E5F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1B8E7-6F8D-4778-AC4D-C0EF3891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4B31E-5A7E-4AD9-AF60-E87ADFF0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F7250-8115-4410-A67B-6040D2FE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12E75-97AD-479A-8965-0BEC916E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FE857-F4A9-4CEE-83D8-C6D70B26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2D2E4-1750-4AAA-8E3F-C0D736AA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A1D5-74E4-4E5B-8316-2CEA27CD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61CA5-BE46-41C0-AA13-9354F2F1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0EA4A-12F7-4EDB-8E08-7F69BD48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8B34B-B0F6-4DA4-8399-C6588A29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A48CA-64F4-4AC4-9EF2-85087AAC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A19DF-FC2C-4D97-B132-CD1697EC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FC6F2-0930-4BD7-8359-1397AED6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27C93-1B67-41B9-A8F0-9DDD9D4B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66403-0167-4691-970A-55173974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33B79-9D06-498A-B7B8-E384F99E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3D452-36F4-4E2E-8566-DD55DCDA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A00-1A4A-4A51-9818-0B1388D4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88ED5-E0C0-4778-9255-F325DD1F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3F22D-F97B-4FD6-9B4A-41D3015F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17575-4A8C-47E9-951D-44B8DFA7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962AD-AC27-4376-A9F5-F1C96CDA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B5AE8-DE1A-428A-BA29-5DB79D35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C3216-6338-4648-8C6A-0097BB2F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0D9B8-6CB0-4EA5-9617-F0B62310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E2D9E-632C-4040-8848-3AE8A91E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FED7F-D0B6-4092-8755-C417C96C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CD690-8393-420B-8EE0-C14290D8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E81E-C829-466C-AD52-949C8C80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EAAF1-7863-4E52-AB61-D25A9C9A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E3903-504D-452A-A65A-301D1A23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963DF-2985-4E08-A29B-14E8150B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64A40-A3C3-48F9-B969-B4BDE7E3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29505-612E-480A-9F0A-99137F4D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34A34-6457-41C8-9A74-6C37AAE6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DD215-5E31-444F-9A4D-6D48742B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B597-8467-48BF-BFE2-BBB1A6FECF7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D8F2-318E-4C05-B569-77632D306A6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AA6D-067F-4A28-8FE7-AAB8B306A75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7DF8-0DA9-4398-95B2-B737327DFB5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CCAB-590E-4AD1-A2F0-8D152D8476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85A0-3C6E-4DD9-8702-441EC6A895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09E5-BB04-4864-BBD9-9D22BF0A44F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275F-1AFB-4C32-8C94-94E23461F06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sasemya.ru/detki/reb-nok-starshe-7-let/rezhim-dnja-pervoklasnika/page-2.html" TargetMode="External"/><Relationship Id="rId2" Type="http://schemas.openxmlformats.org/officeDocument/2006/relationships/hyperlink" Target="http://www.google.ru/imghp" TargetMode="External"/><Relationship Id="rId3" Type="http://schemas.openxmlformats.org/officeDocument/2006/relationships/hyperlink" Target="http://www.google.ru/imghp" TargetMode="External"/><Relationship Id="rId4" Type="http://schemas.openxmlformats.org/officeDocument/2006/relationships/hyperlink" Target="http://www.google.ru/imghp" TargetMode="External"/><Relationship Id="rId5" Type="http://schemas.openxmlformats.org/officeDocument/2006/relationships/hyperlink" Target="http://www.google.ru/imghp" TargetMode="External"/><Relationship Id="rId6" Type="http://schemas.openxmlformats.org/officeDocument/2006/relationships/hyperlink" Target="http://www.google.ru/imghp" TargetMode="External"/><Relationship Id="rId7" Type="http://schemas.openxmlformats.org/officeDocument/2006/relationships/hyperlink" Target="http://www.google.ru/imghp" TargetMode="External"/><Relationship Id="rId8" Type="http://schemas.openxmlformats.org/officeDocument/2006/relationships/hyperlink" Target="http://www.google.ru/imghp" TargetMode="External"/><Relationship Id="rId9" Type="http://schemas.openxmlformats.org/officeDocument/2006/relationships/hyperlink" Target="http://dl.dropbox.com/u/64218087/&#1044;&#1077;&#1090;&#1089;&#1082;&#1080;&#1077;%20&#1087;&#1077;&#1089;&#1085;&#1080;/&#1057;&#1045;&#1052;&#1068;&#1071;/&#1055;&#1077;&#1089;&#1085;&#1103;%20&#1087;&#1088;&#1086;%20&#1079;&#1072;&#1088;&#1103;&#1076;&#1082;&#1091;.rar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4"/>
          <p:cNvSpPr txBox="1"/>
          <p:nvPr/>
        </p:nvSpPr>
        <p:spPr>
          <a:xfrm>
            <a:off x="1676520" y="4800600"/>
            <a:ext cx="5410080" cy="3352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904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Режим</a:t>
            </a:r>
            <a:endParaRPr b="0" lang="en-US" sz="1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дня</a:t>
            </a:r>
            <a:endParaRPr b="0" lang="en-US" sz="1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pic>
        <p:nvPicPr>
          <p:cNvPr id="371" name="Picture 5" descr="буд"/>
          <p:cNvPicPr/>
          <p:nvPr/>
        </p:nvPicPr>
        <p:blipFill>
          <a:blip r:embed="rId1"/>
          <a:stretch/>
        </p:blipFill>
        <p:spPr>
          <a:xfrm>
            <a:off x="6400800" y="25909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72" name="WordArt 5"/>
          <p:cNvSpPr txBox="1"/>
          <p:nvPr/>
        </p:nvSpPr>
        <p:spPr>
          <a:xfrm>
            <a:off x="768240" y="2438280"/>
            <a:ext cx="593748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206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неклассное мероприяти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206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206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Режим дня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206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4969800" y="5333400"/>
            <a:ext cx="31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икова И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67880" y="730800"/>
            <a:ext cx="68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Основная общеобразовательная Сорокинск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5" descr="540bbb08e374"/>
          <p:cNvPicPr/>
          <p:nvPr/>
        </p:nvPicPr>
        <p:blipFill>
          <a:blip r:embed="rId1"/>
          <a:stretch/>
        </p:blipFill>
        <p:spPr>
          <a:xfrm>
            <a:off x="6095880" y="4572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4"/>
          <p:cNvSpPr/>
          <p:nvPr/>
        </p:nvSpPr>
        <p:spPr>
          <a:xfrm>
            <a:off x="2055960" y="2132640"/>
            <a:ext cx="353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дник съели, погуля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аботали опя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7" descr="девиз"/>
          <p:cNvPicPr/>
          <p:nvPr/>
        </p:nvPicPr>
        <p:blipFill>
          <a:blip r:embed="rId2"/>
          <a:stretch/>
        </p:blipFill>
        <p:spPr>
          <a:xfrm>
            <a:off x="0" y="3203640"/>
            <a:ext cx="3651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4"/>
          <p:cNvSpPr/>
          <p:nvPr/>
        </p:nvSpPr>
        <p:spPr>
          <a:xfrm>
            <a:off x="5099760" y="5790240"/>
            <a:ext cx="37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портфеля мы дос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й учебник и тетрад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53f2c2f77d9at"/>
          <p:cNvPicPr/>
          <p:nvPr/>
        </p:nvPicPr>
        <p:blipFill>
          <a:blip r:embed="rId1"/>
          <a:stretch/>
        </p:blipFill>
        <p:spPr>
          <a:xfrm>
            <a:off x="1143000" y="457200"/>
            <a:ext cx="39718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5"/>
          <p:cNvSpPr/>
          <p:nvPr/>
        </p:nvSpPr>
        <p:spPr>
          <a:xfrm>
            <a:off x="1368000" y="4479480"/>
            <a:ext cx="342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газин мы сходим с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 в квартире подмет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легче было мам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ы поможем ей во вс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" descr="61e91ec0bb33t"/>
          <p:cNvPicPr/>
          <p:nvPr/>
        </p:nvPicPr>
        <p:blipFill>
          <a:blip r:embed="rId1"/>
          <a:stretch/>
        </p:blipFill>
        <p:spPr>
          <a:xfrm>
            <a:off x="5410080" y="380880"/>
            <a:ext cx="3353040" cy="29926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51f16850823bt"/>
          <p:cNvPicPr/>
          <p:nvPr/>
        </p:nvPicPr>
        <p:blipFill>
          <a:blip r:embed="rId2"/>
          <a:stretch/>
        </p:blipFill>
        <p:spPr>
          <a:xfrm>
            <a:off x="228600" y="228600"/>
            <a:ext cx="3429000" cy="3193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00a613512fa5t"/>
          <p:cNvPicPr/>
          <p:nvPr/>
        </p:nvPicPr>
        <p:blipFill>
          <a:blip r:embed="rId3"/>
          <a:stretch/>
        </p:blipFill>
        <p:spPr>
          <a:xfrm>
            <a:off x="5715000" y="3657600"/>
            <a:ext cx="320040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7" descr="post-53751-1221413255тим"/>
          <p:cNvPicPr/>
          <p:nvPr/>
        </p:nvPicPr>
        <p:blipFill>
          <a:blip r:embed="rId1"/>
          <a:stretch/>
        </p:blipFill>
        <p:spPr>
          <a:xfrm>
            <a:off x="3657600" y="304920"/>
            <a:ext cx="2743200" cy="272556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304920" y="281520"/>
            <a:ext cx="3305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ин вкусный мы съед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левизор погляд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4bd47120e608"/>
          <p:cNvPicPr/>
          <p:nvPr/>
        </p:nvPicPr>
        <p:blipFill>
          <a:blip r:embed="rId2"/>
          <a:stretch/>
        </p:blipFill>
        <p:spPr>
          <a:xfrm>
            <a:off x="6781680" y="457200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8"/>
          <p:cNvSpPr/>
          <p:nvPr/>
        </p:nvSpPr>
        <p:spPr>
          <a:xfrm>
            <a:off x="3425040" y="3199320"/>
            <a:ext cx="299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в игры поигра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книжку почит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9" descr="00a613512fa5tи"/>
          <p:cNvPicPr/>
          <p:nvPr/>
        </p:nvPicPr>
        <p:blipFill>
          <a:blip r:embed="rId3"/>
          <a:stretch/>
        </p:blipFill>
        <p:spPr>
          <a:xfrm>
            <a:off x="3505320" y="3962520"/>
            <a:ext cx="2743200" cy="25365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0" descr="b2fc97cbd319"/>
          <p:cNvPicPr/>
          <p:nvPr/>
        </p:nvPicPr>
        <p:blipFill>
          <a:blip r:embed="rId4"/>
          <a:stretch/>
        </p:blipFill>
        <p:spPr>
          <a:xfrm>
            <a:off x="609480" y="4648320"/>
            <a:ext cx="190512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5"/>
          <p:cNvSpPr/>
          <p:nvPr/>
        </p:nvSpPr>
        <p:spPr>
          <a:xfrm>
            <a:off x="1511280" y="24580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4" descr="852cb4bd7594t"/>
          <p:cNvPicPr/>
          <p:nvPr/>
        </p:nvPicPr>
        <p:blipFill>
          <a:blip r:embed="rId1"/>
          <a:stretch/>
        </p:blipFill>
        <p:spPr>
          <a:xfrm>
            <a:off x="3809880" y="1752480"/>
            <a:ext cx="4881600" cy="494352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6"/>
          <p:cNvSpPr/>
          <p:nvPr/>
        </p:nvSpPr>
        <p:spPr>
          <a:xfrm>
            <a:off x="374040" y="379800"/>
            <a:ext cx="567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дёт зубной порошок и журчит водиц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забудь, мой дружок, перед сном умыться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приходит крепкий с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на свете нужен 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spokoynoy_nochi_malyshi_-_spyat_ustalye_igrushki..._(zaycev.net).mp3" descr=""/>
          <p:cNvPicPr/>
          <p:nvPr/>
        </p:nvPicPr>
        <p:blipFill>
          <a:blip r:embed="rId2"/>
          <a:stretch/>
        </p:blipFill>
        <p:spPr>
          <a:xfrm>
            <a:off x="6094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17222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304920" y="619200"/>
            <a:ext cx="85341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ая литерату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http://vsasemya.ru/detki/reb-nok-starshe-7-let/rezhim-dnja-pervoklasnika/page-2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сточники заимствования картинок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8119"/>
                </a:solidFill>
                <a:uFillTx/>
                <a:latin typeface="Arial"/>
                <a:ea typeface="Times New Roman"/>
                <a:hlinkClick r:id="rId2"/>
              </a:rPr>
              <a:t>h</a:t>
            </a:r>
            <a:r>
              <a:rPr b="0" lang="ru-RU" sz="1400" spc="-1" strike="noStrike" u="sng">
                <a:solidFill>
                  <a:srgbClr val="ff8119"/>
                </a:solidFill>
                <a:uFillTx/>
                <a:latin typeface="Arial"/>
                <a:ea typeface="Times New Roman"/>
                <a:hlinkClick r:id="rId3"/>
              </a:rPr>
              <a:t>ttp://www.</a:t>
            </a:r>
            <a:r>
              <a:rPr b="0" lang="en-US" sz="1400" spc="-1" strike="noStrike" u="sng">
                <a:solidFill>
                  <a:srgbClr val="ff8119"/>
                </a:solidFill>
                <a:uFillTx/>
                <a:latin typeface="Arial"/>
                <a:ea typeface="Times New Roman"/>
                <a:hlinkClick r:id="rId4"/>
              </a:rPr>
              <a:t>google</a:t>
            </a:r>
            <a:r>
              <a:rPr b="0" lang="ru-RU" sz="1400" spc="-1" strike="noStrike" u="sng">
                <a:solidFill>
                  <a:srgbClr val="ff8119"/>
                </a:solidFill>
                <a:uFillTx/>
                <a:latin typeface="Arial"/>
                <a:ea typeface="Times New Roman"/>
                <a:hlinkClick r:id="rId5"/>
              </a:rPr>
              <a:t>.</a:t>
            </a:r>
            <a:r>
              <a:rPr b="0" lang="en-US" sz="1400" spc="-1" strike="noStrike" u="sng">
                <a:solidFill>
                  <a:srgbClr val="ff8119"/>
                </a:solidFill>
                <a:uFillTx/>
                <a:latin typeface="Arial"/>
                <a:ea typeface="Times New Roman"/>
                <a:hlinkClick r:id="rId6"/>
              </a:rPr>
              <a:t>ru</a:t>
            </a:r>
            <a:r>
              <a:rPr b="0" lang="ru-RU" sz="1400" spc="-1" strike="noStrike" u="sng">
                <a:solidFill>
                  <a:srgbClr val="ff8119"/>
                </a:solidFill>
                <a:uFillTx/>
                <a:latin typeface="Arial"/>
                <a:ea typeface="Times New Roman"/>
                <a:hlinkClick r:id="rId7"/>
              </a:rPr>
              <a:t>/</a:t>
            </a:r>
            <a:r>
              <a:rPr b="0" lang="en-US" sz="1400" spc="-1" strike="noStrike" u="sng">
                <a:solidFill>
                  <a:srgbClr val="ff8119"/>
                </a:solidFill>
                <a:uFillTx/>
                <a:latin typeface="Arial"/>
                <a:ea typeface="Times New Roman"/>
                <a:hlinkClick r:id="rId8"/>
              </a:rPr>
              <a:t>img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узы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8119"/>
                </a:solidFill>
                <a:uFillTx/>
                <a:latin typeface="Arial"/>
                <a:hlinkClick r:id="rId9"/>
              </a:rPr>
              <a:t>http://dl.dropbox.com/u/64218087/%D0%94%D0%B5%D1%82%D1%81%D0%BA%D0%B8%D0%B5%20%D0%BF%D0%B5%D1%81%D0%BD%D0%B8/%D0%A1%D0%95%D0%9C%D0%AC%D0%AF/%D0%9F%D0%B5%D1%81%D0%BD%D1%8F%20%D0%BF%D1%80%D0%BE%20%D0%B7%D0%B0%D1%80%D1%8F%D0%B4%D0%BA%D1%83.r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et.muzoo.ru/Y3M0NjMzLnVzZXJhcGkuY29tL3U3MDgxNDAyOC9hdWRpb3MvYTIxNDdkODQ3ODMyLm1wMw==/barbariki_-_razukrasim_vse_planet_yader.m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dl2.zaycev.net/5d6f411d-0066-43b9-8450-88d5155c1ed9/191/19166/detskie_pesni_-_uchat_v_shkole_(zaycev.net).m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et.muzoo.ru/Y3M0OTgxLnVzZXJhcGkuY29tL3U1NDU2NzM5L2F1ZGlvcy9mMGRjZGEwYWZiMTkubXAz/detskie_pesni_-_po_doroge_s_oblakami.m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dl1.zaycev.net/9b654997-4b2c-406d-8318-100d1b867ece/13543/1354352/spokoynoy_nochi_malyshi_-_spyat_ustalye_igrushki..._(zaycev.net).m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et.muzoo.ru/Y3M2MjU1LnVzZXJhcGkuY29tL3UxNTkxNjI1NDUvYXVkaW9zL2IxY2E5MmVlYjE1Mi5tcDM=/viktoriya_babenko_-_doroga_v_shkolu.m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6" descr=""/>
          <p:cNvPicPr/>
          <p:nvPr/>
        </p:nvPicPr>
        <p:blipFill>
          <a:blip r:embed="rId1"/>
          <a:stretch/>
        </p:blipFill>
        <p:spPr>
          <a:xfrm>
            <a:off x="3581280" y="1487520"/>
            <a:ext cx="5329440" cy="5016600"/>
          </a:xfrm>
          <a:prstGeom prst="rect">
            <a:avLst/>
          </a:prstGeom>
          <a:ln w="0">
            <a:noFill/>
          </a:ln>
        </p:spPr>
      </p:pic>
      <p:pic>
        <p:nvPicPr>
          <p:cNvPr id="376" name="Rectangle 4" descr=""/>
          <p:cNvPicPr/>
          <p:nvPr/>
        </p:nvPicPr>
        <p:blipFill>
          <a:blip r:embed="rId2"/>
          <a:stretch/>
        </p:blipFill>
        <p:spPr>
          <a:xfrm>
            <a:off x="139680" y="0"/>
            <a:ext cx="382284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225000" y="303480"/>
            <a:ext cx="3839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нимаюсь я зарядкой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утрам, по вечерам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анцую на ковр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 я делаю зарядку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но утром на зар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ой вращаю смел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лонюсь Вам до земл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ух здоровый, крепче тел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добрым утром — земляк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5" descr="270915985f52t"/>
          <p:cNvPicPr/>
          <p:nvPr/>
        </p:nvPicPr>
        <p:blipFill>
          <a:blip r:embed="rId1"/>
          <a:stretch/>
        </p:blipFill>
        <p:spPr>
          <a:xfrm>
            <a:off x="4114800" y="1835280"/>
            <a:ext cx="4718160" cy="4706640"/>
          </a:xfrm>
          <a:prstGeom prst="rect">
            <a:avLst/>
          </a:prstGeom>
          <a:ln w="0">
            <a:noFill/>
          </a:ln>
        </p:spPr>
      </p:pic>
      <p:pic>
        <p:nvPicPr>
          <p:cNvPr id="379" name="2. Песня про зарядку +.mp3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9360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5" descr="91307b4f8fa3t"/>
          <p:cNvPicPr/>
          <p:nvPr/>
        </p:nvPicPr>
        <p:blipFill>
          <a:blip r:embed="rId1"/>
          <a:stretch/>
        </p:blipFill>
        <p:spPr>
          <a:xfrm>
            <a:off x="0" y="1604880"/>
            <a:ext cx="5257800" cy="525312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4"/>
          <p:cNvSpPr/>
          <p:nvPr/>
        </p:nvSpPr>
        <p:spPr>
          <a:xfrm>
            <a:off x="5938920" y="198360"/>
            <a:ext cx="3071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шебная водич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озовое личик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чеек из казк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носик и на глазк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ызги из кадушк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щечки и на ушк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ждичек из лейк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лобик и на шейку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вень с теплой ту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маленькие ручк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т какой чистюл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уй меня, мамул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6ef2c4d023c6t"/>
          <p:cNvPicPr/>
          <p:nvPr/>
        </p:nvPicPr>
        <p:blipFill>
          <a:blip r:embed="rId1"/>
          <a:stretch/>
        </p:blipFill>
        <p:spPr>
          <a:xfrm>
            <a:off x="3166920" y="685800"/>
            <a:ext cx="5724720" cy="590868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4"/>
          <p:cNvSpPr/>
          <p:nvPr/>
        </p:nvSpPr>
        <p:spPr>
          <a:xfrm>
            <a:off x="152280" y="455760"/>
            <a:ext cx="2905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ует зубная щетк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по морю лодк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по речке пароход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зубам она иде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рх и вни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да - обратн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чистим 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ет и пятн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зуб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болел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, как зим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ег беле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4873680" y="379800"/>
            <a:ext cx="401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ъели завтрак, попрощали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стро в школу собира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равствуй школ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равствуй класс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дёт учительница нас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5" descr="0c6106eabbf5"/>
          <p:cNvPicPr/>
          <p:nvPr/>
        </p:nvPicPr>
        <p:blipFill>
          <a:blip r:embed="rId1"/>
          <a:stretch/>
        </p:blipFill>
        <p:spPr>
          <a:xfrm>
            <a:off x="380880" y="2133720"/>
            <a:ext cx="4338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6" descr="post-53751-1221158065тб"/>
          <p:cNvPicPr/>
          <p:nvPr/>
        </p:nvPicPr>
        <p:blipFill>
          <a:blip r:embed="rId1"/>
          <a:stretch/>
        </p:blipFill>
        <p:spPr>
          <a:xfrm>
            <a:off x="3429000" y="1447920"/>
            <a:ext cx="5257800" cy="51768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4"/>
          <p:cNvSpPr/>
          <p:nvPr/>
        </p:nvSpPr>
        <p:spPr>
          <a:xfrm>
            <a:off x="-3977640" y="304920"/>
            <a:ext cx="728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ром , по дороге в школ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жим воздухом дыш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ду подружку  я у дом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месте с ней теперь и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немного поболта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меёмся ведь т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м дорога в нашу шко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наскучит никогд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viktoriya_babenko_-_doroga_v_shkolu_muzoo.ru.mp3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4159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5" descr="4ca1f4b728bc"/>
          <p:cNvPicPr/>
          <p:nvPr/>
        </p:nvPicPr>
        <p:blipFill>
          <a:blip r:embed="rId1"/>
          <a:stretch/>
        </p:blipFill>
        <p:spPr>
          <a:xfrm>
            <a:off x="1523880" y="1676520"/>
            <a:ext cx="5715000" cy="48765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4"/>
          <p:cNvSpPr/>
          <p:nvPr/>
        </p:nvSpPr>
        <p:spPr>
          <a:xfrm>
            <a:off x="2662200" y="303840"/>
            <a:ext cx="4138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звонком звенит звон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но в срок идёт ур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ужно очень много зн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 полезным  в жизни с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detskie_pesni_-_uchat_v_shkole_(zaycev.net).mp3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1800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2478240" y="5912280"/>
            <a:ext cx="39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свиданья, школьный до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тра снова мы придё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7" descr="post-53751-1221158065тб"/>
          <p:cNvPicPr/>
          <p:nvPr/>
        </p:nvPicPr>
        <p:blipFill>
          <a:blip r:embed="rId1"/>
          <a:stretch/>
        </p:blipFill>
        <p:spPr>
          <a:xfrm>
            <a:off x="2133720" y="762120"/>
            <a:ext cx="4647960" cy="4576680"/>
          </a:xfrm>
          <a:prstGeom prst="rect">
            <a:avLst/>
          </a:prstGeom>
          <a:ln w="0">
            <a:noFill/>
          </a:ln>
        </p:spPr>
      </p:pic>
      <p:pic>
        <p:nvPicPr>
          <p:cNvPr id="394" name="detskie_pesni_-_po_doroge_s_oblakami_muzoo.ru.mp3" descr=""/>
          <p:cNvPicPr/>
          <p:nvPr/>
        </p:nvPicPr>
        <p:blipFill>
          <a:blip r:embed="rId2"/>
          <a:stretch/>
        </p:blipFill>
        <p:spPr>
          <a:xfrm>
            <a:off x="8380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2046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Diakov</cp:lastModifiedBy>
  <dcterms:modified xsi:type="dcterms:W3CDTF">2017-09-17T14:05:5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