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20.gif" ContentType="image/gif"/>
  <Override PartName="/ppt/media/image4.gif" ContentType="image/gif"/>
  <Override PartName="/ppt/media/image8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7F8-C27F-4DCA-8C9B-CF0AE6E8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CDB-E3D5-43E6-B9CD-F04E312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1BA-2579-48DD-B674-46159DB9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9AD-6485-40FC-B54B-4843080A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7D1-EF36-4ACE-825A-39521741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143-0729-4CCE-AD9A-1FCA24F1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5CD-698E-4D91-BF6C-448AEC69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A2-2CE8-43C6-BAFC-74E53D7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A47-E602-49AC-B04E-FFF90084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0E6-9FE7-4D98-9386-0C10AEC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FEC-F620-4B6E-A694-02158E9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1B1-4CA6-437C-B462-51EE19C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85E-C3B5-42B0-9AD0-34BAA9650C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ивобокова Е. В. МОУ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098-6ACD-4121-BCA2-6B55B64C5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png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259800">
            <a:off x="436680" y="376200"/>
            <a:ext cx="770400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Почему прогибается</a:t>
            </a:r>
            <a:endParaRPr b="0" lang="en-US" sz="4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книжная полка?</a:t>
            </a:r>
            <a:endParaRPr b="0" lang="en-US" sz="4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2" name="Picture 5" descr="J0236419"/>
          <p:cNvPicPr/>
          <p:nvPr/>
        </p:nvPicPr>
        <p:blipFill>
          <a:blip r:embed="rId1"/>
          <a:stretch/>
        </p:blipFill>
        <p:spPr>
          <a:xfrm>
            <a:off x="4429080" y="2844720"/>
            <a:ext cx="4030560" cy="3557520"/>
          </a:xfrm>
          <a:prstGeom prst="rect">
            <a:avLst/>
          </a:prstGeom>
          <a:ln w="0">
            <a:noFill/>
          </a:ln>
        </p:spPr>
      </p:pic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592-E72B-4C79-8F2B-987F9260E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12"/>
          <p:cNvGrpSpPr/>
          <p:nvPr/>
        </p:nvGrpSpPr>
        <p:grpSpPr>
          <a:xfrm>
            <a:off x="471600" y="1428840"/>
            <a:ext cx="8672400" cy="4572000"/>
            <a:chOff x="471600" y="1428840"/>
            <a:chExt cx="8672400" cy="4572000"/>
          </a:xfrm>
        </p:grpSpPr>
        <p:grpSp>
          <p:nvGrpSpPr>
            <p:cNvPr id="46" name="Группа 9"/>
            <p:cNvGrpSpPr/>
            <p:nvPr/>
          </p:nvGrpSpPr>
          <p:grpSpPr>
            <a:xfrm>
              <a:off x="471600" y="1428840"/>
              <a:ext cx="8672400" cy="4572000"/>
              <a:chOff x="471600" y="1428840"/>
              <a:chExt cx="8672400" cy="4572000"/>
            </a:xfrm>
          </p:grpSpPr>
          <p:grpSp>
            <p:nvGrpSpPr>
              <p:cNvPr id="47" name="Группа 7"/>
              <p:cNvGrpSpPr/>
              <p:nvPr/>
            </p:nvGrpSpPr>
            <p:grpSpPr>
              <a:xfrm>
                <a:off x="471600" y="1428840"/>
                <a:ext cx="8672400" cy="4572000"/>
                <a:chOff x="471600" y="1428840"/>
                <a:chExt cx="8672400" cy="4572000"/>
              </a:xfrm>
            </p:grpSpPr>
            <p:pic>
              <p:nvPicPr>
                <p:cNvPr id="48" name="Picture 2" descr="вес 3"/>
                <p:cNvPicPr/>
                <p:nvPr/>
              </p:nvPicPr>
              <p:blipFill>
                <a:blip r:embed="rId1"/>
                <a:srcRect l="0" t="33287" r="0" b="0"/>
                <a:stretch/>
              </p:blipFill>
              <p:spPr>
                <a:xfrm>
                  <a:off x="471600" y="1428840"/>
                  <a:ext cx="8672400" cy="4572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cxnSp>
              <p:nvCxnSpPr>
                <p:cNvPr id="49" name="Прямая со стрелкой 5"/>
                <p:cNvCxnSpPr/>
                <p:nvPr/>
              </p:nvCxnSpPr>
              <p:spPr>
                <a:xfrm flipH="1">
                  <a:off x="4141440" y="4787640"/>
                  <a:ext cx="2160" cy="857880"/>
                </a:xfrm>
                <a:prstGeom prst="straightConnector1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50" name="Прямоугольник 6"/>
                <p:cNvSpPr/>
                <p:nvPr/>
              </p:nvSpPr>
              <p:spPr>
                <a:xfrm>
                  <a:off x="3571920" y="4857840"/>
                  <a:ext cx="1000080" cy="928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Прямоугольник 8"/>
              <p:cNvSpPr/>
              <p:nvPr/>
            </p:nvSpPr>
            <p:spPr>
              <a:xfrm>
                <a:off x="3500280" y="3857760"/>
                <a:ext cx="357120" cy="42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Box 11"/>
            <p:cNvSpPr/>
            <p:nvPr/>
          </p:nvSpPr>
          <p:spPr>
            <a:xfrm>
              <a:off x="3643200" y="49294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504B-0DB1-46FE-912F-9357E7118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3132000" y="63817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0328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ДЕФОРМАЦИИ</a:t>
            </a:r>
            <a:endParaRPr b="1" lang="en-US" sz="1800" spc="1" strike="noStrike">
              <a:ln w="3492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1268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изменения формы и/или объёма тела под действием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[1]"/>
          <p:cNvPicPr/>
          <p:nvPr/>
        </p:nvPicPr>
        <p:blipFill>
          <a:blip r:embed="rId1"/>
          <a:stretch/>
        </p:blipFill>
        <p:spPr>
          <a:xfrm rot="7035000">
            <a:off x="1484280" y="2626920"/>
            <a:ext cx="15112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7[1]"/>
          <p:cNvPicPr/>
          <p:nvPr/>
        </p:nvPicPr>
        <p:blipFill>
          <a:blip r:embed="rId2"/>
          <a:stretch/>
        </p:blipFill>
        <p:spPr>
          <a:xfrm rot="3691200">
            <a:off x="6309720" y="2627280"/>
            <a:ext cx="1511280" cy="377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611280" y="3500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П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724360" y="350028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ЛАС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0" y="4076640"/>
            <a:ext cx="34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ностью исчезают после прекращения действия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292720" y="41432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исчезают после прекращения действия внешн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7F7-C592-4F27-83CA-02CCBD681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11"/>
          <p:cNvSpPr/>
          <p:nvPr/>
        </p:nvSpPr>
        <p:spPr>
          <a:xfrm>
            <a:off x="3132000" y="63817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2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900000" y="260280"/>
            <a:ext cx="722340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66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ВИДЫ ДЕФОРМАЦИЙ</a:t>
            </a:r>
            <a:endParaRPr b="1" lang="en-US" sz="1800" spc="1" strike="noStrike">
              <a:ln w="316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66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68" name="Picture 8" descr="2"/>
          <p:cNvPicPr/>
          <p:nvPr/>
        </p:nvPicPr>
        <p:blipFill>
          <a:blip r:embed="rId1"/>
          <a:stretch/>
        </p:blipFill>
        <p:spPr>
          <a:xfrm rot="6198000">
            <a:off x="1080" y="2023920"/>
            <a:ext cx="1852560" cy="48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2"/>
          <p:cNvPicPr/>
          <p:nvPr/>
        </p:nvPicPr>
        <p:blipFill>
          <a:blip r:embed="rId2"/>
          <a:stretch/>
        </p:blipFill>
        <p:spPr>
          <a:xfrm rot="5400000">
            <a:off x="3384000" y="2095560"/>
            <a:ext cx="1852560" cy="48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"/>
          <p:cNvPicPr/>
          <p:nvPr/>
        </p:nvPicPr>
        <p:blipFill>
          <a:blip r:embed="rId3"/>
          <a:stretch/>
        </p:blipFill>
        <p:spPr>
          <a:xfrm rot="5593800">
            <a:off x="950400" y="2641680"/>
            <a:ext cx="3100320" cy="48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2"/>
          <p:cNvPicPr/>
          <p:nvPr/>
        </p:nvPicPr>
        <p:blipFill>
          <a:blip r:embed="rId4"/>
          <a:stretch/>
        </p:blipFill>
        <p:spPr>
          <a:xfrm rot="4575600">
            <a:off x="7129080" y="2023920"/>
            <a:ext cx="1852560" cy="48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2"/>
          <p:cNvPicPr/>
          <p:nvPr/>
        </p:nvPicPr>
        <p:blipFill>
          <a:blip r:embed="rId5"/>
          <a:stretch/>
        </p:blipFill>
        <p:spPr>
          <a:xfrm rot="4743600">
            <a:off x="4998600" y="2598840"/>
            <a:ext cx="3024360" cy="48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16436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С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187280" y="4221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132000" y="306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932360" y="4149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03a-i3"/>
          <p:cNvPicPr/>
          <p:nvPr/>
        </p:nvPicPr>
        <p:blipFill>
          <a:blip r:embed="rId6"/>
          <a:stretch/>
        </p:blipFill>
        <p:spPr>
          <a:xfrm>
            <a:off x="1908000" y="4724280"/>
            <a:ext cx="148284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Fig_7_1"/>
          <p:cNvPicPr/>
          <p:nvPr/>
        </p:nvPicPr>
        <p:blipFill>
          <a:blip r:embed="rId7"/>
          <a:stretch/>
        </p:blipFill>
        <p:spPr>
          <a:xfrm>
            <a:off x="7486560" y="3573360"/>
            <a:ext cx="140652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xva"/>
          <p:cNvPicPr/>
          <p:nvPr/>
        </p:nvPicPr>
        <p:blipFill>
          <a:blip r:embed="rId8"/>
          <a:stretch/>
        </p:blipFill>
        <p:spPr>
          <a:xfrm>
            <a:off x="5724360" y="5013360"/>
            <a:ext cx="1368720" cy="10270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7"/>
          <p:cNvGrpSpPr/>
          <p:nvPr/>
        </p:nvGrpSpPr>
        <p:grpSpPr>
          <a:xfrm>
            <a:off x="3924360" y="3860640"/>
            <a:ext cx="1333440" cy="1495440"/>
            <a:chOff x="3924360" y="3860640"/>
            <a:chExt cx="1333440" cy="1495440"/>
          </a:xfrm>
        </p:grpSpPr>
        <p:graphicFrame>
          <p:nvGraphicFramePr>
            <p:cNvPr id="82" name="Object 2"/>
            <p:cNvGraphicFramePr/>
            <p:nvPr/>
          </p:nvGraphicFramePr>
          <p:xfrm>
            <a:off x="3924360" y="3860640"/>
            <a:ext cx="1333440" cy="149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24360" y="3860640"/>
                      <a:ext cx="1333440" cy="14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" name="Picture 24" descr="32[1]"/>
            <p:cNvPicPr/>
            <p:nvPr/>
          </p:nvPicPr>
          <p:blipFill>
            <a:blip r:embed="rId11"/>
            <a:stretch/>
          </p:blipFill>
          <p:spPr>
            <a:xfrm>
              <a:off x="3995640" y="4076640"/>
              <a:ext cx="1224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25" descr="tea"/>
          <p:cNvPicPr/>
          <p:nvPr/>
        </p:nvPicPr>
        <p:blipFill>
          <a:blip r:embed="rId12"/>
          <a:stretch/>
        </p:blipFill>
        <p:spPr>
          <a:xfrm>
            <a:off x="179280" y="3429000"/>
            <a:ext cx="115272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Дата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3DAD-38FE-4739-9275-CC9B6051C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1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57120" y="500040"/>
            <a:ext cx="8072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8900000"/>
                </a:gradFill>
                <a:latin typeface="Arial"/>
              </a:rPr>
              <a:t>ОСОБЕННОСТИ     СИЛЫ :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00040" y="2071800"/>
            <a:ext cx="5715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возникает при деформации, одновременно у двух тел, участвующих в де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перпендикулярно деформируем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противоположна по направлению смещению частиц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6"/>
          <p:cNvGrpSpPr/>
          <p:nvPr/>
        </p:nvGrpSpPr>
        <p:grpSpPr>
          <a:xfrm>
            <a:off x="5938920" y="2786040"/>
            <a:ext cx="3205080" cy="1871640"/>
            <a:chOff x="5938920" y="2786040"/>
            <a:chExt cx="3205080" cy="1871640"/>
          </a:xfrm>
        </p:grpSpPr>
        <p:pic>
          <p:nvPicPr>
            <p:cNvPr id="92" name="Picture 9" descr="J0223788"/>
            <p:cNvPicPr/>
            <p:nvPr/>
          </p:nvPicPr>
          <p:blipFill>
            <a:blip r:embed="rId1"/>
            <a:stretch/>
          </p:blipFill>
          <p:spPr>
            <a:xfrm flipH="1">
              <a:off x="5938920" y="3357360"/>
              <a:ext cx="212256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0" descr="J0223788"/>
            <p:cNvPicPr/>
            <p:nvPr/>
          </p:nvPicPr>
          <p:blipFill>
            <a:blip r:embed="rId2"/>
            <a:stretch/>
          </p:blipFill>
          <p:spPr>
            <a:xfrm>
              <a:off x="7380360" y="3357360"/>
              <a:ext cx="1763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27R3"/>
            <p:cNvPicPr/>
            <p:nvPr/>
          </p:nvPicPr>
          <p:blipFill>
            <a:blip r:embed="rId3"/>
            <a:stretch/>
          </p:blipFill>
          <p:spPr>
            <a:xfrm>
              <a:off x="6861240" y="2786040"/>
              <a:ext cx="1328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793A-5CC1-46EF-B2A9-9AC1B6375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9"/>
          <p:cNvSpPr/>
          <p:nvPr/>
        </p:nvSpPr>
        <p:spPr>
          <a:xfrm>
            <a:off x="32767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000080" y="64296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Сила упругости - сила, возникающая при деформации тела и направленная в сторону, противоположную направлению смещения частиц тела при де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E:\физика\плакаты по физике\vzaimod.gif"/>
          <p:cNvPicPr/>
          <p:nvPr/>
        </p:nvPicPr>
        <p:blipFill>
          <a:blip r:embed="rId1"/>
          <a:srcRect l="4998" t="51250" r="42500" b="17499"/>
          <a:stretch/>
        </p:blipFill>
        <p:spPr>
          <a:xfrm>
            <a:off x="2071800" y="3714840"/>
            <a:ext cx="4800600" cy="21430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4"/>
          <p:cNvCxnSpPr/>
          <p:nvPr/>
        </p:nvCxnSpPr>
        <p:spPr>
          <a:xfrm flipH="1">
            <a:off x="2428560" y="4856760"/>
            <a:ext cx="257256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1" name="Прямоугольник 7" descr=""/>
          <p:cNvPicPr/>
          <p:nvPr/>
        </p:nvPicPr>
        <p:blipFill>
          <a:blip r:embed="rId2"/>
          <a:stretch/>
        </p:blipFill>
        <p:spPr>
          <a:xfrm>
            <a:off x="1395360" y="5383080"/>
            <a:ext cx="1287360" cy="1170000"/>
          </a:xfrm>
          <a:prstGeom prst="rect">
            <a:avLst/>
          </a:prstGeom>
          <a:ln w="0">
            <a:noFill/>
          </a:ln>
        </p:spPr>
      </p:pic>
      <p:sp>
        <p:nvSpPr>
          <p:cNvPr id="102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B5B-7883-4A5C-AB9B-E00420FFC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8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12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12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547640" y="189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Arial"/>
              </a:rPr>
              <a:t>ЗАКОН ГУ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119700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Был открыт Робертом Гуком в 167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85840" y="2214720"/>
            <a:ext cx="58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ила упругости, возникающая в теле при упругих деформациях, прямо пропорциональна его удли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214280" y="4643280"/>
            <a:ext cx="3918240" cy="1047600"/>
            <a:chOff x="1214280" y="4643280"/>
            <a:chExt cx="3918240" cy="1047600"/>
          </a:xfrm>
        </p:grpSpPr>
        <p:sp>
          <p:nvSpPr>
            <p:cNvPr id="109" name="WordArt 7"/>
            <p:cNvSpPr txBox="1"/>
            <p:nvPr/>
          </p:nvSpPr>
          <p:spPr>
            <a:xfrm>
              <a:off x="1214280" y="4643280"/>
              <a:ext cx="385776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"/>
                </a:rPr>
                <a:t>F    = - k  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  <a:ea typeface="Arial"/>
              </a:endParaRPr>
            </a:p>
          </p:txBody>
        </p:sp>
        <p:sp>
          <p:nvSpPr>
            <p:cNvPr id="110" name="WordArt 8"/>
            <p:cNvSpPr txBox="1"/>
            <p:nvPr/>
          </p:nvSpPr>
          <p:spPr>
            <a:xfrm>
              <a:off x="1628640" y="5157720"/>
              <a:ext cx="8096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"/>
                </a:rPr>
                <a:t>упр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  <a:ea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786200" y="4714560"/>
              <a:ext cx="346320" cy="63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ffcc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Arial"/>
                </a:rPr>
                <a:t>L</a:t>
              </a:r>
              <a:endParaRPr b="1" lang="en-US" sz="1800" spc="1" strike="noStrike">
                <a:ln w="25560">
                  <a:solidFill>
                    <a:srgbClr val="ffcc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  <p:pic>
        <p:nvPicPr>
          <p:cNvPr id="112" name="Picture 11" descr="Гук"/>
          <p:cNvPicPr/>
          <p:nvPr/>
        </p:nvPicPr>
        <p:blipFill>
          <a:blip r:embed="rId7"/>
          <a:stretch/>
        </p:blipFill>
        <p:spPr>
          <a:xfrm>
            <a:off x="6659640" y="1052640"/>
            <a:ext cx="1800000" cy="2314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928800" y="58420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жёсткость пружины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/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 – удлинение тел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ата 10"/>
          <p:cNvSpPr/>
          <p:nvPr/>
        </p:nvSpPr>
        <p:spPr>
          <a:xfrm>
            <a:off x="755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3B1-AA85-4BBF-8EF3-5C4555DC7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24000" y="26028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55261c"/>
                    </a:gs>
                  </a:gsLst>
                  <a:lin ang="18900000"/>
                </a:gradFill>
                <a:latin typeface="Arial"/>
              </a:rPr>
              <a:t>Применение силы упругост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5261c"/>
                  </a:gs>
                  <a:gs pos="100000">
                    <a:srgbClr val="55261c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18" name="Picture 6" descr="J0236227"/>
          <p:cNvPicPr/>
          <p:nvPr/>
        </p:nvPicPr>
        <p:blipFill>
          <a:blip r:embed="rId1"/>
          <a:stretch/>
        </p:blipFill>
        <p:spPr>
          <a:xfrm>
            <a:off x="571680" y="4713120"/>
            <a:ext cx="1571400" cy="214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J0223744"/>
          <p:cNvPicPr/>
          <p:nvPr/>
        </p:nvPicPr>
        <p:blipFill>
          <a:blip r:embed="rId2"/>
          <a:stretch/>
        </p:blipFill>
        <p:spPr>
          <a:xfrm>
            <a:off x="2928960" y="4462560"/>
            <a:ext cx="2571840" cy="239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ars-anim"/>
          <p:cNvPicPr/>
          <p:nvPr/>
        </p:nvPicPr>
        <p:blipFill>
          <a:blip r:embed="rId3"/>
          <a:stretch/>
        </p:blipFill>
        <p:spPr>
          <a:xfrm>
            <a:off x="6072120" y="4572000"/>
            <a:ext cx="277200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428760" y="157176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Силы упругости работают в технике и природе: в часовых механизмах, в амортизаторах на транспорте, в канатах и тросах, в человеческих костях и мышцах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DE2-3AFF-4A07-8333-076875E5F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BF63-0BE2-4C56-ABAB-3F371F490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24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му равна сила упругости пружины, если она растягивается на 25 см, а ее жесткость равна 200 Н/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357120" y="1428840"/>
            <a:ext cx="2286000" cy="2409480"/>
            <a:chOff x="357120" y="1428840"/>
            <a:chExt cx="2286000" cy="2409480"/>
          </a:xfrm>
        </p:grpSpPr>
        <p:sp>
          <p:nvSpPr>
            <p:cNvPr id="127" name="TextBox 2"/>
            <p:cNvSpPr/>
            <p:nvPr/>
          </p:nvSpPr>
          <p:spPr>
            <a:xfrm>
              <a:off x="428400" y="1428840"/>
              <a:ext cx="221472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а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=200 H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/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х=2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F=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4"/>
            <p:cNvSpPr/>
            <p:nvPr/>
          </p:nvSpPr>
          <p:spPr>
            <a:xfrm>
              <a:off x="357120" y="2786040"/>
              <a:ext cx="214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6"/>
            <p:cNvSpPr/>
            <p:nvPr/>
          </p:nvSpPr>
          <p:spPr>
            <a:xfrm flipH="1">
              <a:off x="2428920" y="1430280"/>
              <a:ext cx="1440" cy="18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0"/>
          <p:cNvSpPr/>
          <p:nvPr/>
        </p:nvSpPr>
        <p:spPr>
          <a:xfrm>
            <a:off x="3929040" y="15717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2714760" y="2286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 см = 0,2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2857680" y="307188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 = x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1143000" y="421488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 = 0,25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 · 200 Н/м = 50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929040" y="54291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вет: 50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CE1A-55A3-4272-AFD4-3FC2C146D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17"/>
          <p:cNvSpPr/>
          <p:nvPr/>
        </p:nvSpPr>
        <p:spPr>
          <a:xfrm>
            <a:off x="313200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1:47:10Z</dcterms:created>
  <dc:creator>Admin</dc:creator>
  <dc:description/>
  <dc:language>en-US</dc:language>
  <cp:lastModifiedBy>user</cp:lastModifiedBy>
  <dcterms:modified xsi:type="dcterms:W3CDTF">2011-02-27T12:32:23Z</dcterms:modified>
  <cp:revision>24</cp:revision>
  <dc:subject/>
  <dc:title>Сила упругости</dc:title>
</cp:coreProperties>
</file>