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notesMasterIdLst>
    <p:notesMasterId r:id="rId19"/>
  </p:notes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  <p:sldId id="267" r:id="rId31"/>
    <p:sldId id="268" r:id="rId32"/>
    <p:sldId id="269" r:id="rId33"/>
    <p:sldId id="270" r:id="rId34"/>
    <p:sldId id="271" r:id="rId35"/>
    <p:sldId id="272" r:id="rId36"/>
    <p:sldId id="273" r:id="rId37"/>
    <p:sldId id="274" r:id="rId38"/>
    <p:sldId id="275" r:id="rId39"/>
    <p:sldId id="276" r:id="rId40"/>
    <p:sldId id="277" r:id="rId41"/>
    <p:sldId id="278" r:id="rId42"/>
    <p:sldId id="279" r:id="rId43"/>
    <p:sldId id="280" r:id="rId44"/>
    <p:sldId id="281" r:id="rId45"/>
    <p:sldId id="282" r:id="rId4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notesMaster" Target="notesMasters/notesMaster1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slide" Target="slides/slide12.xml"/><Relationship Id="rId32" Type="http://schemas.openxmlformats.org/officeDocument/2006/relationships/slide" Target="slides/slide13.xml"/><Relationship Id="rId33" Type="http://schemas.openxmlformats.org/officeDocument/2006/relationships/slide" Target="slides/slide14.xml"/><Relationship Id="rId34" Type="http://schemas.openxmlformats.org/officeDocument/2006/relationships/slide" Target="slides/slide15.xml"/><Relationship Id="rId35" Type="http://schemas.openxmlformats.org/officeDocument/2006/relationships/slide" Target="slides/slide16.xml"/><Relationship Id="rId36" Type="http://schemas.openxmlformats.org/officeDocument/2006/relationships/slide" Target="slides/slide17.xml"/><Relationship Id="rId37" Type="http://schemas.openxmlformats.org/officeDocument/2006/relationships/slide" Target="slides/slide18.xml"/><Relationship Id="rId38" Type="http://schemas.openxmlformats.org/officeDocument/2006/relationships/slide" Target="slides/slide19.xml"/><Relationship Id="rId39" Type="http://schemas.openxmlformats.org/officeDocument/2006/relationships/slide" Target="slides/slide20.xml"/><Relationship Id="rId40" Type="http://schemas.openxmlformats.org/officeDocument/2006/relationships/slide" Target="slides/slide21.xml"/><Relationship Id="rId41" Type="http://schemas.openxmlformats.org/officeDocument/2006/relationships/slide" Target="slides/slide22.xml"/><Relationship Id="rId42" Type="http://schemas.openxmlformats.org/officeDocument/2006/relationships/slide" Target="slides/slide23.xml"/><Relationship Id="rId43" Type="http://schemas.openxmlformats.org/officeDocument/2006/relationships/slide" Target="slides/slide24.xml"/><Relationship Id="rId44" Type="http://schemas.openxmlformats.org/officeDocument/2006/relationships/slide" Target="slides/slide25.xml"/><Relationship Id="rId45" Type="http://schemas.openxmlformats.org/officeDocument/2006/relationships/slide" Target="slides/slide26.xml"/><Relationship Id="rId46" Type="http://schemas.openxmlformats.org/officeDocument/2006/relationships/slide" Target="slides/slide27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move the slide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PlaceHolder 4"/>
          <p:cNvSpPr>
            <a:spLocks noGrp="1"/>
          </p:cNvSpPr>
          <p:nvPr>
            <p:ph type="dt" idx="50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PlaceHolder 5"/>
          <p:cNvSpPr>
            <a:spLocks noGrp="1"/>
          </p:cNvSpPr>
          <p:nvPr>
            <p:ph type="ftr" idx="51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PlaceHolder 6"/>
          <p:cNvSpPr>
            <a:spLocks noGrp="1"/>
          </p:cNvSpPr>
          <p:nvPr>
            <p:ph type="sldNum" idx="52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065CE3-8604-42E0-B9A5-2E66F296617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BD93A4-46D3-4B7A-A260-199AC5B2EA1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99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E53B66-84F6-47A3-9BD4-39F5D02EA3C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01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676688-405E-430F-8B27-58236094F30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01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E5B64D-75CE-4B12-83D9-B587028BEE1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02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7AFCFD-4F6F-4174-A953-762BB7578EC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02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D01299-BC97-4B2E-ABCA-5A2FE184328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7C6655-BA3F-47F6-903D-67B91CD8BBA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02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7B29B4-CBE9-4BA2-93EC-2692B970E23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03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4527E8-1F66-4AE6-987D-8E0B6DD7BEC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03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8E16EC-CCCF-4E69-B626-957653F8D4E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03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78DCC2-06FD-4927-B24F-3C382C7455C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04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676D17-B087-4C92-8E8B-DDC8A04DDF6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04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3B17E9-311D-49E4-B371-F9C03046B12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04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4B36D7-830A-422C-8370-F6A43BED04D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05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40D7B7-2752-48AF-94AA-75B4311E7F2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05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5D507D-1CF5-4225-8DF1-B281A7FCDE9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05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720C2A-9554-41E0-803A-5FD6032A537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05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0C74FA-561D-4EF3-B7DE-081F888427A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06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2D06F7-2BE3-4844-93D4-8D6A4A628F6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06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7A7387-5755-4ECC-BAAE-AB977748E5D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99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13E6EB-66B2-47FC-8936-2EB40D58964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1B53FD-98DB-455B-8F69-51178DBFBFD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99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21469F-4D4D-4A85-B1CD-3A91C67C9E6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9BFC23-A643-422E-9FDD-4AACAA7D3A9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00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6B4370-3C68-4FBD-81B1-09C4B32041F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00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7197F7-1C57-44A2-9B59-582C8AF4FF7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01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9A69E-D70A-4C48-A2AA-55210E71A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4B913-5674-4BBD-8255-5371B5613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5461CC-99F7-4EEC-BF00-BDA3D819B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6A2D9F-33DE-46AB-AFED-AF7D20E00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7BC27B-362B-4ECF-AA3D-DFC4113FC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BA031E-EE90-437E-8134-3C1954F2E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CDC560-7356-4241-95C0-45DB9805D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3C26BA-9AD0-4A0D-9B7C-9F57322DD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1B0BA3-34E5-48C4-92EA-CD42784E1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25C019-AF0C-45CC-B216-9B461EFCA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AAC64A-F022-4F48-8B28-23DDD6685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CD6340-604D-4949-A225-0BC6E33FD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B5E51-CAB0-4B32-B308-4D4DE9694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0BC6C7-6D7A-4E7D-B3B4-64D4D280B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7380E0-6A9B-4F47-97FF-C6AF05D81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2ACBC6-E052-4C2D-9524-45D0835EC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3E7A63-38EE-4F8B-AB0A-EF7ED471D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232874-4761-4C6C-A4DB-A187CEBF2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EF1758-9F30-446A-84DA-60DABB26D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A53FC3-25B3-40B5-BE61-3751C268B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2712E3-38A8-4192-86B9-60420E89B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13B033-942D-491F-A572-C74217341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ABF12D-8BB9-45AD-9B57-35005D35E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1BF0E-223F-4948-9F6A-5A0B33ECA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2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2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DF5919-DEB7-4702-9F88-FEBCE15B1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461DE47-A544-40DD-9F11-27AA39B90260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94195B4-7C42-40EA-B80D-09EC27E39409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6B8833F-BD57-48A3-AEB8-8218DB592A2A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56C7E81-BA14-48DD-B57C-7C0F40302C21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BDE0191-FFC9-4374-9C1A-141556D81957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2627454-E959-4BA9-8A0C-666A0A1FDF68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B852D1F-DE5A-4FEE-92C6-CC22CE1F530A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EFE2886-1C32-4163-840C-51FADCF3EF90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7153B1D-CCF8-4E18-B499-9FA42AB9E5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7462D-4603-483B-83EA-59EA8CDB3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2E6F822-27F7-43C1-91F1-42506A7AD6EB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692D5A7-8F18-4E17-B731-675317645079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7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7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5FD7828-A424-4645-949A-B5F274B92916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744B900-394F-4695-9755-082B88E62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213DEFE-FC18-47C6-9958-999EA20BD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4B0743C-03D2-4730-92CB-AB62A5166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3786D1D-C25A-4FBA-88A3-3D6219862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4C762FE-EA39-4E37-8EFA-7F45E150E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5C60B33-1AF5-4114-BB55-26A8C7FB6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0D4C3B3-7BF0-4EF4-943F-D289D7FFE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BD12A-0EE7-46D4-AFCC-93193F4AB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00D6591-D0CC-4CB3-AB92-90E46BF2D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E1D1F7C-C5DF-403B-A70A-69EE8A37F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5233E11-F5A1-4A69-95C3-077274275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22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9A38072-75A3-40AB-9233-CB2265303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27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28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29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0B7AAE3-46C6-4AA5-9209-6FB819B60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36A6DF01-FB05-419A-9121-3E264EB2A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56A61094-0979-4046-9115-AC4AF9B92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A140F82E-F968-45D3-B2C7-608DD88F9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E974FC86-4407-4E94-9866-9375930E1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9CC100E0-14A6-42D9-9419-A62201A6E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03FEB-5BF5-4CF0-B63C-D7771B0ED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C3A277CD-4E6F-447F-B7A5-3DE1319F3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91C93BFA-F8A7-4EB4-AEFC-6D4D43183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17C7B6C9-6D5F-40C2-A85E-35A1E71DE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D54D30A1-0932-4223-BED0-74B40CC93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2A7A2CAF-2FB6-4CC0-BA84-038E2E319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7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A74ED39A-DADF-44C3-A580-1CD393B5D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8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8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7BBE24A4-19D9-41CA-8FF3-99FD74832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82A2F42C-5256-4369-846A-E2A68A344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22C85A66-4488-446B-ACD9-D304D2F5D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87B1DA39-583B-4BBC-A9B1-A392B7717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009D5-9892-4142-AECF-98F7C45D7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E2C0E324-41F8-4C60-B45F-D65A09AE5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94ECD9CE-721C-4D71-8857-3D72C40FB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6A87671F-48A7-4E86-B1CC-026551824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87AEF143-7889-463D-BD00-F9D16B544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58096A18-9384-42F7-A727-17306D6DE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76295D3D-16A1-4CA6-8A5F-382BAEE21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26C5DD57-516E-46B7-88B1-D1FF88574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C47C76C0-A198-4E05-8303-F8451E963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B826C169-1DB2-4C4A-9B6D-D3D26AFF8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CD024B0A-5482-42CF-BB8F-D56211842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FC90F-00C7-4A34-85ED-B31A94A4D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DA7C6FDD-12A9-41F4-8607-5348E8CA2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250F74CB-7A8E-4B7B-AB96-068BEDAC0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CB06D7E2-A584-41E8-9F8C-865327516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9DEE09C6-E302-4151-8524-F828D5D91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470D0AE9-E9E7-4217-89D7-CD4865202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B3B88967-0BF8-4EE0-BFEB-CD8AD74C1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846C0ABE-A195-4A36-8C78-62A12B897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38EF30A3-A20D-45AA-B20C-AC5F12B67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9738B4C0-9168-43BB-936A-4C6BE9618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A31F19F2-BBF3-4FEC-A653-9BCE84FE7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9818A-9898-40E6-9159-00B556975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7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8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9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99C95316-7F8D-465F-8051-3F0A2B314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D22D3799-B36C-4273-B794-F0E1DF654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3B9158F5-327E-47E3-9C37-DE25FF27B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D4526598-EF24-4739-ADC5-24B644502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65B4D21A-05C2-48F6-827B-224FDA0A2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FB11BF0F-ADAD-4450-B3A5-0D446A775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91FEED7C-47D0-416F-96B9-294310615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BC7B25E5-D1C4-4BF3-A0E1-238B6CCA1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3C7596F4-F1DC-4B91-A6A4-08EBEBFDF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789A1CCF-FBB6-4621-A8EF-881F5629D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2F5FB-0B6F-45A0-94A7-592303CD8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5A6DC6D7-7DD9-45DD-B5B5-CA65AA150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61500EAB-3652-43B8-9D9E-A43EEC11B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67D97EAD-89BA-4725-ABE3-9033DE7EE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83E3C946-7388-4AC5-AE08-B2A93AD6F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30FF05C6-A1BA-4005-AA67-F6500CDFD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C708A506-B9D4-4C52-84F4-319CACAE9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EA8F9084-2FE2-4543-9ACE-4F8AB29A1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57031B9B-D947-46AB-914C-A9D8E4AD1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56DCC38D-B40A-4AB6-81B5-DE6D809AA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9A6230FC-E861-4593-BE23-9056F2D27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4C123-5FD2-4838-B706-E35A79AC8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FDEEB-7C4D-475C-8166-BFB809F5A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BD236F73-AB73-4BF8-A1CF-4325A66A2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7A0A7030-BE3F-4970-A936-CE57FE15E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302D5361-2A60-4F26-A4D5-ADE5B2259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C008FE72-FB72-4A07-BB70-6F821DA42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E3706B88-1756-4398-A30F-A731BEE5F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53D50-5DF4-46AD-862B-6341B1940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A81BB-2EBA-4ABB-B568-ED11105D2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46D40-1E7A-40D5-8308-B31E613EB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D81A5-778F-4BB1-B098-A322C1F19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FA87A8-79B8-40BD-861C-FA6AD3C27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19B5F3-A833-4978-BDFA-7FEECC6FC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D49657-52C5-44F0-9FD4-E9E2AE2F2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9C05DA-5EA9-462D-A2B5-CED17133A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14F444-27F6-44E5-AF77-9EF76D0EC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21889-DCEA-476D-B485-7B367095A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837CEA-0396-4CCB-AC51-90A9D0362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D3D08B-39F3-4773-8040-633501F46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D899FF-451F-4669-A1E2-6615D5A9B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ACE9BD-B6F7-493A-BDD5-C49D675DD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99AB7D-4A55-427E-9E50-0F414F8D8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F2AF42-1D1D-42CD-B387-24631FB0A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C3112E-0237-4B99-B20D-5B53408D9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DF40CA-F47C-4797-B146-A14B1A0FF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97896A-1C1C-483C-A8BF-CA1333605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51E2B2-58D3-4692-81A7-A4AE2624B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526CC-B51D-40E5-8012-8BA59AC9C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18113F-E594-49C5-8D85-A6139D426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73BA46-4F56-4658-BF53-F1A1A809F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87E89C-BACA-4EE9-88E5-32E04EB01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6B750C-9DE5-4A58-B0F3-9C5BEEFE7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1C8A34-AA80-4C85-9B26-654ABDB05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118723-31F2-49D3-ABF5-34D686FD7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560829-6404-482F-8A93-97657A901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67184B-0AE9-41C1-B850-03C0BCF85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97A214-4557-4804-AA8D-0C09D27E1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8343EB-4E17-4081-AD81-D858FEE3F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D258A-68C8-47C8-9C57-64A3C0BDA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06703A-4CA0-4E0C-97E0-E2E38E76A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6B774F-B12E-4F6D-846D-CAB99F8DB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E2F53F-8053-4807-8313-15456F924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1BD61E-81F7-442E-9AD2-DC6FD8A7B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D7A9F6-EDE2-477A-BEB7-0EF109A48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F0C144-7CD1-4729-9FC0-E0CB8160E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5D9680-C2D2-4586-A2FD-3E14849F0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1B3E55-654A-4A35-8645-19CD51D04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0F6403-8347-4159-93D9-611A05B9A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4982F0-6157-440C-B0F9-23ED195B9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B168F-9ECB-43F2-964B-654459978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4F1435-5F8B-4F39-944E-8833F53EB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53B095-8E1D-47E8-BF59-1DEF77CFA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A26D76-0BFC-4075-92A3-2F6FF88FD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15D37B-F5F3-4447-BD1B-880579683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C0470B-4119-4B3B-B5E6-807FC3C37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1EC6EB-1778-42CF-BD8A-DE8DC2A3A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F68032-4DE9-4E4E-9504-FF2B033A3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26E8C1-4BBA-4C75-8B28-DEB2CE1E5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8EF954-AFD3-4B9F-A16D-59B8E0FA5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328CFF-28D6-4E51-AD44-17CBB8132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7C40D-5D93-450E-9FEA-972196A6E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0E0BE3-ADDF-46C0-9E8D-EAF9C6FBF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1DBA7F-4749-4F76-A4FE-034AA8F93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C3D0AF-7CF2-4736-BDFF-E0D124955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26F522-A60C-492B-B3BF-5562AF11E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F0C972-0FC3-41B0-8713-41BC543DD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07007F-BC9B-42E9-B2C2-933282E5B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7BA819-F0E8-49AE-BD09-E51E54112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E8073C-C8F1-4856-A163-EE52DBD2A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C4A4DE-1971-4757-9038-DEAF88A1C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9BA883-F6B2-42F3-9C9F-8F879D64B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467F7-8A0A-46C2-8EDB-ED36D762F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DC7572-1609-4A0F-B1BC-1F91C96BC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5E004A-4957-4672-9763-A15CDEBA7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75B053-F47C-4BD0-B811-62EAAB5AE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17C6BE-1043-40B3-9005-E14021F10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55A70E-BC64-4828-BEB1-8DDF60F82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6493CB-525F-4D82-8127-4A18E2524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6F7FDC-FAA9-4966-A349-A4B6833A7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CA313F-8BCF-400E-AF69-292B1B579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BD9883-7629-4B04-A971-664AED0F8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161C9D-A8B9-405B-B8C1-C2FED6D4C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EA0A4-F701-43B0-9108-7970BAF47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0BC5D7-069A-4813-8691-C035AF234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D75C45-F4DB-46B4-9F43-179C82E64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78C7B5-52F1-45C2-BEC9-E20A8A399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06603D-E5A1-4FE5-98B1-1ED8D2974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B79370-B01F-4240-B0F3-75EE2ECE4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918D66-79C4-4AE5-84B5-BA00628EA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38C6AD-A1C8-4D7B-95F3-3692A4C5D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C7CFEA-BD44-43B2-9D27-5EA19B598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6FEC1F-42F4-4946-AA51-321048E18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A7341F-8DC2-49A1-B9BA-420D2563E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E2367ED-050C-4CBE-8645-C64DD1A2CDAE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47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5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 type="dt" idx="28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 type="ftr" idx="29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 type="sldNum" idx="30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B7DB82A-FF8F-4A9D-8EA7-2D640B75ABFA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2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 type="sldNum" idx="31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0DD31C2-D5D3-4DBC-B977-76C01AACFA39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8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79" name="Straight Connector 16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Straight Connector 17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Freeform 18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Freeform 19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Freeform 20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Freeform 21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Freeform 22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Freeform 23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Freeform 24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Freeform 27"/>
            <p:cNvSpPr/>
            <p:nvPr/>
          </p:nvSpPr>
          <p:spPr>
            <a:xfrm>
              <a:off x="-7920" y="-7920"/>
              <a:ext cx="863280" cy="569736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 type="dt" idx="32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 type="ftr" idx="33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5"/>
          <p:cNvSpPr>
            <a:spLocks noGrp="1"/>
          </p:cNvSpPr>
          <p:nvPr>
            <p:ph type="sldNum" idx="34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2CE6E9F-F75D-49DA-B95C-36B8C06AF6EC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63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1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 type="dt" idx="35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 type="ftr" idx="36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5"/>
          <p:cNvSpPr>
            <a:spLocks noGrp="1"/>
          </p:cNvSpPr>
          <p:nvPr>
            <p:ph type="sldNum" idx="37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C4933A2-659E-4FAB-A372-58FF06079D58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68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5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dt" idx="38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ftr" idx="39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sldNum" idx="40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7EDC10E-EEC8-4554-BA75-52DEDBC45C96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8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739" name="Straight Connector 16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Straight Connector 17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Freeform 18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Freeform 19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Freeform 20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Freeform 21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Freeform 22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Freeform 23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Freeform 24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Freeform 27"/>
            <p:cNvSpPr/>
            <p:nvPr/>
          </p:nvSpPr>
          <p:spPr>
            <a:xfrm>
              <a:off x="-7920" y="-7920"/>
              <a:ext cx="863280" cy="569736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 type="dt" idx="4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 type="ftr" idx="4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5"/>
          <p:cNvSpPr>
            <a:spLocks noGrp="1"/>
          </p:cNvSpPr>
          <p:nvPr>
            <p:ph type="sldNum" idx="4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1F3DF14-096F-4DD8-AED4-928D6545DBA9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79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1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 type="dt" idx="4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 type="ftr" idx="4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5"/>
          <p:cNvSpPr>
            <a:spLocks noGrp="1"/>
          </p:cNvSpPr>
          <p:nvPr>
            <p:ph type="sldNum" idx="4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BE884F1-6BA1-4D63-B494-7660004DDBDA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84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5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 type="dt" idx="4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 type="ftr" idx="4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5"/>
          <p:cNvSpPr>
            <a:spLocks noGrp="1"/>
          </p:cNvSpPr>
          <p:nvPr>
            <p:ph type="sldNum" idx="4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2369785-1899-4914-8B36-165D0630B772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D3634AE-D59C-4A07-AFCD-D4C6818C4F89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14FB529-CCD1-4A0B-ACF9-75BABE60A9A5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57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92A8C7A-8F1F-4CBB-B6D5-3D6DFF17F967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8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209" name="Straight Connector 16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Straight Connector 17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18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19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20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21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22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23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24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27"/>
            <p:cNvSpPr/>
            <p:nvPr/>
          </p:nvSpPr>
          <p:spPr>
            <a:xfrm>
              <a:off x="-7920" y="-7920"/>
              <a:ext cx="863280" cy="569736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3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4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5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3C0DCB0-B4D2-4246-AE9F-5252E2F58DC9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26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1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16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ftr" idx="17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sldNum" idx="18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4F9D380-03E9-4FD6-BA9F-AAB911F6DB00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31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5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C03605D-027D-4CB1-9329-A4DF8E4B6EF7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8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369" name="Straight Connector 16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Straight Connector 17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Freeform 18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Freeform 19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Freeform 20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Freeform 21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Freeform 22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Freeform 23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Freeform 24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Freeform 27"/>
            <p:cNvSpPr/>
            <p:nvPr/>
          </p:nvSpPr>
          <p:spPr>
            <a:xfrm>
              <a:off x="-7920" y="-7920"/>
              <a:ext cx="863280" cy="569736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 type="dt" idx="22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 type="ftr" idx="23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 type="sldNum" idx="24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70A6BA5-5D39-4E3E-8ECF-3827FF54131A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42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1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dt" idx="25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 type="ftr" idx="26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 type="sldNum" idx="27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E23CCC6-8605-47DB-A582-00876B1A5F0E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numi.ru/fullview.php?id=5247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685800" y="1807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5900" spc="-1" strike="noStrike">
                <a:solidFill>
                  <a:srgbClr val="0070c0"/>
                </a:solidFill>
                <a:latin typeface="Trebuchet MS"/>
              </a:rPr>
              <a:t> </a:t>
            </a:r>
            <a:r>
              <a:rPr b="1" lang="ru-RU" sz="5900" spc="-1" strike="noStrike">
                <a:solidFill>
                  <a:srgbClr val="0070c0"/>
                </a:solidFill>
                <a:latin typeface="Trebuchet MS"/>
              </a:rPr>
              <a:t>окружающий мир</a:t>
            </a:r>
            <a:br>
              <a:rPr sz="5900"/>
            </a:br>
            <a:endParaRPr b="0" lang="en-US" sz="5900" spc="-1" strike="noStrike">
              <a:solidFill>
                <a:srgbClr val="90c226"/>
              </a:solidFill>
              <a:latin typeface="Trebuchet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Rectangle 1"/>
          <p:cNvSpPr/>
          <p:nvPr/>
        </p:nvSpPr>
        <p:spPr>
          <a:xfrm>
            <a:off x="785880" y="1500120"/>
            <a:ext cx="7429320" cy="453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) фронтальные письменные работы частично-поискового характер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) групповые самостоятельные работ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) комбинированные задани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 индивидуальная работ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 парная работ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)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ворческая коллективная рабо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90c226"/>
                </a:solidFill>
                <a:latin typeface="Trebuchet MS"/>
              </a:rPr>
              <a:t>Форма организации самостоятельной работы</a:t>
            </a: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При работе с учебником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9" name="Rectangle 2"/>
          <p:cNvSpPr/>
          <p:nvPr/>
        </p:nvSpPr>
        <p:spPr>
          <a:xfrm>
            <a:off x="857160" y="1500120"/>
            <a:ext cx="7429680" cy="47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ставление пла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дания на соответствие (на знание и запоминание определений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дания на выявление общих закономерност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рминологический диктан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ставление, заполнение таблиц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При творческих видах работы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41" name="Rectangle 2"/>
          <p:cNvSpPr/>
          <p:nvPr/>
        </p:nvSpPr>
        <p:spPr>
          <a:xfrm>
            <a:off x="1000080" y="1785960"/>
            <a:ext cx="750096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россворд, ребус, тест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думывание сказ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Rectangle 3"/>
          <p:cNvSpPr/>
          <p:nvPr/>
        </p:nvSpPr>
        <p:spPr>
          <a:xfrm>
            <a:off x="1285920" y="3857760"/>
            <a:ext cx="607212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пособы проверки знаний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) использование тесто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) заданий для самопроверки правильности ответ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90c226"/>
                </a:solidFill>
                <a:latin typeface="Trebuchet MS"/>
              </a:rPr>
              <a:t>При исследовательской деятельности</a:t>
            </a: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44" name="Rectangle 2"/>
          <p:cNvSpPr/>
          <p:nvPr/>
        </p:nvSpPr>
        <p:spPr>
          <a:xfrm>
            <a:off x="785880" y="1643040"/>
            <a:ext cx="7215120" cy="30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актические работы, опы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иск информации в дополнительной литератур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285840" y="285840"/>
            <a:ext cx="8534160" cy="75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90c226"/>
                </a:solidFill>
                <a:latin typeface="Trebuchet MS"/>
              </a:rPr>
              <a:t>Условия при планировании </a:t>
            </a:r>
            <a:br>
              <a:rPr sz="3200"/>
            </a:br>
            <a:r>
              <a:rPr b="0" lang="en-US" sz="3200" spc="-1" strike="noStrike">
                <a:solidFill>
                  <a:srgbClr val="90c226"/>
                </a:solidFill>
                <a:latin typeface="Trebuchet MS"/>
              </a:rPr>
              <a:t>самостоятельной работы</a:t>
            </a: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46" name="Rectangle 2"/>
          <p:cNvSpPr/>
          <p:nvPr/>
        </p:nvSpPr>
        <p:spPr>
          <a:xfrm>
            <a:off x="642960" y="1500120"/>
            <a:ext cx="7572240" cy="155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амостоятельное изучение нового материала можно организовать только тогда, когда его содержание раскрывается в значительной мере на основе приобретенных ранее знаний и ум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Rectangle 3"/>
          <p:cNvSpPr/>
          <p:nvPr/>
        </p:nvSpPr>
        <p:spPr>
          <a:xfrm>
            <a:off x="642960" y="3857760"/>
            <a:ext cx="6572160" cy="155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амостоятельно и активно разбираться в новом материале учащихся будут тогда, когда учитель сумеет пробудить в них интерес к  исследован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90c226"/>
                </a:solidFill>
                <a:latin typeface="Times New Roman"/>
              </a:rPr>
              <a:t>УМК в начальной школе</a:t>
            </a:r>
            <a:br>
              <a:rPr sz="3600"/>
            </a:br>
            <a:r>
              <a:rPr b="1" lang="en-US" sz="3600" spc="-1" strike="noStrike">
                <a:solidFill>
                  <a:srgbClr val="90c226"/>
                </a:solidFill>
                <a:latin typeface="Times New Roman"/>
              </a:rPr>
              <a:t>«Окружающий мир»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949" name="Picture 2" descr=""/>
          <p:cNvPicPr/>
          <p:nvPr/>
        </p:nvPicPr>
        <p:blipFill>
          <a:blip r:embed="rId1"/>
          <a:stretch/>
        </p:blipFill>
        <p:spPr>
          <a:xfrm>
            <a:off x="1600200" y="1643040"/>
            <a:ext cx="6027840" cy="452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90c226"/>
                </a:solidFill>
                <a:latin typeface="Times New Roman"/>
              </a:rPr>
              <a:t>УМК, используемые в традиционной системе обучения</a:t>
            </a: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graphicFrame>
        <p:nvGraphicFramePr>
          <p:cNvPr id="951" name=""/>
          <p:cNvGraphicFramePr/>
          <p:nvPr/>
        </p:nvGraphicFramePr>
        <p:xfrm>
          <a:off x="714240" y="1571760"/>
          <a:ext cx="7716960" cy="4465440"/>
        </p:xfrm>
        <a:graphic>
          <a:graphicData uri="http://schemas.openxmlformats.org/drawingml/2006/table">
            <a:tbl>
              <a:tblPr/>
              <a:tblGrid>
                <a:gridCol w="2571840"/>
                <a:gridCol w="2573280"/>
                <a:gridCol w="2571840"/>
              </a:tblGrid>
              <a:tr h="1361880">
                <a:tc>
                  <a:txBody>
                    <a:bodyPr lIns="90000" rIns="90000" tIns="5832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«Планета Знаний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.Г.Ивченкова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.В.Потап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5832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«Гармония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.Т.Поглазо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5832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«Начальная школа 21 век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.Ф.Виноградо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</a:tr>
              <a:tr h="1739880">
                <a:tc>
                  <a:txBody>
                    <a:bodyPr lIns="90000" rIns="90000" tIns="5832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«Перспектива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.А.Плешаков, М.Ю.Новицк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5832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«Школа России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.А.Плешак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5832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«Перспективная начальная школа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.Н.Федотова, Г.Ф.Трафимова, С.А.Трафимов</a:t>
                      </a: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</a:tr>
              <a:tr h="1363680">
                <a:tc>
                  <a:txBody>
                    <a:bodyPr lIns="90000" rIns="90000" tIns="5832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«Классическая начальная школа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.А.Вахруше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6156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5832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«Школа 2100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.А.Вахруше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7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90c226"/>
                </a:solidFill>
                <a:latin typeface="Times New Roman"/>
              </a:rPr>
              <a:t>Комплекты пособий </a:t>
            </a:r>
            <a:br>
              <a:rPr sz="3600"/>
            </a:br>
            <a:r>
              <a:rPr b="1" lang="en-US" sz="3600" spc="-1" strike="noStrike">
                <a:solidFill>
                  <a:srgbClr val="90c226"/>
                </a:solidFill>
                <a:latin typeface="Times New Roman"/>
              </a:rPr>
              <a:t>по программам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953" name="Picture 2" descr=""/>
          <p:cNvPicPr/>
          <p:nvPr/>
        </p:nvPicPr>
        <p:blipFill>
          <a:blip r:embed="rId1"/>
          <a:stretch/>
        </p:blipFill>
        <p:spPr>
          <a:xfrm>
            <a:off x="2571840" y="2500200"/>
            <a:ext cx="3828960" cy="381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15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90c226"/>
                </a:solidFill>
                <a:latin typeface="Times New Roman"/>
              </a:rPr>
              <a:t>«Начальная школа 21 век» </a:t>
            </a:r>
            <a:br>
              <a:rPr sz="3200"/>
            </a:br>
            <a:r>
              <a:rPr b="1" lang="en-US" sz="2800" spc="-1" strike="noStrike">
                <a:solidFill>
                  <a:srgbClr val="90c226"/>
                </a:solidFill>
                <a:latin typeface="Times New Roman"/>
              </a:rPr>
              <a:t>Н.Ф.Виноградова</a:t>
            </a:r>
            <a:br>
              <a:rPr sz="3200"/>
            </a:br>
            <a:br>
              <a:rPr sz="3200"/>
            </a:br>
            <a:endParaRPr b="0" lang="en-US" sz="28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955" name="Picture 2" descr=""/>
          <p:cNvPicPr/>
          <p:nvPr/>
        </p:nvPicPr>
        <p:blipFill>
          <a:blip r:embed="rId1"/>
          <a:stretch/>
        </p:blipFill>
        <p:spPr>
          <a:xfrm>
            <a:off x="571680" y="1357200"/>
            <a:ext cx="2714400" cy="3487680"/>
          </a:xfrm>
          <a:prstGeom prst="rect">
            <a:avLst/>
          </a:prstGeom>
          <a:ln w="0">
            <a:noFill/>
          </a:ln>
        </p:spPr>
      </p:pic>
      <p:pic>
        <p:nvPicPr>
          <p:cNvPr id="956" name="Picture 3" descr=""/>
          <p:cNvPicPr/>
          <p:nvPr/>
        </p:nvPicPr>
        <p:blipFill>
          <a:blip r:embed="rId2"/>
          <a:stretch/>
        </p:blipFill>
        <p:spPr>
          <a:xfrm>
            <a:off x="1928880" y="3286080"/>
            <a:ext cx="2508120" cy="3286080"/>
          </a:xfrm>
          <a:prstGeom prst="rect">
            <a:avLst/>
          </a:prstGeom>
          <a:ln w="0">
            <a:noFill/>
          </a:ln>
        </p:spPr>
      </p:pic>
      <p:pic>
        <p:nvPicPr>
          <p:cNvPr id="957" name="Picture 4" descr=""/>
          <p:cNvPicPr/>
          <p:nvPr/>
        </p:nvPicPr>
        <p:blipFill>
          <a:blip r:embed="rId3"/>
          <a:stretch/>
        </p:blipFill>
        <p:spPr>
          <a:xfrm>
            <a:off x="6072120" y="1428840"/>
            <a:ext cx="2548080" cy="3362400"/>
          </a:xfrm>
          <a:prstGeom prst="rect">
            <a:avLst/>
          </a:prstGeom>
          <a:ln w="0">
            <a:noFill/>
          </a:ln>
        </p:spPr>
      </p:pic>
      <p:sp>
        <p:nvSpPr>
          <p:cNvPr id="958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Rectangle 6"/>
          <p:cNvSpPr/>
          <p:nvPr/>
        </p:nvSpPr>
        <p:spPr>
          <a:xfrm>
            <a:off x="4065480" y="2775240"/>
            <a:ext cx="10126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Rectangle 7"/>
          <p:cNvSpPr/>
          <p:nvPr/>
        </p:nvSpPr>
        <p:spPr>
          <a:xfrm>
            <a:off x="-1643040" y="58579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Rectangle 8"/>
          <p:cNvSpPr/>
          <p:nvPr/>
        </p:nvSpPr>
        <p:spPr>
          <a:xfrm>
            <a:off x="4343040" y="8271360"/>
            <a:ext cx="457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2" name="Picture 9" descr=""/>
          <p:cNvPicPr/>
          <p:nvPr/>
        </p:nvPicPr>
        <p:blipFill>
          <a:blip r:embed="rId4"/>
          <a:stretch/>
        </p:blipFill>
        <p:spPr>
          <a:xfrm>
            <a:off x="4500720" y="3286080"/>
            <a:ext cx="2428560" cy="324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Rectangle 1"/>
          <p:cNvSpPr/>
          <p:nvPr/>
        </p:nvSpPr>
        <p:spPr>
          <a:xfrm>
            <a:off x="2571840" y="428760"/>
            <a:ext cx="300024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Times New Roman"/>
              </a:rPr>
              <a:t>Оборудов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Rectangle 2"/>
          <p:cNvSpPr/>
          <p:nvPr/>
        </p:nvSpPr>
        <p:spPr>
          <a:xfrm>
            <a:off x="928800" y="1643040"/>
            <a:ext cx="4929120" cy="24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164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отоаппара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мпьют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ультимедийная установ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нтерактивная дос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удио и видео материал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Rectangle 3"/>
          <p:cNvSpPr/>
          <p:nvPr/>
        </p:nvSpPr>
        <p:spPr>
          <a:xfrm>
            <a:off x="2286000" y="1071720"/>
            <a:ext cx="3851280" cy="11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Техническое оборудован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Rectangle 4"/>
          <p:cNvSpPr/>
          <p:nvPr/>
        </p:nvSpPr>
        <p:spPr>
          <a:xfrm>
            <a:off x="3440160" y="3643200"/>
            <a:ext cx="388116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Электронное оборудо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Rectangle 5"/>
          <p:cNvSpPr/>
          <p:nvPr/>
        </p:nvSpPr>
        <p:spPr>
          <a:xfrm>
            <a:off x="2714760" y="4214880"/>
            <a:ext cx="564336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164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Цифровые образовательные програм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ультимедийные презентац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идеорол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удиозапис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772400" cy="1440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5400" spc="-1" strike="noStrike">
                <a:solidFill>
                  <a:srgbClr val="90c226"/>
                </a:solidFill>
                <a:latin typeface="Trebuchet MS"/>
              </a:rPr>
              <a:t>Технологии обучения</a:t>
            </a:r>
            <a:endParaRPr b="0" lang="en-US" sz="5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 type="subTitle"/>
          </p:nvPr>
        </p:nvSpPr>
        <p:spPr>
          <a:xfrm>
            <a:off x="685440" y="1628280"/>
            <a:ext cx="7086600" cy="40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3600" spc="-1" strike="noStrike">
                <a:solidFill>
                  <a:srgbClr val="7f7f7f"/>
                </a:solidFill>
                <a:latin typeface="Times New Roman"/>
                <a:ea typeface="Times New Roman"/>
              </a:rPr>
              <a:t>Проблемно-диалогическое 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3600" spc="-1" strike="noStrike">
                <a:solidFill>
                  <a:srgbClr val="7f7f7f"/>
                </a:solidFill>
                <a:latin typeface="Times New Roman"/>
                <a:ea typeface="Times New Roman"/>
              </a:rPr>
              <a:t>Экспериментально-исследовательское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Rectangle 1"/>
          <p:cNvSpPr/>
          <p:nvPr/>
        </p:nvSpPr>
        <p:spPr>
          <a:xfrm>
            <a:off x="2500200" y="642960"/>
            <a:ext cx="165132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Коллек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Rectangle 2"/>
          <p:cNvSpPr/>
          <p:nvPr/>
        </p:nvSpPr>
        <p:spPr>
          <a:xfrm>
            <a:off x="1071720" y="1071720"/>
            <a:ext cx="5429160" cy="26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164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уляжи фруктов и овощей, гриб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ллекции полезных ископаем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ербар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троительные материал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иды ткан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ллекция семя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Rectangle 3"/>
          <p:cNvSpPr/>
          <p:nvPr/>
        </p:nvSpPr>
        <p:spPr>
          <a:xfrm>
            <a:off x="5212440" y="3571920"/>
            <a:ext cx="134352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Маке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Rectangle 4"/>
          <p:cNvSpPr/>
          <p:nvPr/>
        </p:nvSpPr>
        <p:spPr>
          <a:xfrm>
            <a:off x="3429000" y="4214880"/>
            <a:ext cx="4572000" cy="155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164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келет челове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ормы земной поверх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нутренние органы челове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лобу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Rectangle 1"/>
          <p:cNvSpPr/>
          <p:nvPr/>
        </p:nvSpPr>
        <p:spPr>
          <a:xfrm>
            <a:off x="2083320" y="571680"/>
            <a:ext cx="327456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Печатные материал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Rectangle 2"/>
          <p:cNvSpPr/>
          <p:nvPr/>
        </p:nvSpPr>
        <p:spPr>
          <a:xfrm>
            <a:off x="1159920" y="1500120"/>
            <a:ext cx="4077720" cy="11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marL="343080" indent="-34164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аблиц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ар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ллюстративный материа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Rectangle 3"/>
          <p:cNvSpPr/>
          <p:nvPr/>
        </p:nvSpPr>
        <p:spPr>
          <a:xfrm>
            <a:off x="3868920" y="3000240"/>
            <a:ext cx="403812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Лабораторное оборудо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Rectangle 4"/>
          <p:cNvSpPr/>
          <p:nvPr/>
        </p:nvSpPr>
        <p:spPr>
          <a:xfrm>
            <a:off x="3571920" y="3643200"/>
            <a:ext cx="4572000" cy="228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164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пиртов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ержатель для пробир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бир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лб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ермомет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суда для опы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1203480" y="817560"/>
            <a:ext cx="7254720" cy="36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3600" spc="-1" strike="noStrike">
                <a:solidFill>
                  <a:srgbClr val="7030a0"/>
                </a:solidFill>
                <a:latin typeface="Times New Roman"/>
              </a:rPr>
              <a:t>Интернет – ресурсы для подготовки к современному уроку окружающего мира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 type="subTitle"/>
          </p:nvPr>
        </p:nvSpPr>
        <p:spPr>
          <a:xfrm>
            <a:off x="0" y="3564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4400" spc="-1" strike="noStrike">
                <a:solidFill>
                  <a:srgbClr val="404040"/>
                </a:solidFill>
                <a:latin typeface="Trebuchet MS"/>
              </a:rPr>
              <a:t>  </a:t>
            </a:r>
            <a:endParaRPr b="0" lang="en-US" sz="4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3600" spc="-1" strike="noStrike">
                <a:solidFill>
                  <a:srgbClr val="7030a0"/>
                </a:solidFill>
                <a:latin typeface="Times New Roman"/>
              </a:rPr>
              <a:t>Интернет-ресурсы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79" name="Text Box 2"/>
          <p:cNvSpPr/>
          <p:nvPr/>
        </p:nvSpPr>
        <p:spPr>
          <a:xfrm>
            <a:off x="801720" y="1628640"/>
            <a:ext cx="8229600" cy="4525920"/>
          </a:xfrm>
          <a:prstGeom prst="rect">
            <a:avLst/>
          </a:prstGeom>
          <a:solidFill>
            <a:srgbClr val="ebeb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164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Font typeface="Wingdings 2" charset="2"/>
              <a:buChar char="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 u="sng">
                <a:solidFill>
                  <a:srgbClr val="99ca3c"/>
                </a:solidFill>
                <a:uFillTx/>
                <a:latin typeface="Times New Roman"/>
                <a:hlinkClick r:id="rId1"/>
              </a:rPr>
              <a:t>http://numi.ru/fullview.php?id=524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38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Font typeface="Wingdings 2" charset="2"/>
              <a:buChar char="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UMI.RU - методический цент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38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Font typeface="Wingdings 2" charset="2"/>
              <a:buChar char="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ttp://festival.1september.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3600" spc="-1" strike="noStrike">
                <a:solidFill>
                  <a:srgbClr val="7030a0"/>
                </a:solidFill>
                <a:latin typeface="Times New Roman"/>
              </a:rPr>
              <a:t>Интернет-ресурсы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1" name="Text Box 2"/>
          <p:cNvSpPr/>
          <p:nvPr/>
        </p:nvSpPr>
        <p:spPr>
          <a:xfrm>
            <a:off x="801720" y="1600200"/>
            <a:ext cx="8229600" cy="4525920"/>
          </a:xfrm>
          <a:prstGeom prst="rect">
            <a:avLst/>
          </a:prstGeom>
          <a:solidFill>
            <a:srgbClr val="ebeb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164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Font typeface="Wingdings 2" charset="2"/>
              <a:buChar char="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http://www.babyroom.narod.ru/prezent3.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38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Font typeface="Wingdings 2" charset="2"/>
              <a:buChar char="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http://www.proshkolu.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38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Font typeface="Wingdings 2" charset="2"/>
              <a:buChar char="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http://nachalka.seminfo.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38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38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3600" spc="-1" strike="noStrike">
                <a:solidFill>
                  <a:srgbClr val="7030a0"/>
                </a:solidFill>
                <a:latin typeface="Times New Roman"/>
              </a:rPr>
              <a:t>Интернет - ресурсы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3" name="Text Box 2"/>
          <p:cNvSpPr/>
          <p:nvPr/>
        </p:nvSpPr>
        <p:spPr>
          <a:xfrm>
            <a:off x="801720" y="1600200"/>
            <a:ext cx="8229600" cy="4525920"/>
          </a:xfrm>
          <a:prstGeom prst="rect">
            <a:avLst/>
          </a:prstGeom>
          <a:solidFill>
            <a:srgbClr val="ebeb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164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ttp://window.edu.ru/window/library?p_rid=280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38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ttp://prosv.ru/ebooks/Plewakov_Uroki_po_okrujauwemu_miru/index.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38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ttp://www.cl.ru/education/lib/data/r00107.htm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3600" spc="-1" strike="noStrike">
                <a:solidFill>
                  <a:srgbClr val="7030a0"/>
                </a:solidFill>
                <a:latin typeface="Times New Roman"/>
              </a:rPr>
              <a:t>Сайты УМК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5" name="Text Box 2"/>
          <p:cNvSpPr/>
          <p:nvPr/>
        </p:nvSpPr>
        <p:spPr>
          <a:xfrm>
            <a:off x="801720" y="1600200"/>
            <a:ext cx="8229600" cy="452592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164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Font typeface="Wingdings 2" charset="2"/>
              <a:buChar char="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http://www.drofa.ru/drofa/metod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38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Font typeface="Wingdings 2" charset="2"/>
              <a:buChar char="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http://www.ass21vek.ru/teach/standart.ph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Font typeface="Wingdings 2" charset="2"/>
              <a:buChar char="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http://www.umk-garmoniya.ru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38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Font typeface="Wingdings 2" charset="2"/>
              <a:buChar char="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http://www.planetaznaniy.astrel.ru/about.ht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38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3600" spc="-1" strike="noStrike">
                <a:solidFill>
                  <a:srgbClr val="7030a0"/>
                </a:solidFill>
                <a:latin typeface="Times New Roman"/>
              </a:rPr>
              <a:t>Электронно-учебные пособия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7" name="Text Box 2"/>
          <p:cNvSpPr/>
          <p:nvPr/>
        </p:nvSpPr>
        <p:spPr>
          <a:xfrm>
            <a:off x="0" y="1131840"/>
            <a:ext cx="9031320" cy="499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164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Font typeface="Wingdings 2" charset="2"/>
              <a:buChar char="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http://nachalka.info/about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Font typeface="Wingdings 2" charset="2"/>
              <a:buChar char="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800" spc="-1" strike="noStrike">
                <a:solidFill>
                  <a:srgbClr val="1d08b8"/>
                </a:solidFill>
                <a:latin typeface="Times New Roman"/>
              </a:rPr>
              <a:t>«Начальная школа. Уроки Кирилла и Мефодия» – место, где обучение можно совмещать с развлечением. Здесь интерактивные учебные пособия по предметам начальной школы соседствуют с увлекательными играми на развитие памяти, смекалки, ассоциативного мышления, мультфильмами, сказками и раскрасками</a:t>
            </a:r>
            <a:r>
              <a:rPr b="1" i="1" lang="en-US" sz="2800" spc="-1" strike="noStrike">
                <a:solidFill>
                  <a:srgbClr val="0070c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Font typeface="Wingdings 2" charset="2"/>
              <a:buChar char="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imes New Roman"/>
              </a:rPr>
              <a:t>«Природ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38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38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38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38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69800" y="1182240"/>
            <a:ext cx="8229600" cy="28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3200" spc="-1" strike="noStrike">
                <a:solidFill>
                  <a:srgbClr val="90c226"/>
                </a:solidFill>
                <a:latin typeface="Times New Roman"/>
              </a:rPr>
              <a:t>информационно-компьютерная</a:t>
            </a:r>
            <a:br>
              <a:rPr sz="3200"/>
            </a:br>
            <a:br>
              <a:rPr sz="3200"/>
            </a:br>
            <a:r>
              <a:rPr b="0" i="1" lang="en-US" sz="3200" spc="-1" strike="noStrike">
                <a:solidFill>
                  <a:srgbClr val="90c226"/>
                </a:solidFill>
                <a:latin typeface="Times New Roman"/>
              </a:rPr>
              <a:t>информационно-коммуникативная</a:t>
            </a:r>
            <a:br>
              <a:rPr sz="3200"/>
            </a:br>
            <a:br>
              <a:rPr sz="3200"/>
            </a:br>
            <a:r>
              <a:rPr b="0" i="1" lang="en-US" sz="3200" spc="-1" strike="noStrike">
                <a:solidFill>
                  <a:srgbClr val="90c226"/>
                </a:solidFill>
                <a:latin typeface="Times New Roman"/>
              </a:rPr>
              <a:t>технология критического мышления</a:t>
            </a:r>
            <a:br>
              <a:rPr sz="3200"/>
            </a:br>
            <a:br>
              <a:rPr sz="3200"/>
            </a:br>
            <a:r>
              <a:rPr b="0" i="1" lang="en-US" sz="3200" spc="-1" strike="noStrike">
                <a:solidFill>
                  <a:srgbClr val="90c226"/>
                </a:solidFill>
                <a:latin typeface="Times New Roman"/>
              </a:rPr>
              <a:t>проектная  деятельность</a:t>
            </a: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685800" y="1807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imes New Roman"/>
              </a:rPr>
              <a:t>Формы, методы и приёмы обучения ОМ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11" name="Text Box 2"/>
          <p:cNvSpPr/>
          <p:nvPr/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100000"/>
              </a:lnSpc>
              <a:spcBef>
                <a:spcPts val="638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Многообразие методов обучения, их постепенное совершенствование ставит перед учителем сложный вопрос: какие методы использовать на данном конкретном уроке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13" name="Text Box 2"/>
          <p:cNvSpPr/>
          <p:nvPr/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Oval 3"/>
          <p:cNvSpPr/>
          <p:nvPr/>
        </p:nvSpPr>
        <p:spPr>
          <a:xfrm>
            <a:off x="1285920" y="357120"/>
            <a:ext cx="6143760" cy="1214640"/>
          </a:xfrm>
          <a:prstGeom prst="ellipse">
            <a:avLst/>
          </a:prstGeom>
          <a:solidFill>
            <a:srgbClr val="999999"/>
          </a:solidFill>
          <a:ln w="25560">
            <a:solidFill>
              <a:srgbClr val="b0ad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Rectangle 4"/>
          <p:cNvSpPr/>
          <p:nvPr/>
        </p:nvSpPr>
        <p:spPr>
          <a:xfrm>
            <a:off x="1928880" y="714240"/>
            <a:ext cx="4786200" cy="577800"/>
          </a:xfrm>
          <a:prstGeom prst="rect">
            <a:avLst/>
          </a:prstGeom>
          <a:solidFill>
            <a:srgbClr val="f9f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лассификация метод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16" name="AutoShape 5"/>
          <p:cNvCxnSpPr/>
          <p:nvPr/>
        </p:nvCxnSpPr>
        <p:spPr>
          <a:xfrm flipV="1" rot="10800000">
            <a:off x="1571040" y="1642680"/>
            <a:ext cx="1072080" cy="1000800"/>
          </a:xfrm>
          <a:prstGeom prst="bentConnector3">
            <a:avLst>
              <a:gd name="adj1" fmla="val 49983"/>
            </a:avLst>
          </a:prstGeom>
          <a:ln w="9360">
            <a:solidFill>
              <a:srgbClr val="e9e5f1"/>
            </a:solidFill>
            <a:round/>
            <a:tailEnd len="med" type="triangle" w="med"/>
          </a:ln>
        </p:spPr>
      </p:cxnSp>
      <p:cxnSp>
        <p:nvCxnSpPr>
          <p:cNvPr id="917" name="AutoShape 6"/>
          <p:cNvCxnSpPr/>
          <p:nvPr/>
        </p:nvCxnSpPr>
        <p:spPr>
          <a:xfrm flipV="1" rot="10800000">
            <a:off x="4284000" y="1642680"/>
            <a:ext cx="2160" cy="1072440"/>
          </a:xfrm>
          <a:prstGeom prst="bentConnector3">
            <a:avLst>
              <a:gd name="adj1" fmla="val 40000"/>
            </a:avLst>
          </a:prstGeom>
          <a:ln w="9360">
            <a:solidFill>
              <a:srgbClr val="e9e5f1"/>
            </a:solidFill>
            <a:round/>
            <a:tailEnd len="med" type="triangle" w="med"/>
          </a:ln>
        </p:spPr>
      </p:cxnSp>
      <p:cxnSp>
        <p:nvCxnSpPr>
          <p:cNvPr id="918" name="AutoShape 7"/>
          <p:cNvCxnSpPr/>
          <p:nvPr/>
        </p:nvCxnSpPr>
        <p:spPr>
          <a:xfrm>
            <a:off x="5643360" y="1571400"/>
            <a:ext cx="1500840" cy="1143720"/>
          </a:xfrm>
          <a:prstGeom prst="bentConnector3">
            <a:avLst>
              <a:gd name="adj1" fmla="val 50000"/>
            </a:avLst>
          </a:prstGeom>
          <a:ln w="9360">
            <a:solidFill>
              <a:srgbClr val="e9e5f1"/>
            </a:solidFill>
            <a:round/>
            <a:tailEnd len="med" type="triangle" w="med"/>
          </a:ln>
        </p:spPr>
      </p:cxnSp>
      <p:sp>
        <p:nvSpPr>
          <p:cNvPr id="919" name="Oval 8"/>
          <p:cNvSpPr/>
          <p:nvPr/>
        </p:nvSpPr>
        <p:spPr>
          <a:xfrm>
            <a:off x="214200" y="2786040"/>
            <a:ext cx="2714760" cy="857160"/>
          </a:xfrm>
          <a:prstGeom prst="ellipse">
            <a:avLst/>
          </a:prstGeom>
          <a:solidFill>
            <a:srgbClr val="f0f1fa"/>
          </a:solidFill>
          <a:ln w="25560">
            <a:solidFill>
              <a:srgbClr val="b0ad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Oval 9"/>
          <p:cNvSpPr/>
          <p:nvPr/>
        </p:nvSpPr>
        <p:spPr>
          <a:xfrm>
            <a:off x="3071880" y="2786040"/>
            <a:ext cx="2714400" cy="857160"/>
          </a:xfrm>
          <a:prstGeom prst="ellipse">
            <a:avLst/>
          </a:prstGeom>
          <a:solidFill>
            <a:srgbClr val="f0f1fa"/>
          </a:solidFill>
          <a:ln w="25560">
            <a:solidFill>
              <a:srgbClr val="b0ad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Oval 10"/>
          <p:cNvSpPr/>
          <p:nvPr/>
        </p:nvSpPr>
        <p:spPr>
          <a:xfrm>
            <a:off x="6072120" y="2786040"/>
            <a:ext cx="2714760" cy="857160"/>
          </a:xfrm>
          <a:prstGeom prst="ellipse">
            <a:avLst/>
          </a:prstGeom>
          <a:solidFill>
            <a:srgbClr val="f0f1fa"/>
          </a:solidFill>
          <a:ln w="25560">
            <a:solidFill>
              <a:srgbClr val="b0ad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Rectangle 11"/>
          <p:cNvSpPr/>
          <p:nvPr/>
        </p:nvSpPr>
        <p:spPr>
          <a:xfrm>
            <a:off x="714240" y="3000240"/>
            <a:ext cx="164304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ловесны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Rectangle 12"/>
          <p:cNvSpPr/>
          <p:nvPr/>
        </p:nvSpPr>
        <p:spPr>
          <a:xfrm>
            <a:off x="3643200" y="3000240"/>
            <a:ext cx="164304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гляд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Rectangle 13"/>
          <p:cNvSpPr/>
          <p:nvPr/>
        </p:nvSpPr>
        <p:spPr>
          <a:xfrm>
            <a:off x="6357960" y="3000240"/>
            <a:ext cx="221472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актическ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AutoShape 14"/>
          <p:cNvSpPr/>
          <p:nvPr/>
        </p:nvSpPr>
        <p:spPr>
          <a:xfrm>
            <a:off x="642960" y="3857760"/>
            <a:ext cx="2306520" cy="2214360"/>
          </a:xfrm>
          <a:prstGeom prst="roundRect">
            <a:avLst>
              <a:gd name="adj" fmla="val 16667"/>
            </a:avLst>
          </a:prstGeom>
          <a:solidFill>
            <a:srgbClr val="d1d1d1"/>
          </a:solidFill>
          <a:ln w="25560">
            <a:solidFill>
              <a:srgbClr val="b0ad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AutoShape 15"/>
          <p:cNvSpPr/>
          <p:nvPr/>
        </p:nvSpPr>
        <p:spPr>
          <a:xfrm>
            <a:off x="3571920" y="3929040"/>
            <a:ext cx="2193840" cy="2214720"/>
          </a:xfrm>
          <a:custGeom>
            <a:avLst/>
            <a:gdLst>
              <a:gd name="textAreaLeft" fmla="*/ 106920 w 2193840"/>
              <a:gd name="textAreaRight" fmla="*/ 2086920 w 2193840"/>
              <a:gd name="textAreaTop" fmla="*/ 106920 h 2214720"/>
              <a:gd name="textAreaBottom" fmla="*/ 2107800 h 2214720"/>
            </a:gdLst>
            <a:ahLst/>
            <a:rect l="textAreaLeft" t="textAreaTop" r="textAreaRight" b="textAreaBottom"/>
            <a:pathLst>
              <a:path w="21600" h="21806">
                <a:moveTo>
                  <a:pt x="3600" y="0"/>
                </a:moveTo>
                <a:arcTo wR="3600" hR="3600" stAng="16200000" swAng="-5400000"/>
                <a:lnTo>
                  <a:pt x="0" y="18206"/>
                </a:lnTo>
                <a:arcTo wR="3600" hR="3600" stAng="10800000" swAng="-5400000"/>
                <a:lnTo>
                  <a:pt x="18000" y="2180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ccccc"/>
          </a:solidFill>
          <a:ln w="25560">
            <a:solidFill>
              <a:srgbClr val="b0ad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AutoShape 16"/>
          <p:cNvSpPr/>
          <p:nvPr/>
        </p:nvSpPr>
        <p:spPr>
          <a:xfrm>
            <a:off x="6593040" y="3887640"/>
            <a:ext cx="2152440" cy="2214720"/>
          </a:xfrm>
          <a:custGeom>
            <a:avLst/>
            <a:gdLst>
              <a:gd name="textAreaLeft" fmla="*/ 104760 w 2152440"/>
              <a:gd name="textAreaRight" fmla="*/ 2047680 w 2152440"/>
              <a:gd name="textAreaTop" fmla="*/ 104760 h 2214720"/>
              <a:gd name="textAreaBottom" fmla="*/ 2109960 h 2214720"/>
            </a:gdLst>
            <a:ahLst/>
            <a:rect l="textAreaLeft" t="textAreaTop" r="textAreaRight" b="textAreaBottom"/>
            <a:pathLst>
              <a:path w="21600" h="22225">
                <a:moveTo>
                  <a:pt x="3600" y="0"/>
                </a:moveTo>
                <a:arcTo wR="3600" hR="3600" stAng="16200000" swAng="-5400000"/>
                <a:lnTo>
                  <a:pt x="0" y="18625"/>
                </a:lnTo>
                <a:arcTo wR="3600" hR="3600" stAng="10800000" swAng="-5400000"/>
                <a:lnTo>
                  <a:pt x="18000" y="2222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ccccc"/>
          </a:solidFill>
          <a:ln w="25560">
            <a:solidFill>
              <a:srgbClr val="b0ad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Rectangle 17"/>
          <p:cNvSpPr/>
          <p:nvPr/>
        </p:nvSpPr>
        <p:spPr>
          <a:xfrm>
            <a:off x="857160" y="4114800"/>
            <a:ext cx="1679760" cy="1736280"/>
          </a:xfrm>
          <a:prstGeom prst="rect">
            <a:avLst/>
          </a:prstGeom>
          <a:solidFill>
            <a:srgbClr val="d1d1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сска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ъясн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есе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иало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ронтальный опро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Rectangle 18"/>
          <p:cNvSpPr/>
          <p:nvPr/>
        </p:nvSpPr>
        <p:spPr>
          <a:xfrm>
            <a:off x="3554280" y="3956040"/>
            <a:ext cx="1785960" cy="25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блюд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монстрация наглядных пособ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зента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идеорол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идеофиль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Rectangle 19"/>
          <p:cNvSpPr/>
          <p:nvPr/>
        </p:nvSpPr>
        <p:spPr>
          <a:xfrm>
            <a:off x="6858000" y="3929040"/>
            <a:ext cx="1770120" cy="173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кскурс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блюд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пы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ксперимен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след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ек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2" name="Text Box 2"/>
          <p:cNvSpPr/>
          <p:nvPr/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638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38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«Тебе скажут — ты забудешь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38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Тебе покажут — ты запомнишь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38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Ты сделаешь — ты поймёшь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38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Rectangle 1"/>
          <p:cNvSpPr/>
          <p:nvPr/>
        </p:nvSpPr>
        <p:spPr>
          <a:xfrm>
            <a:off x="0" y="590400"/>
            <a:ext cx="9144000" cy="49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b050"/>
                </a:solidFill>
                <a:latin typeface="Arial"/>
              </a:rPr>
              <a:t>Самостоятельная работа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зволит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сформировать умения сравнивать, обобщать, рассуждать, выделять главные мысли в материале каждого урока, в параграфе учебника, 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читанной книге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tarSymbol"/>
              <a:buChar char="-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свободит детей от зазубривания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осмысленного запоминания, приводящего к перегрузке памяти, потере интереса к обучени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научит школьников работать с текстом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исунками, вопросами, оглавлением учебной и научно-популярной литератур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Когда можно использовать?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5" name="Rectangle 2"/>
          <p:cNvSpPr/>
          <p:nvPr/>
        </p:nvSpPr>
        <p:spPr>
          <a:xfrm>
            <a:off x="428760" y="1571760"/>
            <a:ext cx="8358120" cy="398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 исследовательской деятель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 творческих видах рабо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 работе с учебник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7-02-06T12:49:13Z</dcterms:modified>
  <cp:revision>4</cp:revision>
  <dc:subject/>
  <dc:title>Современный урок окружающего мира</dc:title>
</cp:coreProperties>
</file>