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dt" idx="5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ftr" idx="5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 type="sldNum" idx="5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4ADBD-83B1-463B-95CD-28CB9EC82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59B7B-F8FB-4143-B0C5-074365BC70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D7428-63C0-4748-BD6C-833A6163AB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9C7E-93DF-42C0-ADD9-371B99BD2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E1C4B-F2A5-4490-891F-1B87A837DA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D5516-4177-494C-BA6F-B24C909CC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19121-2BC9-4BB9-9B3E-DAC12FCD2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D7B29-8CFE-4780-92AE-8D5585CD47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6AF57-6C85-4EBE-ACF6-60150E44C6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1C73B-CA63-445B-99D9-8465B75E54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9BA6B-3D70-4C72-B39B-8A4D3F7BEA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97B59-D813-4AA9-9EB5-E6995AABB5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8C448-C462-4367-A4A1-CBF9C140A4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CA79D-A513-429E-AEFB-FB24CE112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017AF-432E-429F-8A26-5B1FEC55CA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09D76-4305-47AF-B789-226319200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4D303-BB15-420B-B0A4-A793BF54C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DF6A2-9FC9-41D4-8F55-DCD97AD19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9862A-C6DC-451A-9E7F-EAE7C70205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F2D03-CFFD-49F3-A94B-FDCE9DDB33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7B49-BC35-46E9-BB53-E1140706BB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F0206-ADB3-40A5-A1D8-32C393051E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CF53A-F821-4DF8-AD04-57D6FDDCC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FA48C-4D3D-490F-986E-4804E87DE5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996B0-FCB3-4207-9AFF-3E65A675EB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AE1FE-DD9A-40E8-B3C9-DBF7901592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BB6C5-9176-4E85-BBD4-3911EC3F15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E9F-A0F4-4A3A-806B-C7DFAD67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98F-83B8-4B26-A704-3280FC3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07E23-3770-4E7D-B71D-0DBC685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CC5F2-F417-4005-BCFB-64DC1EC0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BBA1A-035B-43B4-B8DC-8D343C84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AE4D8-A826-436A-A4E4-5DA4F7EC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01AD-4824-45FB-A6BF-106A0C1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FC81E-8B8D-46C1-8E4B-98B78DA1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90348-6317-40AC-A0E4-1E3298B5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08764-267C-4191-9C35-5E8874A5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5488-FBF5-4982-8E4D-E5FB6953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77786-A99B-4123-86AD-A7960837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43A-20D0-484B-92A2-D260A3E3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15164-2DAB-4E01-9C9B-9AA1207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8CA12-1926-49C8-939E-CE021361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AF4A2-2572-40A7-9CC1-BC520FBC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973D1-EE33-4C5A-8C99-9B9C1D74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41172-F194-4F10-8552-5C2C2C00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004CC-59A9-4E33-98E5-77D032C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CBE8A-9EB7-4E3F-908A-F257C10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3F722-EE6F-4A59-BA93-ACB15194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A764C-26A0-44A8-83E2-A2181EA3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44801-9F2D-48B9-BDB0-71B94188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F35-57A5-4F10-857D-BD4D7BEF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B01EC-B12D-4227-84AB-0C03B777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11B163-143E-4D5B-BF01-7C636D58139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19F066-0472-4144-8C25-A773ADAD59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BC49D0-E494-4442-A940-FDDA63D55B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5B8342-88F5-49D1-BDAE-846F8BD9780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D6AB5-81D7-488A-A537-8CEABDBFF65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4D3AE3-2D85-43F4-B2B8-16272ABB51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E43EB0-E3BC-4D7F-8E76-C7FE138694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562E2B-43DB-4719-8D5C-55AA872C61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8897E4-5740-49AC-956B-DED44468E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36E2-D25E-402F-A1D1-5BDEBA32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C49C48-0B04-4E62-AC44-5E47ABE3BEE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59A752-E51E-4246-834D-1C144B508E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44F403-FF70-4884-A457-18616834A9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DFA3F-CEBE-450B-9095-B0F58425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E20DD-3102-45B9-B887-CF62F849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D7754-DF00-48AD-8918-12BAFC42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149CF-6CBD-412D-9314-A3E0F194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F788E-1846-46EC-8F6C-2D10E65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E55DF-A972-4814-AC4F-CD43718A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4F133-8B46-4E9E-85A6-F51D5883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BE2A-3118-4349-A05D-AE2EC68B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D1193-A2A2-4332-A40C-76E1DCD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05DEE-FB31-4D26-9587-A6AB0AC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8B288-227A-442C-BC66-3D16EEA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5E092-7D39-4BBC-A29F-F92AC713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C1502-C7BC-4C73-9FCD-743CDDCB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2DF0F8-C79D-4E6E-B670-39BB6538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9F9353-9BA5-491C-8F0F-F6A55F50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E9EDA3-A905-49BB-AF47-1A4B7A61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2492F1-E508-44C9-9E88-E0D04E7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9FD7EC-EFE0-4274-B4A7-6C3D042D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1125-A308-458C-87F6-22DEF68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6E2DB1-085A-4195-8BA4-053FABF4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FC2216-D5E0-4F05-9966-B454045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FCF88A-338E-4904-BE29-8DB17103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0637EA-136D-4729-B95A-AE5C32A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B0159D-C9C5-4386-9090-D7220711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7A1B91-803A-46F8-8818-5F302FBE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7F1984-9912-46CC-8499-375EE36C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CD965F-8F3A-40C4-B592-370F46A2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CD2D30-D5D3-43A1-8B38-FC9D2DB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68310E-9BAC-421F-A472-6DC844E9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A95-6EC0-4DC5-BE1E-475A193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B5EC2D-0A3B-4C00-97AC-B14830C1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B06C9C-0FD6-452D-A580-8226759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CDCE3D-FDDB-48BD-B48D-15C06E72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F67866-F4F5-40EC-80D5-C56E2C4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C6AE82-246D-4A76-BE5F-8ACB287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748428-E082-48FF-B426-E42C1EB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3D416F-6DB0-4990-9F4C-201B63FF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EF2B8D-4A93-442E-9121-81B083E7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CC5E3D-58D7-4A17-AE90-729D4BBD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384502-10EA-4BE3-A470-97439AD8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5F9-F662-408C-BE2E-2EE85356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873FC2-15FE-4DD9-AD76-98C23661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A498AE-07CF-443B-BEA6-5127846E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187FF4-4067-46FC-A9D3-794D187F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392514-EA41-4FFF-AA3D-27C396A9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AF599A-A8B7-4335-B853-5962725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C626B3-4830-4EB7-9F25-43382FC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317F81-7DA1-43D0-A8A7-6A158A1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B5573E-419A-450B-9F55-94F8F8B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8F70EE-2552-4930-AA42-3076F1BA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25E418-329D-40F0-9382-769A467A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BEC7-008D-4820-AD57-1873310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E8202F-F815-4E3C-A670-A5C759FD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861E35-BADC-4E36-AB88-EED37449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5FB560-F582-49DA-9D79-4A2F2733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B2331C-D639-4337-B011-CA631669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7BE018-C920-4E43-8DE1-A720670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5944AB-AA48-4C32-AD37-8F1DA675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D72B97-1A10-4B97-8E1D-40894700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10C5F5-11B9-4B2B-AA63-57312B4B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D11F31-781B-4A3A-851A-DB7D6F2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3D2C56-6DA4-4194-AF2C-370C8C28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5692-8E00-4CD4-8AA7-D6933591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82A7EE-5CC5-47A5-A87C-7623BE7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D28E12-F025-416C-ACBD-63525118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902974-A767-4014-B18F-86F4A527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B72737-250A-428D-87B9-4660450C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0F1FC2-223C-4D22-99C5-8DF4612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ED7812-E326-49F4-B931-0FD69D49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F9707F-E6A5-48E0-BB4F-D3C6DF8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773E9C-6872-42CC-A88B-376838C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3A3021B-00C9-4B7E-9969-17073DB5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BDB4A8-71EF-40E6-99A7-B9EE8A9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3F8-8691-4364-AE93-B6F581B7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7C38-F690-41D4-B496-39DD505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4836E9-EF72-4371-8836-41703503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369706-CBC4-48DC-8535-30A8D44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6A6BF4-AF4C-45C5-BB48-F7C245B8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F44DAE-0876-45DA-A6BB-9266F13E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94D97D-A93A-4B1F-91DA-54032FBF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E3D6-7DC1-403B-99CB-485D687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54E3-8DB9-4EBB-8207-14CEA81E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676E-E1F7-415B-BF11-0A22792B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FC9F-D19E-41D2-9610-CDCF5834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8E0D-A5ED-457B-80A2-6F874C4B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EA5D-D17A-4069-9E04-597E165F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CF82-EA4D-46B5-A2BB-A971676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F159-B71D-4E43-A5E8-B99312E1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94A2-EF9C-4DA4-8584-73B34FED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D83-377D-4FD9-B383-B560432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5CAC-E687-4D71-AE9C-9146C1E8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AE7F-F836-4F38-8F07-8890113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1833-3A5D-47B7-A45D-3B59013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B508-9546-4441-AD36-9B283637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FDBA-3F5B-4564-A1F3-E12E8D7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8383-0A9F-43B8-BEC0-432ADE0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A054-5AC0-49D0-812F-B7A56A05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84935-E311-4295-AD83-8EF6D162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B22F-532D-48F0-AE83-6FC62431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C794-73EB-4D6D-9636-81283DE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8A0-8C20-4309-AA4D-3F99068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CD06-E122-46A5-ADC3-D83583A4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A4F9-3DEA-4624-B715-C5990135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F33B-506B-4367-8603-1FD77400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08F2-55BE-464B-A736-C73FB93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6E98-F8C3-4838-8883-BE513F4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7AE7-141D-4474-AC92-25F7B70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A7A7-45F2-40A7-A688-4CCB7F2A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82EB-78EA-4710-B4CB-C4A535C8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E10D-4E09-46A5-A712-603B16CD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20F77-2ECA-4322-BB59-B9B5B910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B8A-82F3-4253-802B-6B2170A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F4C21-C04B-4A4F-922E-1C7C1E9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D1AC2-D05D-463B-942D-94ECD29E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68D8-D103-4089-A30D-9BC5C442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9F9D-2389-419D-B46D-B7AD784D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E93E-357E-4987-9CB7-B38F814C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C47E-C12D-4343-8263-2AF5DF4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EDAC-08EB-43FF-93EA-7B48D48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7E1D-B26E-4CD1-9B68-BD439CA8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7664A-1634-4DB6-AD0D-58BB76DA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6A3F-6B2A-4AC6-889A-D6DC1A83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AF1-DB76-4E00-B839-37A4973E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76061-AA03-4810-81FA-E2FDA1BD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6F96-2562-4E36-B182-F9B4216A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24A2-3809-48A8-94AB-2779E5C7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90F2D-5EB6-47D0-9949-2869CB7D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FCCF6-B02A-49CD-A107-366B3273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0CE4A-CCD8-4640-A4E6-054A722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15C76-90C1-489D-B9EC-321129E1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2C78-DCA0-4C6F-ADFE-DFFE2C2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7A34-32D3-4535-87EC-3504DE4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137E-3D1B-481C-8251-3D27C83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71B-1E42-42A4-A307-2534B0D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03178-9E59-45EA-94DE-95DA9D3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517A-D479-4E88-8FE9-CC835E83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216F-C3C3-4875-A7C3-320A7CA5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F7D69-8F0C-4593-9A98-89932EFF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ECDE5-F5DC-4659-B8B1-6FAEAC0A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71AE5-0E8F-4605-9AF0-8841FAEB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7CDCF-50A2-4EC9-BD35-7CE2EB0B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0703F-164C-4DB0-A900-F8596E3F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399F-5BDC-401D-BD4D-908F7EDF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7BCE-6BDD-4805-9DA6-9F17AC9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1A7-CFA3-45CE-95EB-D35301B0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AF54-36C9-4294-B665-90648193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3AD69-2716-47CE-ABC4-F43FFB21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F8FA-16F8-4115-96B9-130C2C21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875E-3965-482F-989A-6B8D78E5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EE042-6044-41C5-B64C-E08A3780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8231-FBED-4185-AA3C-7CE805C3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42BFA-53E7-4172-9BE4-AF41DF46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686D6-B252-40A2-9BD1-18392C5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DBE4A-13AB-4619-AD52-8015E14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2CCA1-19F7-4055-8D34-DA4FB3BE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D2F-2D50-466F-A844-6BDC8A9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BB1B8-8EED-4DD0-AA56-5EE5761E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4FE1-AE7B-4DFE-8E7A-6FC788CE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4DEF-6695-4326-AE1A-914859A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EFFA-6D53-4DD6-B05F-B6D3134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5B81-44BE-4337-ABC5-FA14D718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425BE-DFE0-4FC4-993A-5A0F7C75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357E-E8EF-4459-96BC-FA241593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5540-B9DA-40DB-83FF-2110F456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FCA62-D3A6-4E6E-B919-06A17F27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185C9-025C-4AF6-9F7B-6FF26E1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F02F2B-6AC3-4C04-8C36-51B39026E78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7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E03EDA-57D6-4B2D-B11C-1A55E31286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3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3E9710-A853-47BF-A289-4A58193662C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D1370-0E2A-4E48-A73A-FB6C65F57F6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3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3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C80FD4-64AC-44CF-A3FC-9C124DE8329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23AA78-2C25-4B48-969B-B209E67393D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3F95C5-AD0D-4AF3-9480-9A8910BBFC9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9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4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4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4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4E9260-4A2F-4756-8AB8-C8344A45A98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4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4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4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4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026E3C-6878-4B4C-96D5-DADAAA85DA1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463F71-AA6F-4BFC-AB3D-30AD0B5A4D0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7C1B4D-F27A-4A55-AD99-44EF4D77886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E8B801-6576-4D7B-A8B0-500A75A2E92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D13B5F-7FBA-4D54-9E5D-5EA752254A9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503DDF-50B9-4628-854E-0377792D1A4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37E3B4-C788-427C-B1ED-D0E12F8771C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1B3A65-F0DF-4D36-9E4C-E3FCE7ABF6E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91CD23-B5C1-4CBC-B65E-D7371B260CC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umi.ru/fullview.php?id=524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9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1" lang="ru-RU" sz="5900" spc="-1" strike="noStrike">
                <a:solidFill>
                  <a:srgbClr val="0070c0"/>
                </a:solidFill>
                <a:latin typeface="Trebuchet MS"/>
              </a:rPr>
              <a:t>окружающий мир</a:t>
            </a:r>
            <a:br>
              <a:rPr sz="5900"/>
            </a:br>
            <a:endParaRPr b="0" lang="en-US" sz="5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1"/>
          <p:cNvSpPr/>
          <p:nvPr/>
        </p:nvSpPr>
        <p:spPr>
          <a:xfrm>
            <a:off x="785880" y="1500120"/>
            <a:ext cx="742932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ронтальные письменные работы частично-поискового харак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групповые самостоятельн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омбинированные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ндивидуальная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арная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коллектив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Форма организации самостоятельной работ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При работе с учебник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9" name="Rectangle 2"/>
          <p:cNvSpPr/>
          <p:nvPr/>
        </p:nvSpPr>
        <p:spPr>
          <a:xfrm>
            <a:off x="857160" y="1500120"/>
            <a:ext cx="74296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на соответствие (на знание и запоминание определ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на выявление общих закономер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олог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, заполнени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При творческих видах работ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00080" y="1785960"/>
            <a:ext cx="7500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ссворд, ребус, тес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ывание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1285920" y="3857760"/>
            <a:ext cx="60721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проверки зн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использование тес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заданий для самопроверки правильности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При исследовательской деятельности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785880" y="1643040"/>
            <a:ext cx="72151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е работы, оп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 в дополнительной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Условия при планировании 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самостоятельной работ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642960" y="1500120"/>
            <a:ext cx="757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е изучение нового материала можно организовать только тогда, когда его содержание раскрывается в значительной мере на основе приобретенных ранее знаний и ум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642960" y="3857760"/>
            <a:ext cx="657216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и активно разбираться в новом материале учащихся будут тогда, когда учитель сумеет пробудить в них интерес к  исслед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УМК в начальной школе</a:t>
            </a:r>
            <a:br>
              <a:rPr sz="3600"/>
            </a:b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«Окружающий ми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49" name="Picture 2" descr=""/>
          <p:cNvPicPr/>
          <p:nvPr/>
        </p:nvPicPr>
        <p:blipFill>
          <a:blip r:embed="rId1"/>
          <a:stretch/>
        </p:blipFill>
        <p:spPr>
          <a:xfrm>
            <a:off x="1600200" y="1643040"/>
            <a:ext cx="602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0c226"/>
                </a:solidFill>
                <a:latin typeface="Times New Roman"/>
              </a:rPr>
              <a:t>УМК, используемые в традиционной системе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714240" y="1571760"/>
          <a:ext cx="7716960" cy="4465440"/>
        </p:xfrm>
        <a:graphic>
          <a:graphicData uri="http://schemas.openxmlformats.org/drawingml/2006/table">
            <a:tbl>
              <a:tblPr/>
              <a:tblGrid>
                <a:gridCol w="2571840"/>
                <a:gridCol w="2573280"/>
                <a:gridCol w="2571840"/>
              </a:tblGrid>
              <a:tr h="136188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ланета Знан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Г.Ивченко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В.Потап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армон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.Т.Поглаз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чальная школа 21 ве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Ф.Виноград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73988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ерспектив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Плешаков, М.Ю.Нови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Школа Росс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Плеш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ерспективная начальная школ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.Н.Федотова, Г.Ф.Трафимова, С.А.Трафимов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36368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лассическая начальная школ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Вахруш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Школа 2100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Вахруш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Комплекты пособий </a:t>
            </a:r>
            <a:br>
              <a:rPr sz="3600"/>
            </a:b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по программа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828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0c226"/>
                </a:solidFill>
                <a:latin typeface="Times New Roman"/>
              </a:rPr>
              <a:t>«Начальная школа 21 век» </a:t>
            </a:r>
            <a:br>
              <a:rPr sz="3200"/>
            </a:br>
            <a:r>
              <a:rPr b="1" lang="en-US" sz="2800" spc="-1" strike="noStrike">
                <a:solidFill>
                  <a:srgbClr val="90c226"/>
                </a:solidFill>
                <a:latin typeface="Times New Roman"/>
              </a:rPr>
              <a:t>Н.Ф.Виноградова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55" name="Picture 2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2714400" cy="3487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1928880" y="3286080"/>
            <a:ext cx="2508120" cy="3286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3"/>
          <a:stretch/>
        </p:blipFill>
        <p:spPr>
          <a:xfrm>
            <a:off x="6072120" y="1428840"/>
            <a:ext cx="2548080" cy="3362400"/>
          </a:xfrm>
          <a:prstGeom prst="rect">
            <a:avLst/>
          </a:prstGeom>
          <a:ln w="0">
            <a:noFill/>
          </a:ln>
        </p:spPr>
      </p:pic>
      <p:sp>
        <p:nvSpPr>
          <p:cNvPr id="9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4065480" y="277524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-1643040" y="585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343040" y="827136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9" descr=""/>
          <p:cNvPicPr/>
          <p:nvPr/>
        </p:nvPicPr>
        <p:blipFill>
          <a:blip r:embed="rId4"/>
          <a:stretch/>
        </p:blipFill>
        <p:spPr>
          <a:xfrm>
            <a:off x="4500720" y="3286080"/>
            <a:ext cx="242856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2571840" y="428760"/>
            <a:ext cx="3000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"/>
          <p:cNvSpPr/>
          <p:nvPr/>
        </p:nvSpPr>
        <p:spPr>
          <a:xfrm>
            <a:off x="928800" y="1643040"/>
            <a:ext cx="492912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активная д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дио и видео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2286000" y="1071720"/>
            <a:ext cx="3851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хническое 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3440160" y="3643200"/>
            <a:ext cx="3881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лектронное 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2714760" y="4214880"/>
            <a:ext cx="5643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ые презен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еоро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диоза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Технологии обуче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628280"/>
            <a:ext cx="70866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облемно-диалогическое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Экспериментально-исследовательск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1"/>
          <p:cNvSpPr/>
          <p:nvPr/>
        </p:nvSpPr>
        <p:spPr>
          <a:xfrm>
            <a:off x="2500200" y="642960"/>
            <a:ext cx="1651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"/>
          <p:cNvSpPr/>
          <p:nvPr/>
        </p:nvSpPr>
        <p:spPr>
          <a:xfrm>
            <a:off x="1071720" y="1071720"/>
            <a:ext cx="542916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яжи фруктов и овощей, 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ции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б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тель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ция се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5212440" y="3571920"/>
            <a:ext cx="1343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4"/>
          <p:cNvSpPr/>
          <p:nvPr/>
        </p:nvSpPr>
        <p:spPr>
          <a:xfrm>
            <a:off x="3429000" y="4214880"/>
            <a:ext cx="4572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елет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ы зем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е органы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1"/>
          <p:cNvSpPr/>
          <p:nvPr/>
        </p:nvSpPr>
        <p:spPr>
          <a:xfrm>
            <a:off x="2083320" y="571680"/>
            <a:ext cx="3274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чат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"/>
          <p:cNvSpPr/>
          <p:nvPr/>
        </p:nvSpPr>
        <p:spPr>
          <a:xfrm>
            <a:off x="1159920" y="1500120"/>
            <a:ext cx="4077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люстратив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3"/>
          <p:cNvSpPr/>
          <p:nvPr/>
        </p:nvSpPr>
        <p:spPr>
          <a:xfrm>
            <a:off x="3868920" y="3000240"/>
            <a:ext cx="40381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абораторное 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3571920" y="3643200"/>
            <a:ext cx="45720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жатель для проби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и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о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уда для опы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03480" y="817560"/>
            <a:ext cx="7254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 – ресурсы для подготовки к современному уроку окружающего мир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0" y="3564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801720" y="1628640"/>
            <a:ext cx="8229600" cy="45259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Times New Roman"/>
                <a:hlinkClick r:id="rId1"/>
              </a:rPr>
              <a:t>http://numi.ru/fullview.php?id=5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I.RU - методический цен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festival.1september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1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babyroom.narod.ru/prezent3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proshkol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nachalka.seminf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 - ресур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3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indow.edu.ru/window/library?p_rid=28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prosv.ru/ebooks/Plewakov_Uroki_po_okrujauwemu_miru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ww.cl.ru/education/lib/data/r00107.ht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Сайты УМ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drofa.ru/drofa/meto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ass21vek.ru/teach/standart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umk-garmoniya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planetaznaniy.astrel.ru/about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Электронно-учебные пособ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7" name="Text Box 2"/>
          <p:cNvSpPr/>
          <p:nvPr/>
        </p:nvSpPr>
        <p:spPr>
          <a:xfrm>
            <a:off x="0" y="1131840"/>
            <a:ext cx="903132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nachalka.info/abou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1d08b8"/>
                </a:solidFill>
                <a:latin typeface="Times New Roman"/>
              </a:rPr>
              <a:t>«Начальная школа. Уроки Кирилла и Мефодия» – место, где обучение можно совмещать с развлечением. Здесь интерактивные учебные пособия по предметам начальной школы соседствуют с увлекательными играми на развитие памяти, смекалки, ассоциативного мышления, мультфильмами, сказками и раскрасками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«При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9800" y="1182240"/>
            <a:ext cx="822960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информационно-компьютерная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информационно-коммуникативная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технология критического мышления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проектная  деятельность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imes New Roman"/>
              </a:rPr>
              <a:t>Формы, методы и приёмы обучения 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1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ногообразие методов обучения, их постепенное совершенствование ставит перед учителем сложный вопрос: какие методы использовать на данном конкретном урок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3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"/>
          <p:cNvSpPr/>
          <p:nvPr/>
        </p:nvSpPr>
        <p:spPr>
          <a:xfrm>
            <a:off x="1285920" y="357120"/>
            <a:ext cx="6143760" cy="1214640"/>
          </a:xfrm>
          <a:prstGeom prst="ellipse">
            <a:avLst/>
          </a:prstGeom>
          <a:solidFill>
            <a:srgbClr val="999999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1928880" y="714240"/>
            <a:ext cx="4786200" cy="577800"/>
          </a:xfrm>
          <a:prstGeom prst="rect">
            <a:avLst/>
          </a:prstGeom>
          <a:solidFill>
            <a:srgbClr val="f9f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5"/>
          <p:cNvCxnSpPr/>
          <p:nvPr/>
        </p:nvCxnSpPr>
        <p:spPr>
          <a:xfrm flipV="1" rot="10800000">
            <a:off x="1571040" y="1642680"/>
            <a:ext cx="1072080" cy="1000800"/>
          </a:xfrm>
          <a:prstGeom prst="bentConnector3">
            <a:avLst>
              <a:gd name="adj1" fmla="val 49983"/>
            </a:avLst>
          </a:prstGeom>
          <a:ln w="9360">
            <a:solidFill>
              <a:srgbClr val="e9e5f1"/>
            </a:solidFill>
            <a:round/>
            <a:tailEnd len="med" type="triangle" w="med"/>
          </a:ln>
        </p:spPr>
      </p:cxnSp>
      <p:cxnSp>
        <p:nvCxnSpPr>
          <p:cNvPr id="917" name="AutoShape 6"/>
          <p:cNvCxnSpPr/>
          <p:nvPr/>
        </p:nvCxnSpPr>
        <p:spPr>
          <a:xfrm flipV="1" rot="10800000">
            <a:off x="4284000" y="1642680"/>
            <a:ext cx="2160" cy="1072440"/>
          </a:xfrm>
          <a:prstGeom prst="bentConnector3">
            <a:avLst>
              <a:gd name="adj1" fmla="val 40000"/>
            </a:avLst>
          </a:prstGeom>
          <a:ln w="9360">
            <a:solidFill>
              <a:srgbClr val="e9e5f1"/>
            </a:solidFill>
            <a:round/>
            <a:tailEnd len="med" type="triangle" w="med"/>
          </a:ln>
        </p:spPr>
      </p:cxnSp>
      <p:cxnSp>
        <p:nvCxnSpPr>
          <p:cNvPr id="918" name="AutoShape 7"/>
          <p:cNvCxnSpPr/>
          <p:nvPr/>
        </p:nvCxnSpPr>
        <p:spPr>
          <a:xfrm>
            <a:off x="5643360" y="1571400"/>
            <a:ext cx="15008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e9e5f1"/>
            </a:solidFill>
            <a:round/>
            <a:tailEnd len="med" type="triangle" w="med"/>
          </a:ln>
        </p:spPr>
      </p:cxnSp>
      <p:sp>
        <p:nvSpPr>
          <p:cNvPr id="919" name="Oval 8"/>
          <p:cNvSpPr/>
          <p:nvPr/>
        </p:nvSpPr>
        <p:spPr>
          <a:xfrm>
            <a:off x="214200" y="2786040"/>
            <a:ext cx="2714760" cy="857160"/>
          </a:xfrm>
          <a:prstGeom prst="ellipse">
            <a:avLst/>
          </a:prstGeom>
          <a:solidFill>
            <a:srgbClr val="f0f1fa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9"/>
          <p:cNvSpPr/>
          <p:nvPr/>
        </p:nvSpPr>
        <p:spPr>
          <a:xfrm>
            <a:off x="3071880" y="2786040"/>
            <a:ext cx="2714400" cy="857160"/>
          </a:xfrm>
          <a:prstGeom prst="ellipse">
            <a:avLst/>
          </a:prstGeom>
          <a:solidFill>
            <a:srgbClr val="f0f1fa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0"/>
          <p:cNvSpPr/>
          <p:nvPr/>
        </p:nvSpPr>
        <p:spPr>
          <a:xfrm>
            <a:off x="6072120" y="2786040"/>
            <a:ext cx="2714760" cy="857160"/>
          </a:xfrm>
          <a:prstGeom prst="ellipse">
            <a:avLst/>
          </a:prstGeom>
          <a:solidFill>
            <a:srgbClr val="f0f1fa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"/>
          <p:cNvSpPr/>
          <p:nvPr/>
        </p:nvSpPr>
        <p:spPr>
          <a:xfrm>
            <a:off x="714240" y="3000240"/>
            <a:ext cx="1643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2"/>
          <p:cNvSpPr/>
          <p:nvPr/>
        </p:nvSpPr>
        <p:spPr>
          <a:xfrm>
            <a:off x="3643200" y="3000240"/>
            <a:ext cx="1643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л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3"/>
          <p:cNvSpPr/>
          <p:nvPr/>
        </p:nvSpPr>
        <p:spPr>
          <a:xfrm>
            <a:off x="6357960" y="3000240"/>
            <a:ext cx="2214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4"/>
          <p:cNvSpPr/>
          <p:nvPr/>
        </p:nvSpPr>
        <p:spPr>
          <a:xfrm>
            <a:off x="642960" y="3857760"/>
            <a:ext cx="2306520" cy="2214360"/>
          </a:xfrm>
          <a:prstGeom prst="roundRect">
            <a:avLst>
              <a:gd name="adj" fmla="val 16667"/>
            </a:avLst>
          </a:prstGeom>
          <a:solidFill>
            <a:srgbClr val="d1d1d1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5"/>
          <p:cNvSpPr/>
          <p:nvPr/>
        </p:nvSpPr>
        <p:spPr>
          <a:xfrm>
            <a:off x="3571920" y="3929040"/>
            <a:ext cx="2193840" cy="2214720"/>
          </a:xfrm>
          <a:custGeom>
            <a:avLst/>
            <a:gdLst>
              <a:gd name="textAreaLeft" fmla="*/ 106920 w 2193840"/>
              <a:gd name="textAreaRight" fmla="*/ 2086920 w 2193840"/>
              <a:gd name="textAreaTop" fmla="*/ 106920 h 2214720"/>
              <a:gd name="textAreaBottom" fmla="*/ 2107800 h 2214720"/>
            </a:gdLst>
            <a:ahLst/>
            <a:rect l="textAreaLeft" t="textAreaTop" r="textAreaRight" b="textAreaBottom"/>
            <a:pathLst>
              <a:path w="21600" h="21806">
                <a:moveTo>
                  <a:pt x="3600" y="0"/>
                </a:moveTo>
                <a:arcTo wR="3600" hR="3600" stAng="16200000" swAng="-5400000"/>
                <a:lnTo>
                  <a:pt x="0" y="18206"/>
                </a:lnTo>
                <a:arcTo wR="3600" hR="3600" stAng="10800000" swAng="-5400000"/>
                <a:lnTo>
                  <a:pt x="18000" y="21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6"/>
          <p:cNvSpPr/>
          <p:nvPr/>
        </p:nvSpPr>
        <p:spPr>
          <a:xfrm>
            <a:off x="6593040" y="3887640"/>
            <a:ext cx="2152440" cy="2214720"/>
          </a:xfrm>
          <a:custGeom>
            <a:avLst/>
            <a:gdLst>
              <a:gd name="textAreaLeft" fmla="*/ 104760 w 2152440"/>
              <a:gd name="textAreaRight" fmla="*/ 2047680 w 2152440"/>
              <a:gd name="textAreaTop" fmla="*/ 104760 h 2214720"/>
              <a:gd name="textAreaBottom" fmla="*/ 2109960 h 2214720"/>
            </a:gdLst>
            <a:ahLst/>
            <a:rect l="textAreaLeft" t="textAreaTop" r="textAreaRight" b="textAreaBottom"/>
            <a:pathLst>
              <a:path w="21600" h="22225">
                <a:moveTo>
                  <a:pt x="3600" y="0"/>
                </a:moveTo>
                <a:arcTo wR="3600" hR="3600" stAng="16200000" swAng="-5400000"/>
                <a:lnTo>
                  <a:pt x="0" y="18625"/>
                </a:lnTo>
                <a:arcTo wR="3600" hR="3600" stAng="10800000" swAng="-5400000"/>
                <a:lnTo>
                  <a:pt x="18000" y="22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7"/>
          <p:cNvSpPr/>
          <p:nvPr/>
        </p:nvSpPr>
        <p:spPr>
          <a:xfrm>
            <a:off x="857160" y="4114800"/>
            <a:ext cx="1679760" cy="1736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8"/>
          <p:cNvSpPr/>
          <p:nvPr/>
        </p:nvSpPr>
        <p:spPr>
          <a:xfrm>
            <a:off x="3554280" y="3956040"/>
            <a:ext cx="178596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я наглядных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ро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иль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9"/>
          <p:cNvSpPr/>
          <p:nvPr/>
        </p:nvSpPr>
        <p:spPr>
          <a:xfrm>
            <a:off x="6858000" y="3929040"/>
            <a:ext cx="177012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2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Тебе скажут — ты забуд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бе покажут — ты запомни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ы сделаешь — ты поймёш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"/>
          <p:cNvSpPr/>
          <p:nvPr/>
        </p:nvSpPr>
        <p:spPr>
          <a:xfrm>
            <a:off x="0" y="590400"/>
            <a:ext cx="914400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Самостоятельная рабо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формировать умения сравнивать, обобщать, рассуждать, выделять главные мысли в материале каждого урока, в параграфе учебника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нной книг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бодит детей от зазубри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смысленного запоминания, приводящего к перегрузке памяти, потере интереса к об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учит школьников работать с текс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ками, вопросами, оглавлением учебной и научно-популяр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Когда можно использовать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5" name="Rectangle 2"/>
          <p:cNvSpPr/>
          <p:nvPr/>
        </p:nvSpPr>
        <p:spPr>
          <a:xfrm>
            <a:off x="428760" y="1571760"/>
            <a:ext cx="8358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творческих видах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боте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6T12:49:13Z</dcterms:modified>
  <cp:revision>4</cp:revision>
  <dc:subject/>
  <dc:title>Современный урок окружающего мира</dc:title>
</cp:coreProperties>
</file>