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6743-F04F-4BD6-982A-402001EBA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2C3A-A225-40BB-8C25-1CBCA48A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A415-A6D8-49B0-9B5B-65C2E9706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31C5-F157-4BF7-8F68-69CD902DA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8D62-A014-410B-A6FA-5C6699B5F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BFE4-6C0E-443E-A6FC-3B1DFE378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59C8F-5C59-473E-8A1D-FD50B9D0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7C4F-08E5-4B2B-A0D5-86A94DBEE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7D34-C61E-47F0-B3EC-B77BFE7F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97E9-D902-4385-BB7E-D897ED00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9B04-466A-4212-93E8-1BDC4697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C721-7515-492B-9B99-2A30A705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B6D7-0803-4BFD-B76F-AE16E656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B38B-6E75-4A9E-9517-BBB2AD21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AB84-7DE8-4472-B668-9FF3A24F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6714-4138-4E17-A6A6-E08C53071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03E80-5998-460C-84E0-ABF981514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5580-2C69-4D3C-A8B4-EF1FFDF7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CBD1-846C-439A-829B-EC6BA684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5D1E-3AF5-4268-8660-B3DADFA7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67D3-6D60-47E1-973B-48B7E98C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3053-046F-4DB2-9444-8B313730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E8E7-C262-42F0-99F8-03134BD7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C936-F251-4CA8-AA7B-4DF576DF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4202-ECC4-443D-B165-644BEC39740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509E-5B86-4C08-8CC1-8DE0CEB74F0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619280" y="2637000"/>
            <a:ext cx="59040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ворческая мастерская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771640" y="4581360"/>
            <a:ext cx="4057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еселые портрет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643280" y="1413000"/>
            <a:ext cx="4280040" cy="24080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700360" y="3933720"/>
            <a:ext cx="4392720" cy="24717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324000" y="1413000"/>
            <a:ext cx="4249440" cy="2392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487520" y="260280"/>
            <a:ext cx="65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1800" spc="-1" strike="noStrike">
                <a:solidFill>
                  <a:srgbClr val="703dff"/>
                </a:solidFill>
                <a:latin typeface="Times New Roman"/>
              </a:rPr>
              <a:t>Аппликация «Веселые портрет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ошкольникам был предоставлен выбор в оформлении причес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68320" y="907920"/>
            <a:ext cx="237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Салфетки обрывали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скатывали в комоч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217120" y="907920"/>
            <a:ext cx="268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олоски цветной бума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обрыва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66760" y="6381720"/>
            <a:ext cx="39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Бумагу разрезали на прямые полос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4064040" cy="2286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68360" y="3335400"/>
            <a:ext cx="4103640" cy="2308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4716360" y="3284640"/>
            <a:ext cx="4208400" cy="2367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686120" y="1125360"/>
            <a:ext cx="359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Группа по своему жела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оделилась на три подгруп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419640" y="3500280"/>
            <a:ext cx="5000400" cy="28130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68360" y="836640"/>
            <a:ext cx="4568760" cy="25700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5508720" y="1052640"/>
            <a:ext cx="2543040" cy="16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ши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ртреты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7T07:06:05Z</dcterms:created>
  <dc:creator>Сережа</dc:creator>
  <dc:description/>
  <dc:language>en-US</dc:language>
  <cp:lastModifiedBy>Сережа</cp:lastModifiedBy>
  <dcterms:modified xsi:type="dcterms:W3CDTF">2017-09-17T07:50:31Z</dcterms:modified>
  <cp:revision>2</cp:revision>
  <dc:subject/>
  <dc:title>Слайд 1</dc:title>
</cp:coreProperties>
</file>