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atzoo.wav" ContentType="audio/x-wav"/>
  <Override PartName="/ppt/media/image7.wmf" ContentType="image/x-wmf"/>
  <Override PartName="/ppt/media/image6.wmf" ContentType="image/x-wmf"/>
  <Override PartName="/ppt/media/image12.jpeg" ContentType="image/jpeg"/>
  <Override PartName="/ppt/media/image10.wmf" ContentType="image/x-wmf"/>
  <Override PartName="/ppt/media/image19.png" ContentType="image/png"/>
  <Override PartName="/ppt/media/image18.jpeg" ContentType="image/jpeg"/>
  <Override PartName="/ppt/media/image17.jpeg" ContentType="image/jpeg"/>
  <Override PartName="/ppt/media/image16.wmf" ContentType="image/x-wmf"/>
  <Override PartName="/ppt/media/image14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13.wmf" ContentType="image/x-wmf"/>
  <Override PartName="/ppt/media/image8.jpeg" ContentType="image/jpe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2E1E-6D3A-456D-B57D-6269EF5D9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7CB7-9AEF-4E02-B6E8-A1E9A3F4E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39CD-9212-4D89-AD31-C7D94A955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1ACA-EA5C-43E4-B878-13741F238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DED3-A205-4695-A6B8-504235B2B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CCAB-85AB-4293-8E8C-C39951994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7484-A449-4ED8-99CB-EC9E3369B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A912-F121-4196-992A-E81DEB174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DFD1-5651-4B10-9906-7D45226FE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86B7-0727-4E1E-A581-14F185AA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89E0-BFD0-418F-99E6-B3B81F85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E274-3FA2-440B-9009-DA310166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539FB-D3F8-4664-9F32-83A082BE3E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audio" Target="../media/atzoo.wav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file:///tmp/home/.config/libreoffice/4/user/gallery/monkey.wav" TargetMode="External"/><Relationship Id="rId3" Type="http://schemas.openxmlformats.org/officeDocument/2006/relationships/image" Target="../media/image5.wmf"/><Relationship Id="rId4" Type="http://schemas.openxmlformats.org/officeDocument/2006/relationships/hyperlink" Target="file:///tmp/home/.config/libreoffice/4/user/gallery/panda.wav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file:///tmp/home/.config/libreoffice/4/user/gallery/zebra.wav" TargetMode="External"/><Relationship Id="rId3" Type="http://schemas.openxmlformats.org/officeDocument/2006/relationships/image" Target="../media/image6.wmf"/><Relationship Id="rId4" Type="http://schemas.openxmlformats.org/officeDocument/2006/relationships/hyperlink" Target="file:///tmp/home/.config/libreoffice/4/user/gallery/giraffe.wav" TargetMode="External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file:///tmp/home/.config/libreoffice/4/user/gallery/tiger.wav" TargetMode="External"/><Relationship Id="rId3" Type="http://schemas.openxmlformats.org/officeDocument/2006/relationships/image" Target="../media/image3.wmf"/><Relationship Id="rId4" Type="http://schemas.openxmlformats.org/officeDocument/2006/relationships/hyperlink" Target="file:///tmp/home/.config/libreoffice/4/user/gallery/lion.wav" TargetMode="External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file:///tmp/home/.config/libreoffice/4/user/gallery/camel.wav" TargetMode="External"/><Relationship Id="rId3" Type="http://schemas.openxmlformats.org/officeDocument/2006/relationships/image" Target="../media/image13.wmf"/><Relationship Id="rId4" Type="http://schemas.openxmlformats.org/officeDocument/2006/relationships/hyperlink" Target="file:///tmp/home/.config/libreoffice/4/user/gallery/ostrich.wav" TargetMode="External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file:///tmp/home/.config/libreoffice/4/user/gallery/elephant.wav" TargetMode="External"/><Relationship Id="rId3" Type="http://schemas.openxmlformats.org/officeDocument/2006/relationships/image" Target="../media/image7.wmf"/><Relationship Id="rId4" Type="http://schemas.openxmlformats.org/officeDocument/2006/relationships/hyperlink" Target="file:///tmp/home/.config/libreoffice/4/user/gallery/hippo.wav" TargetMode="External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Panda &amp; Bamboo"/>
          <p:cNvPicPr/>
          <p:nvPr/>
        </p:nvPicPr>
        <p:blipFill>
          <a:blip r:embed="rId2"/>
          <a:stretch/>
        </p:blipFill>
        <p:spPr>
          <a:xfrm>
            <a:off x="3203640" y="0"/>
            <a:ext cx="2448000" cy="2160720"/>
          </a:xfrm>
          <a:prstGeom prst="rect">
            <a:avLst/>
          </a:prstGeom>
          <a:ln w="0">
            <a:noFill/>
          </a:ln>
        </p:spPr>
      </p:pic>
      <p:sp>
        <p:nvSpPr>
          <p:cNvPr id="42" name="WordArt 4"/>
          <p:cNvSpPr txBox="1"/>
          <p:nvPr/>
        </p:nvSpPr>
        <p:spPr>
          <a:xfrm>
            <a:off x="2050920" y="2924280"/>
            <a:ext cx="5905800" cy="86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66"/>
                </a:solidFill>
                <a:latin typeface="Arial Rounded MT Bold"/>
              </a:rPr>
              <a:t>At the zoo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66"/>
              </a:solidFill>
              <a:latin typeface="Arial Rounded MT Bold"/>
              <a:ea typeface="Arial Rounded MT Bold"/>
            </a:endParaRPr>
          </a:p>
        </p:txBody>
      </p:sp>
      <p:pic>
        <p:nvPicPr>
          <p:cNvPr id="43" name="Picture 6" descr="Tiger 01"/>
          <p:cNvPicPr/>
          <p:nvPr/>
        </p:nvPicPr>
        <p:blipFill>
          <a:blip r:embed="rId3"/>
          <a:stretch/>
        </p:blipFill>
        <p:spPr>
          <a:xfrm>
            <a:off x="6989760" y="4221000"/>
            <a:ext cx="2154240" cy="2157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Lion 13"/>
          <p:cNvPicPr/>
          <p:nvPr/>
        </p:nvPicPr>
        <p:blipFill>
          <a:blip r:embed="rId4"/>
          <a:stretch/>
        </p:blipFill>
        <p:spPr>
          <a:xfrm>
            <a:off x="468360" y="4581360"/>
            <a:ext cx="1441440" cy="2009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Monkey Dancing 1"/>
          <p:cNvPicPr/>
          <p:nvPr/>
        </p:nvPicPr>
        <p:blipFill>
          <a:blip r:embed="rId5"/>
          <a:stretch/>
        </p:blipFill>
        <p:spPr>
          <a:xfrm>
            <a:off x="7684920" y="189000"/>
            <a:ext cx="1459080" cy="1933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Zebra 06"/>
          <p:cNvPicPr/>
          <p:nvPr/>
        </p:nvPicPr>
        <p:blipFill>
          <a:blip r:embed="rId6"/>
          <a:stretch/>
        </p:blipFill>
        <p:spPr>
          <a:xfrm>
            <a:off x="3564000" y="4365720"/>
            <a:ext cx="2519280" cy="2255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Elephant 17"/>
          <p:cNvPicPr/>
          <p:nvPr/>
        </p:nvPicPr>
        <p:blipFill>
          <a:blip r:embed="rId7"/>
          <a:stretch/>
        </p:blipFill>
        <p:spPr>
          <a:xfrm>
            <a:off x="0" y="476280"/>
            <a:ext cx="206064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tz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Monkey Dancing 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19640" y="1052640"/>
            <a:ext cx="2716200" cy="3600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Panda &amp; Bamboo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11280" y="1484280"/>
            <a:ext cx="3311280" cy="29242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0"/>
          <p:cNvSpPr/>
          <p:nvPr/>
        </p:nvSpPr>
        <p:spPr>
          <a:xfrm>
            <a:off x="755640" y="4724280"/>
            <a:ext cx="367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omic Sans MS"/>
              </a:rPr>
              <a:t>pand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4859280" y="4797360"/>
            <a:ext cx="4105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omic Sans MS"/>
              </a:rPr>
              <a:t>monke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4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1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Zebra 0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2492280"/>
            <a:ext cx="3240000" cy="2903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Giraffe 0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651640" y="2205000"/>
            <a:ext cx="2671560" cy="38782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"/>
          <p:cNvSpPr/>
          <p:nvPr/>
        </p:nvSpPr>
        <p:spPr>
          <a:xfrm>
            <a:off x="250920" y="620640"/>
            <a:ext cx="3241440" cy="1312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omic Sans MS"/>
              </a:rPr>
              <a:t>zebr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4932360" y="476280"/>
            <a:ext cx="3673440" cy="1312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omic Sans MS"/>
              </a:rPr>
              <a:t>giraff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9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5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Tiger 0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00000" y="1628640"/>
            <a:ext cx="2478240" cy="2481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Lion 13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148360" y="1197000"/>
            <a:ext cx="3190680" cy="44528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1042920" y="4581360"/>
            <a:ext cx="302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tige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4932360" y="4724280"/>
            <a:ext cx="223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lio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2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8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amel 1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16360" y="1773360"/>
            <a:ext cx="4094280" cy="4236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Ostrich - Head in Sand 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5280" y="836640"/>
            <a:ext cx="3473280" cy="39625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"/>
          <p:cNvSpPr/>
          <p:nvPr/>
        </p:nvSpPr>
        <p:spPr>
          <a:xfrm>
            <a:off x="250920" y="5229360"/>
            <a:ext cx="4392360" cy="1312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omic Sans MS"/>
              </a:rPr>
              <a:t>Ostric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219640" y="189000"/>
            <a:ext cx="3240000" cy="1312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omic Sans MS"/>
              </a:rPr>
              <a:t>camel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5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1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9" descr="Elephant 1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00000" y="1052640"/>
            <a:ext cx="3221280" cy="37130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0"/>
          <p:cNvSpPr/>
          <p:nvPr/>
        </p:nvSpPr>
        <p:spPr>
          <a:xfrm>
            <a:off x="1116000" y="494172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elephan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4643280" y="765000"/>
            <a:ext cx="39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66"/>
                </a:solidFill>
                <a:latin typeface="Arial Rounded MT Bold"/>
              </a:rPr>
              <a:t>hipp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2" descr="Hippo Drinkin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076720" y="2133720"/>
            <a:ext cx="352764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0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365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468" autoRev="1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408" fill="hold">
                                          <p:stCondLst>
                                            <p:cond delay="259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8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9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AutoShape 7"/>
          <p:cNvSpPr/>
          <p:nvPr/>
        </p:nvSpPr>
        <p:spPr>
          <a:xfrm>
            <a:off x="755640" y="5013360"/>
            <a:ext cx="7056360" cy="1440000"/>
          </a:xfrm>
          <a:prstGeom prst="wedgeEllipseCallout">
            <a:avLst>
              <a:gd name="adj1" fmla="val 58953"/>
              <a:gd name="adj2" fmla="val 37208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6"/>
          <p:cNvSpPr/>
          <p:nvPr/>
        </p:nvSpPr>
        <p:spPr>
          <a:xfrm>
            <a:off x="0" y="0"/>
            <a:ext cx="8964720" cy="1628640"/>
          </a:xfrm>
          <a:prstGeom prst="wedgeEllipseCallout">
            <a:avLst>
              <a:gd name="adj1" fmla="val -48226"/>
              <a:gd name="adj2" fmla="val 98245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hat animal is thi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Panda &amp; Bamboo"/>
          <p:cNvPicPr/>
          <p:nvPr/>
        </p:nvPicPr>
        <p:blipFill>
          <a:blip r:embed="rId2"/>
          <a:stretch/>
        </p:blipFill>
        <p:spPr>
          <a:xfrm>
            <a:off x="2484360" y="1773360"/>
            <a:ext cx="3776760" cy="33336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5"/>
          <p:cNvSpPr/>
          <p:nvPr/>
        </p:nvSpPr>
        <p:spPr>
          <a:xfrm>
            <a:off x="1187280" y="5157720"/>
            <a:ext cx="640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It’s a panda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WordArt 4"/>
          <p:cNvSpPr txBox="1"/>
          <p:nvPr/>
        </p:nvSpPr>
        <p:spPr>
          <a:xfrm>
            <a:off x="1763640" y="1484280"/>
            <a:ext cx="6337440" cy="299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Goodbye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1:50:53Z</dcterms:created>
  <dc:creator>kisito</dc:creator>
  <dc:description/>
  <dc:language>en-US</dc:language>
  <cp:lastModifiedBy>Natasha</cp:lastModifiedBy>
  <dcterms:modified xsi:type="dcterms:W3CDTF">2017-09-17T19:34:55Z</dcterms:modified>
  <cp:revision>52</cp:revision>
  <dc:subject/>
  <dc:title>Slide 1</dc:title>
</cp:coreProperties>
</file>