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8E662-E4B5-4A8C-BAA9-AB5AB956A5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88DE3-4578-43FD-B8E6-2F699959BB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1740-930F-4D53-8526-3698061282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A56E9-BF0F-46F2-A369-3C9CBAA785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7FF3F-7593-481C-BF38-54211AEAE0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ABBDC-28BA-4861-AF25-F561F54338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CE2F9-4167-4D64-8619-48B748262F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A598A-102E-488E-98A2-B330BE3B25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9CDB6-A4B1-46BC-8309-A65A9C0676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A67E-D53C-4683-9F2E-F15C415B0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16E7-1833-4032-88C9-62CF531C5CD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2DB4-9AF1-411D-9B8D-3D5BEC1029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48C5-0CD8-4A9A-9F7E-D58630C2CB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E425-899F-42DB-9AB4-4C489A4769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F294-8BD0-443D-97A2-7F5B97C2A0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6207-5B74-4C0F-8426-B136E5C731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1891-75D3-496D-86DD-49E59024E5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6804-F541-4723-9695-D0EAD81B6A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D7A6-218A-4274-9047-733136B8D5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629F-C346-49C0-8C0B-150D78236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1132-FAB2-473F-A053-ABBFD38C81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06CD8-9FF7-45CC-9B2A-8C1BD0386C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88AE8-8216-4E40-A10D-AE2FEEC808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FA2CD-B2A1-4539-A7D4-A3214AACC7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13ED6-2B32-401F-9B85-80B93D65A3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B4261-724D-4D47-9448-2E08698DF5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D1AB0-DF77-48B5-896B-8DF47E65C2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7DD22-F568-4329-8B61-8EAA48741FF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B4024-9BC6-461C-BE1A-E5C7520DEA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9E1AF-5435-4B00-9571-8A0DB6B28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DC86-A4E3-4D70-851D-B5515EF490B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AC97E-8EB3-4E30-B6F0-DAF8B547CB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4A805-45A9-4A46-AA87-5BEEE31492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6C9C2-1F37-45C7-8D36-557CF864FB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D4357-5551-4BE9-9330-48D6674BC0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94877-2B27-4B27-B021-A4B82B646B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2820D-8275-486E-A16C-EBD8EA5331B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85ECA-04FE-4371-B03D-2B75942D04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09531-48E9-42B0-A9A3-57BF04FB59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9DC92-A18C-434F-A860-F6684557A7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92E20-1991-477D-8626-EA42F8842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1C1F-CBF9-4551-841E-EB7FD706FE3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68F25-E294-4010-91B3-A203716F88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9D968-2CE9-4E04-ACB6-B41A4D13C8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FDFFE-BF8C-4A48-BE4E-D5B1025A00A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99824-C498-412A-8F06-D1F43ED51EC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93AED-27DB-4A0C-AFFF-D2434A0B6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4E3C-5FD8-4130-8155-7BD8BEC406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A48F-1AA4-4C87-9E23-F2ED3FD90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0209-8FE3-48E0-843C-4F0CC046BF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DB29-CCE6-4831-969B-44C6E60872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BCAA-6AA5-4AEF-A7A6-4A02CDE17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351C-D10C-4AEF-B695-58A072BE8D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0015-30C9-4551-BFEF-C2BA4CCAA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E47D-F700-4726-B07D-D9722D4D7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34C8-08D9-4D6F-8640-C696AA3076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4CCB-5D00-43A0-97C6-42EC5F5ADD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B4E4-1307-4BCC-910C-899A34693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D5C9-40B6-46C7-80AD-6EA68B5C92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FD1B-6989-472D-A4F0-C205610946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7F22-A6AB-4965-834E-76EDD56F91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6888-0939-48D0-92FC-1D5243DB9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E840-266D-479E-BC8C-A4D37CBC96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5BE1-247B-4A9B-B992-E62E90C623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FCE9-D391-4B6B-9D43-4F0264190C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7CA2-FF2F-4673-890D-17D7AC5AA2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CEB2-8DBE-46B8-9FBF-7CEC056F84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D3C2-6E39-45F8-B42A-B9AE0BE04A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279A-C081-4EFB-8431-119507702F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AB2-4346-4BF3-96FB-CCDF0C4052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68A-5741-4654-B1D6-182ACB1061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1FC-67AF-4FDB-B475-BBAA4668C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390-A6BA-48D0-B876-079392A940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707-2B76-4C8B-8EEA-777CF887A2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6B0-15FD-4514-9E84-C4A1F00C32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21E-E709-40DA-BFB8-DE331E0C67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332-70D8-4F4B-A320-0ECE60EDD0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540-2DF8-4E7B-B56A-C29E746654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3B6-BBAF-47CD-9D12-ED371C63B8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105-BD96-4A82-B4EC-6A323DD6D5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5F3-60C4-458A-A354-2FF39A39FB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A52B8-B5CE-44EF-8D39-8FA746610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8739A-147E-4E20-B213-39DF912FF7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E3FA-079A-4571-AE80-4C9D1EA407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BB17-7B7D-4501-B7FD-86C3400334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C12EE-B762-4A32-9338-08F6C86102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D25A9-B2F7-43B6-A65D-5AE45845C7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2687F-331F-45EB-904F-8469D29464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5E85-26EC-4490-9F20-10D8085846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0F3A2-16B7-41B8-A75B-B03B5F48A5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569D-C0A3-4A90-A1C7-2FF316B4DD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64715-FC00-4D0C-BD0C-46AF4507D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8EE04-E50D-4C21-8497-B7DC8740AB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FDDC1-9ED6-4BDB-9751-F624ECE2E1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7F679-768E-4A77-96A8-12B5FDCFB4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83A2-3DD9-4AB9-84CD-01DC72DA7D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D0CE-EE8D-47B9-8965-4186DA9124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5C2AB-3C7E-430C-AC65-F6ECFE7A62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F4C1-8842-43C7-A1A5-2D0E55C88D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8A1E-9315-40CD-8D79-53F8148F1E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3A410-1068-45B4-9E3A-65F9E4A1F7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E1929-2EAE-4258-86DC-6522F78B1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D703D-B428-4003-A52C-158925A9DA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AFB09-4CC2-42FC-8DD6-B0389174C8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119B5-86EC-48E4-A329-9650BD6F20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B11-E159-47A4-A89B-D4D362C45F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18F7-CD18-43E2-A7BE-A871233F49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F5B-6211-4746-9088-D0AF9BBFF2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554-052E-4976-BBEE-5764EB760D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4278-DACD-48F3-896F-C7630317C0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8EB-1FE3-44B3-A55A-80B29E2968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256-60B7-4269-9F43-6A0405633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FDC8-9C7F-4774-B4E7-5329855238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55DB-3BAF-4FD1-8FB6-BC3849B98C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B090-0556-4AF1-B7A7-45A2CC952E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5E2E-A96C-448A-80D7-0ADD3594FD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B07D-D15E-411B-B1B1-672A7CD5D0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CA8E7-7CBB-4EA1-A571-FDA249D41F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9F34E-C428-4022-982D-67D20A1F3C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FC87F-F80E-4933-B09D-78D2BB3EF0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C67C7-C3CD-4063-9442-902B21265D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C2EB4-9036-4D15-A6DD-6825B40ED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11040" y="409320"/>
            <a:ext cx="85219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A54A1-92EB-41CD-A199-D743F8133E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05508-3541-45DE-80AC-6C3BD5A113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734F0-7A13-45F1-B889-7E666287C8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1FBBA-BC0F-4A19-9451-2A75592D3C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040" y="2973960"/>
            <a:ext cx="8521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1E965-67A6-43C9-AC68-C9DD4BD29B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23012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0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7840" y="2973960"/>
            <a:ext cx="415836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4C03F-621B-443A-BAD2-FC6D2D40CF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9248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3920" y="123012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04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9248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3920" y="2973960"/>
            <a:ext cx="2743920" cy="15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9E462-10B4-4194-8E15-ED13873E2E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366AA-0662-4D3D-BAE5-B986F25E4F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CFBA9-E351-4E9B-9F89-8F9927646F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A958E-09F4-4120-99CD-6C4C05BAA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8"/>
          <p:cNvSpPr/>
          <p:nvPr/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565-3C17-42B6-ABA9-B2F5BA14AE4A}" type="slidenum">
              <a:rPr b="0" lang="en-US" sz="1000" spc="-1" strike="noStrike">
                <a:solidFill>
                  <a:srgbClr val="ffffff"/>
                </a:solidFill>
                <a:latin typeface="Robo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9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343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F5B-995D-4719-A1C2-142CB2B82CC5}" type="slidenum">
              <a:rPr b="0" lang="en-US" sz="2400" spc="-1" strike="noStrike">
                <a:solidFill>
                  <a:srgbClr val="4343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39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Shape 70"/>
          <p:cNvGrpSpPr/>
          <p:nvPr/>
        </p:nvGrpSpPr>
        <p:grpSpPr>
          <a:xfrm>
            <a:off x="6097680" y="0"/>
            <a:ext cx="3046320" cy="2030400"/>
            <a:chOff x="6097680" y="0"/>
            <a:chExt cx="3046320" cy="2030400"/>
          </a:xfrm>
        </p:grpSpPr>
        <p:sp>
          <p:nvSpPr>
            <p:cNvPr id="417" name="Shape 71"/>
            <p:cNvSpPr/>
            <p:nvPr/>
          </p:nvSpPr>
          <p:spPr>
            <a:xfrm>
              <a:off x="8128800" y="0"/>
              <a:ext cx="1015200" cy="1015200"/>
            </a:xfrm>
            <a:prstGeom prst="rect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hape 72"/>
            <p:cNvSpPr/>
            <p:nvPr/>
          </p:nvSpPr>
          <p:spPr>
            <a:xfrm flipH="1">
              <a:off x="7112880" y="0"/>
              <a:ext cx="1015200" cy="1015200"/>
            </a:xfrm>
            <a:prstGeom prst="rtTriangle">
              <a:avLst/>
            </a:prstGeom>
            <a:solidFill>
              <a:srgbClr val="394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hape 73"/>
            <p:cNvSpPr/>
            <p:nvPr/>
          </p:nvSpPr>
          <p:spPr>
            <a:xfrm flipH="1" rot="10800000">
              <a:off x="7113240" y="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hape 74"/>
            <p:cNvSpPr/>
            <p:nvPr/>
          </p:nvSpPr>
          <p:spPr>
            <a:xfrm rot="10800000">
              <a:off x="6097680" y="0"/>
              <a:ext cx="1015200" cy="1015200"/>
            </a:xfrm>
            <a:prstGeom prst="rtTriangle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hape 75"/>
            <p:cNvSpPr/>
            <p:nvPr/>
          </p:nvSpPr>
          <p:spPr>
            <a:xfrm rot="10800000">
              <a:off x="8128440" y="101520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0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634-2CC7-43DF-9F32-E6D48628C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1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343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C7C-2832-4464-82B1-0FB2D2374E9B}" type="slidenum">
              <a:rPr b="0" lang="en-US" sz="2400" spc="-1" strike="noStrike">
                <a:solidFill>
                  <a:srgbClr val="4343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39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Shape 10"/>
          <p:cNvGrpSpPr/>
          <p:nvPr/>
        </p:nvGrpSpPr>
        <p:grpSpPr>
          <a:xfrm>
            <a:off x="6097680" y="0"/>
            <a:ext cx="3046320" cy="2030400"/>
            <a:chOff x="6097680" y="0"/>
            <a:chExt cx="3046320" cy="2030400"/>
          </a:xfrm>
        </p:grpSpPr>
        <p:sp>
          <p:nvSpPr>
            <p:cNvPr id="40" name="Shape 11"/>
            <p:cNvSpPr/>
            <p:nvPr/>
          </p:nvSpPr>
          <p:spPr>
            <a:xfrm>
              <a:off x="8128800" y="0"/>
              <a:ext cx="1015200" cy="1015200"/>
            </a:xfrm>
            <a:prstGeom prst="rect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Shape 12"/>
            <p:cNvSpPr/>
            <p:nvPr/>
          </p:nvSpPr>
          <p:spPr>
            <a:xfrm flipH="1">
              <a:off x="7112880" y="0"/>
              <a:ext cx="1015200" cy="1015200"/>
            </a:xfrm>
            <a:prstGeom prst="rtTriangle">
              <a:avLst/>
            </a:prstGeom>
            <a:solidFill>
              <a:srgbClr val="394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Shape 13"/>
            <p:cNvSpPr/>
            <p:nvPr/>
          </p:nvSpPr>
          <p:spPr>
            <a:xfrm flipH="1" rot="10800000">
              <a:off x="7113240" y="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hape 14"/>
            <p:cNvSpPr/>
            <p:nvPr/>
          </p:nvSpPr>
          <p:spPr>
            <a:xfrm rot="10800000">
              <a:off x="6097680" y="0"/>
              <a:ext cx="1015200" cy="1015200"/>
            </a:xfrm>
            <a:prstGeom prst="rtTriangle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hape 15"/>
            <p:cNvSpPr/>
            <p:nvPr/>
          </p:nvSpPr>
          <p:spPr>
            <a:xfrm rot="10800000">
              <a:off x="8128440" y="101520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865-EEC8-4096-BE27-0950A2F287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39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Shape 20"/>
          <p:cNvGrpSpPr/>
          <p:nvPr/>
        </p:nvGrpSpPr>
        <p:grpSpPr>
          <a:xfrm>
            <a:off x="6097680" y="0"/>
            <a:ext cx="3046320" cy="2030400"/>
            <a:chOff x="6097680" y="0"/>
            <a:chExt cx="3046320" cy="2030400"/>
          </a:xfrm>
        </p:grpSpPr>
        <p:sp>
          <p:nvSpPr>
            <p:cNvPr id="85" name="Shape 21"/>
            <p:cNvSpPr/>
            <p:nvPr/>
          </p:nvSpPr>
          <p:spPr>
            <a:xfrm>
              <a:off x="8128800" y="0"/>
              <a:ext cx="1015200" cy="1015200"/>
            </a:xfrm>
            <a:prstGeom prst="rect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hape 22"/>
            <p:cNvSpPr/>
            <p:nvPr/>
          </p:nvSpPr>
          <p:spPr>
            <a:xfrm flipH="1">
              <a:off x="7112880" y="0"/>
              <a:ext cx="1015200" cy="1015200"/>
            </a:xfrm>
            <a:prstGeom prst="rtTriangle">
              <a:avLst/>
            </a:prstGeom>
            <a:solidFill>
              <a:srgbClr val="394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hape 23"/>
            <p:cNvSpPr/>
            <p:nvPr/>
          </p:nvSpPr>
          <p:spPr>
            <a:xfrm flipH="1" rot="10800000">
              <a:off x="7113240" y="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hape 24"/>
            <p:cNvSpPr/>
            <p:nvPr/>
          </p:nvSpPr>
          <p:spPr>
            <a:xfrm rot="10800000">
              <a:off x="6097680" y="0"/>
              <a:ext cx="1015200" cy="1015200"/>
            </a:xfrm>
            <a:prstGeom prst="rtTriangle">
              <a:avLst/>
            </a:prstGeom>
            <a:solidFill>
              <a:srgbClr val="212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hape 25"/>
            <p:cNvSpPr/>
            <p:nvPr/>
          </p:nvSpPr>
          <p:spPr>
            <a:xfrm rot="10800000">
              <a:off x="8128440" y="1015200"/>
              <a:ext cx="1015200" cy="1015200"/>
            </a:xfrm>
            <a:prstGeom prst="rtTriangle">
              <a:avLst/>
            </a:prstGeom>
            <a:solidFill>
              <a:srgbClr val="789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2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978-DB21-4093-8E53-CDC17EE08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Shape 29"/>
          <p:cNvGrpSpPr/>
          <p:nvPr/>
        </p:nvGrpSpPr>
        <p:grpSpPr>
          <a:xfrm>
            <a:off x="0" y="3903840"/>
            <a:ext cx="9144000" cy="1239840"/>
            <a:chOff x="0" y="3903840"/>
            <a:chExt cx="9144000" cy="1239840"/>
          </a:xfrm>
        </p:grpSpPr>
        <p:sp>
          <p:nvSpPr>
            <p:cNvPr id="130" name="Shape 30"/>
            <p:cNvSpPr/>
            <p:nvPr/>
          </p:nvSpPr>
          <p:spPr>
            <a:xfrm>
              <a:off x="8155080" y="3903840"/>
              <a:ext cx="988920" cy="987840"/>
            </a:xfrm>
            <a:prstGeom prst="rtTriangle">
              <a:avLst/>
            </a:prstGeom>
            <a:solidFill>
              <a:srgbClr val="f06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hape 31"/>
            <p:cNvSpPr/>
            <p:nvPr/>
          </p:nvSpPr>
          <p:spPr>
            <a:xfrm flipH="1">
              <a:off x="6180480" y="3903840"/>
              <a:ext cx="988920" cy="987840"/>
            </a:xfrm>
            <a:prstGeom prst="rtTriangle">
              <a:avLst/>
            </a:prstGeom>
            <a:solidFill>
              <a:srgbClr val="f06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hape 32"/>
            <p:cNvSpPr/>
            <p:nvPr/>
          </p:nvSpPr>
          <p:spPr>
            <a:xfrm>
              <a:off x="7170480" y="3903840"/>
              <a:ext cx="988920" cy="987840"/>
            </a:xfrm>
            <a:prstGeom prst="rect">
              <a:avLst/>
            </a:prstGeom>
            <a:solidFill>
              <a:srgbClr val="d23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hape 33"/>
            <p:cNvSpPr/>
            <p:nvPr/>
          </p:nvSpPr>
          <p:spPr>
            <a:xfrm rot="10800000">
              <a:off x="8154360" y="3903840"/>
              <a:ext cx="988920" cy="987840"/>
            </a:xfrm>
            <a:prstGeom prst="rtTriangle">
              <a:avLst/>
            </a:prstGeom>
            <a:solidFill>
              <a:srgbClr val="9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hape 34"/>
            <p:cNvSpPr/>
            <p:nvPr/>
          </p:nvSpPr>
          <p:spPr>
            <a:xfrm>
              <a:off x="0" y="4891680"/>
              <a:ext cx="9144000" cy="252000"/>
            </a:xfrm>
            <a:prstGeom prst="rect">
              <a:avLst/>
            </a:prstGeom>
            <a:solidFill>
              <a:srgbClr val="2a3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7C3F-6DFC-4E68-9E62-1E5F5356F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4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343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F5E-777F-4439-B9FA-2C22C9B92D9E}" type="slidenum">
              <a:rPr b="0" lang="en-US" sz="2400" spc="-1" strike="noStrike">
                <a:solidFill>
                  <a:srgbClr val="4343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5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343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E6F5-1D7A-4720-82D4-8EFE42F119A1}" type="slidenum">
              <a:rPr b="0" lang="en-US" sz="2400" spc="-1" strike="noStrike">
                <a:solidFill>
                  <a:srgbClr val="4343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6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343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7C21-73D6-4166-8D1B-0B4A03312A92}" type="slidenum">
              <a:rPr b="0" lang="en-US" sz="2400" spc="-1" strike="noStrike">
                <a:solidFill>
                  <a:srgbClr val="4343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33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Shape 51"/>
          <p:cNvGrpSpPr/>
          <p:nvPr/>
        </p:nvGrpSpPr>
        <p:grpSpPr>
          <a:xfrm>
            <a:off x="6097680" y="0"/>
            <a:ext cx="3046320" cy="2030400"/>
            <a:chOff x="6097680" y="0"/>
            <a:chExt cx="3046320" cy="2030400"/>
          </a:xfrm>
        </p:grpSpPr>
        <p:sp>
          <p:nvSpPr>
            <p:cNvPr id="292" name="Shape 52"/>
            <p:cNvSpPr/>
            <p:nvPr/>
          </p:nvSpPr>
          <p:spPr>
            <a:xfrm>
              <a:off x="8128800" y="0"/>
              <a:ext cx="1015200" cy="1015200"/>
            </a:xfrm>
            <a:prstGeom prst="rect">
              <a:avLst/>
            </a:prstGeom>
            <a:solidFill>
              <a:srgbClr val="9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hape 53"/>
            <p:cNvSpPr/>
            <p:nvPr/>
          </p:nvSpPr>
          <p:spPr>
            <a:xfrm flipH="1">
              <a:off x="7112880" y="0"/>
              <a:ext cx="1015200" cy="1015200"/>
            </a:xfrm>
            <a:prstGeom prst="rtTriangle">
              <a:avLst/>
            </a:prstGeom>
            <a:solidFill>
              <a:srgbClr val="f06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hape 54"/>
            <p:cNvSpPr/>
            <p:nvPr/>
          </p:nvSpPr>
          <p:spPr>
            <a:xfrm flipH="1" rot="10800000">
              <a:off x="7113240" y="0"/>
              <a:ext cx="1015200" cy="1015200"/>
            </a:xfrm>
            <a:prstGeom prst="rtTriangle">
              <a:avLst/>
            </a:prstGeom>
            <a:solidFill>
              <a:srgbClr val="9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hape 55"/>
            <p:cNvSpPr/>
            <p:nvPr/>
          </p:nvSpPr>
          <p:spPr>
            <a:xfrm rot="10800000">
              <a:off x="6097680" y="0"/>
              <a:ext cx="1015200" cy="1015200"/>
            </a:xfrm>
            <a:prstGeom prst="rtTriangle">
              <a:avLst/>
            </a:prstGeom>
            <a:solidFill>
              <a:srgbClr val="f06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hape 56"/>
            <p:cNvSpPr/>
            <p:nvPr/>
          </p:nvSpPr>
          <p:spPr>
            <a:xfrm rot="10800000">
              <a:off x="8128440" y="1015200"/>
              <a:ext cx="1015200" cy="1015200"/>
            </a:xfrm>
            <a:prstGeom prst="rtTriangle">
              <a:avLst/>
            </a:prstGeom>
            <a:solidFill>
              <a:srgbClr val="f06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7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555-E3E0-43F1-A5D8-FEBE84AD80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hape 60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2a3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hape 61"/>
          <p:cNvCxnSpPr/>
          <p:nvPr/>
        </p:nvCxnSpPr>
        <p:spPr>
          <a:xfrm>
            <a:off x="5028840" y="4495320"/>
            <a:ext cx="46908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a399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8"/>
          </p:nvPr>
        </p:nvSpPr>
        <p:spPr>
          <a:xfrm>
            <a:off x="8459640" y="465120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763-6458-445C-AD88-449DBECED1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64960" y="1774440"/>
            <a:ext cx="8555040" cy="1027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Воздухоплава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24000" y="2716200"/>
            <a:ext cx="3960720" cy="79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Roboto"/>
              </a:rPr>
              <a:t>Батыгина Елена 7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Roboto"/>
              </a:rPr>
              <a:t>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»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БОУ СОШ №26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087280" y="-360"/>
            <a:ext cx="725148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Roboto"/>
              </a:rPr>
              <a:t>Дирижабль “Гинденбург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71160" y="734760"/>
            <a:ext cx="359100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“</a:t>
            </a: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Гинденбург” был самым большим в мире дирижаблем того времени. 6 мая 1936 он выполнял 18-ый перелет через Атлантику. При выполнении посадки “Гинденбург” загорелся и потерпел катастрофу. Чудом 61 человеку удалось спаст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Shape 152" descr="8009969ybg.jpg"/>
          <p:cNvPicPr/>
          <p:nvPr/>
        </p:nvPicPr>
        <p:blipFill>
          <a:blip r:embed="rId1"/>
          <a:stretch/>
        </p:blipFill>
        <p:spPr>
          <a:xfrm>
            <a:off x="3962520" y="1076400"/>
            <a:ext cx="5181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4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2a3990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boto"/>
              </a:rPr>
              <a:t>Стратостат - это свободный аэростат, предназначенный для полетов в стратосферу, то есть на высоту более 1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4960" y="-204840"/>
            <a:ext cx="4044960" cy="1565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Первый полет стратост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ubTitle"/>
          </p:nvPr>
        </p:nvSpPr>
        <p:spPr>
          <a:xfrm>
            <a:off x="264960" y="1360440"/>
            <a:ext cx="4044960" cy="325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27 мая 1931 Огюст Пикар и Пауль Кипфер совершили первый в истории полет в стратосферу, достигнув высоты 15785 метров. Несмотря на все неприятности, им удалось благополучно приземлиться. А 18 августа 1932 Пикар второй рекордный полет, который был более удачны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Shape 166" descr="bundesarchiv_bild_102-13739-stratospharenflug-augu.jpg"/>
          <p:cNvPicPr/>
          <p:nvPr/>
        </p:nvPicPr>
        <p:blipFill>
          <a:blip r:embed="rId1"/>
          <a:stretch/>
        </p:blipFill>
        <p:spPr>
          <a:xfrm>
            <a:off x="4619520" y="63360"/>
            <a:ext cx="4464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4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2a3990"/>
              </a:solidFill>
              <a:latin typeface="Roboto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boto"/>
              </a:rPr>
              <a:t>Метеозонд - это беспилотный аэростат, предназначенный для изучения атмосферы. Эти приборы позволяют измерять давление воздуха, температуру, влажнос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21800" y="184320"/>
            <a:ext cx="6402600" cy="838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Roboto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98320" y="2716200"/>
            <a:ext cx="82216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4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2a3990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11040" y="1320840"/>
            <a:ext cx="8521920" cy="334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boto"/>
              </a:rPr>
              <a:t>Воздухоплавание - это вертикальное или горизонтальное перемещение в атмосфере Земли на летательных аппаратах, которые легче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3760" y="839880"/>
            <a:ext cx="4046400" cy="1689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Физические основы воздухопла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ubTitle"/>
          </p:nvPr>
        </p:nvSpPr>
        <p:spPr>
          <a:xfrm>
            <a:off x="321840" y="2413080"/>
            <a:ext cx="3987720" cy="1977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 algn="ctr">
              <a:lnSpc>
                <a:spcPct val="100000"/>
              </a:lnSpc>
              <a:buClr>
                <a:srgbClr val="434343"/>
              </a:buClr>
              <a:buFont typeface="Robot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Шар поднимается, когда Fа&gt;F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100000"/>
              </a:lnSpc>
              <a:buClr>
                <a:srgbClr val="434343"/>
              </a:buClr>
              <a:buFont typeface="Robot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Высота шара не изменяется,когда Fа=F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3. Шар снижается, ког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 </a:t>
            </a: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Fа&lt;F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Shape 100" descr="99295_html_35bc4016.png"/>
          <p:cNvPicPr/>
          <p:nvPr/>
        </p:nvPicPr>
        <p:blipFill>
          <a:blip r:embed="rId1"/>
          <a:stretch/>
        </p:blipFill>
        <p:spPr>
          <a:xfrm>
            <a:off x="4621320" y="135000"/>
            <a:ext cx="4473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63400" y="-318960"/>
            <a:ext cx="3414960" cy="2573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Аэростат братьев Монгольфь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ubTitle"/>
          </p:nvPr>
        </p:nvSpPr>
        <p:spPr>
          <a:xfrm>
            <a:off x="330120" y="2421000"/>
            <a:ext cx="4044960" cy="127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4 июня 1783 в Париже впервые в истории поднялись в небо на монгольфьере - аэростате, наполненном горячим воздухом. Пассажирами были животные - курица, утка и овца. Шар пролетел 4 км за 10 мину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Shape 108" descr="1051px-Montgolfier_brothers_flight.jpg"/>
          <p:cNvPicPr/>
          <p:nvPr/>
        </p:nvPicPr>
        <p:blipFill>
          <a:blip r:embed="rId1"/>
          <a:stretch/>
        </p:blipFill>
        <p:spPr>
          <a:xfrm>
            <a:off x="4645080" y="76320"/>
            <a:ext cx="4421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22600" y="77400"/>
            <a:ext cx="4005360" cy="60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Roboto"/>
              </a:rPr>
              <a:t>Братья Монгольфь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-360" y="901440"/>
            <a:ext cx="4349880" cy="390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Братья Жозеф-Мишель и Жак-Этьенн - изобретатели воздушного шара. На долю братьев выпал первый положительный успех в воздухоплавании - они достигли поднятия изготовленного из бумаги шара с отверстием внизу, наполняя шар горячими газами, которые были легче воздуха, пока температура их была еще достаточно высока.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Shape 115" descr="pervyj-poljot-na-vozdushnom-share-b_2.jpg"/>
          <p:cNvPicPr/>
          <p:nvPr/>
        </p:nvPicPr>
        <p:blipFill>
          <a:blip r:embed="rId1"/>
          <a:stretch/>
        </p:blipFill>
        <p:spPr>
          <a:xfrm>
            <a:off x="4235400" y="901800"/>
            <a:ext cx="49086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64960" y="384120"/>
            <a:ext cx="4044960" cy="156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Изобретение профессора Шарл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ubTitle"/>
          </p:nvPr>
        </p:nvSpPr>
        <p:spPr>
          <a:xfrm>
            <a:off x="264960" y="2090880"/>
            <a:ext cx="4044960" cy="286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    </a:t>
            </a: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Теперь оболочка шара была изготовлена из шелковой ткани, покрытой раствором из каучука и скипидара. Шарль выбрал водород для наполнения обсжочки, т.к. считал, что он значительно легче воздух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Shape 123" descr="prof.jpg"/>
          <p:cNvPicPr/>
          <p:nvPr/>
        </p:nvPicPr>
        <p:blipFill>
          <a:blip r:embed="rId1"/>
          <a:stretch/>
        </p:blipFill>
        <p:spPr>
          <a:xfrm>
            <a:off x="4835520" y="185760"/>
            <a:ext cx="4044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1960" y="1106280"/>
            <a:ext cx="4044960" cy="1563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Шарль применил несколько нововведени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-360" y="2670120"/>
            <a:ext cx="4336920" cy="2394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2720">
              <a:lnSpc>
                <a:spcPct val="100000"/>
              </a:lnSpc>
              <a:buClr>
                <a:srgbClr val="434343"/>
              </a:buClr>
              <a:buFont typeface="Robot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При снижении использовался клапан, уменьшающий кол-во водорода в ш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buClr>
                <a:srgbClr val="434343"/>
              </a:buClr>
              <a:buFont typeface="Robot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Если надо было набрать высоту,сбрасывался балл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buClr>
                <a:srgbClr val="434343"/>
              </a:buClr>
              <a:buFont typeface="Robot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Roboto"/>
              </a:rPr>
              <a:t>Во время посадки выбрасывали якорь для остановки пол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522" name="Shape 131" descr="hello_html_7be981d6.png"/>
          <p:cNvPicPr/>
          <p:nvPr/>
        </p:nvPicPr>
        <p:blipFill>
          <a:blip r:embed="rId1"/>
          <a:stretch/>
        </p:blipFill>
        <p:spPr>
          <a:xfrm>
            <a:off x="4683240" y="217440"/>
            <a:ext cx="43369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64960" y="371160"/>
            <a:ext cx="4044960" cy="1563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Roboto"/>
              </a:rPr>
              <a:t>Первый полет человека на шарльер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264960" y="1796760"/>
            <a:ext cx="4044960" cy="27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34343"/>
                </a:solidFill>
                <a:latin typeface="Roboto"/>
              </a:rPr>
              <a:t>1 декабря 1783 шарльер пролетел 5 км, забравшись на небывалую высоту - 2750 метров. Пробыв в заоблачной вышине около получаса, шар благополучно приземлился, завершив первый в истории полет на аэростате с оболочкой, наполненной водород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38840" y="723960"/>
            <a:ext cx="3838320" cy="3695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526" name="Shape 139" descr="144.jpg"/>
          <p:cNvPicPr/>
          <p:nvPr/>
        </p:nvPicPr>
        <p:blipFill>
          <a:blip r:embed="rId1"/>
          <a:stretch/>
        </p:blipFill>
        <p:spPr>
          <a:xfrm>
            <a:off x="4875120" y="63360"/>
            <a:ext cx="39657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1040" y="409320"/>
            <a:ext cx="8521920" cy="64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2a3990"/>
              </a:solidFill>
              <a:latin typeface="Robot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1040" y="1230120"/>
            <a:ext cx="8521920" cy="333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boto"/>
              </a:rPr>
              <a:t>Дирижабль - это летательный аппарат легче воздуха, представляющий собой комбинацию аэростата с силовой установкой и системой управления ориент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7-09-17T11:31:58Z</dcterms:modified>
  <cp:revision>2</cp:revision>
  <dc:subject/>
  <dc:title>Воздухоплавание</dc:title>
</cp:coreProperties>
</file>