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нель 201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D2DA-FDA1-4284-8492-CA47DE6D47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инель 2015 г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инель 2015 г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BF9-4485-4166-8E0B-141B3F76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2F4-3D0C-4E3A-9353-3E480B0C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C1C-6AE1-4D0A-8D73-62A63E9F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6F7-569B-4935-873D-22C13CA9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D995-8A20-4462-973B-A4C5715A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7256-BE4E-4895-91E5-F69594DB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FA63-3652-4563-8350-D705A7E4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7974-25CB-4AEB-95DE-F4770470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30A0-5E0D-4CA1-8F60-9C4D305A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82D0-A9EB-4A4C-B332-6089203E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6345-2A86-4A9A-A9D2-1C316EA8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F1F-74E7-4C09-BB74-993F4564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F063-1EC6-4AE3-A5DD-AA47EF4A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973D-27E9-4485-8C89-B389B32C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2EDB-58D9-43CC-85BB-D70B5496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A515-F1D8-4D8F-BA5A-93A14279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1793-9D63-42B0-B18C-8FD96666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1FBD-A1A5-4DBA-9259-B4A282B2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9BA5-ED86-4356-B72A-D2805A75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B27E-1599-4893-986C-CC417A71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31D8E-2367-4E13-AD3B-F1CABDA7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DC731-CC75-406A-A07D-17D81187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B56-3BE7-411E-B0F7-F014B0A7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CBA4-207A-49A6-8E98-DFA5162F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9825-D5E4-4A9E-B058-5AB8C0F0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9903C-1C77-42B5-B528-1AB9656D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480B-93E4-401F-B12A-89A4737E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A3E3-B070-4D9D-B000-15F07F65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9F8E7-DA81-4459-9C65-39BC6E12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0B74-5A29-4BD6-AD1C-2CAFE9E9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18656-32CC-4268-B4FD-9AF2C658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4B0F1-242F-40F6-A2E4-12E3BFF1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02164-35A1-4459-8A5A-1667959E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D4B-098D-4BB9-886D-47FC34DE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A600-2B6F-431A-9A10-D62F631D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E7066-681A-4043-A6EF-9F239C6B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20977-7615-4796-B824-C73FE34E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0DAA9-DF29-426C-813F-454AA40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BAABB-32FA-4F27-94C6-96CADD69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DAD93-32C8-487F-ACBC-380DB615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66430-27DD-4D52-9BC0-D3510B04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32CFC-DE9A-409F-B372-C4C2F9AE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4F3D2-2187-4D60-9D85-C5E8A8AD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38B-8B71-4312-B921-40802628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927-E0B5-4904-B9DB-B4D0D8AE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B34-B4A1-462B-909B-CF52A892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9C7-401E-4441-9E76-503E4C50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3DB-1E1C-4BC2-B1B3-0DC0A50E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4FF0-133D-4A01-865E-F8B43D1E0B0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B29F-4841-4584-99CA-43AD290E35D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6ABF-A650-4160-A885-8B2D029C9EA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87E6-BEDD-4B54-9A1B-71308200EF3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665280" y="463680"/>
            <a:ext cx="8057880" cy="460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2296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нять хва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зволит детально проработать более мелкие группы мышц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Users\Саня Таня\Desktop\poleznyiy_navyik.jpg"/>
          <p:cNvPicPr/>
          <p:nvPr/>
        </p:nvPicPr>
        <p:blipFill>
          <a:blip r:embed="rId1"/>
          <a:stretch/>
        </p:blipFill>
        <p:spPr>
          <a:xfrm>
            <a:off x="3132000" y="3068640"/>
            <a:ext cx="5324760" cy="354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ываем про негативные подтягивания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описанные приёмы направлены на развитие силовой выносливости. А раз так, стоит учесть особенности развития силовой выносливости  в данном упражнения.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C:\Users\Саня Таня\Desktop\30435032.jpg"/>
          <p:cNvPicPr/>
          <p:nvPr/>
        </p:nvPicPr>
        <p:blipFill>
          <a:blip r:embed="rId1"/>
          <a:stretch/>
        </p:blipFill>
        <p:spPr>
          <a:xfrm>
            <a:off x="3189240" y="3645000"/>
            <a:ext cx="5954760" cy="321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помогут программы, учитывающие подход и количество повторений.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C:\Users\Саня Таня\Desktop\bae28be75e78fc640764600449b7e736.jpg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39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Саня Таня\Desktop\f_12568618331360561088.jpg"/>
          <p:cNvPicPr/>
          <p:nvPr/>
        </p:nvPicPr>
        <p:blipFill>
          <a:blip r:embed="rId1"/>
          <a:stretch/>
        </p:blipFill>
        <p:spPr>
          <a:xfrm>
            <a:off x="-1116000" y="1324080"/>
            <a:ext cx="6284880" cy="55339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743280" y="4149720"/>
            <a:ext cx="5400720" cy="2147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является получение конкретного результата. Программа не подходит ученику в том случае, если не учитывает индивидуальные особенности развития и не даёт прироста показателей за определённый этап времени.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меется стоит учитывать и иные факторы и не в коем случае не забывать индивидуального подхода в каждом конкретном случа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2" descr="C:\Users\Саня Таня\Desktop\training1.jpg"/>
          <p:cNvPicPr/>
          <p:nvPr/>
        </p:nvPicPr>
        <p:blipFill>
          <a:blip r:embed="rId1"/>
          <a:stretch/>
        </p:blipFill>
        <p:spPr>
          <a:xfrm>
            <a:off x="3882960" y="2565360"/>
            <a:ext cx="5261040" cy="429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3" descr="C:\Users\Саня\Desktop\i-6409.jpg"/>
          <p:cNvPicPr/>
          <p:nvPr/>
        </p:nvPicPr>
        <p:blipFill>
          <a:blip r:embed="rId1"/>
          <a:stretch/>
        </p:blipFill>
        <p:spPr>
          <a:xfrm>
            <a:off x="1763640" y="1413000"/>
            <a:ext cx="5445360" cy="544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Users\Саня Таня\Desktop\91062092852723091699.jpg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5280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6836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данной темы обусловлен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м уровнем  общей физической подготовленности школьников на сегодняшний ден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процент школьников не способных выполнить единичного повторения в данном упражнен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в сдаче контрольных нормативов по подтягиванию на перекладине в школьной программе и комплексе ГТ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4207320" y="32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HGP明朝E"/>
              </a:rPr>
              <a:t>电脑管家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пути решения поставленных задач были просты и доступны, а главное имели максимально скорый результа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C:\Users\Саня Таня\Desktop\i.jpg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1579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ягивание - комплексное многосуставное упражнение, выполняемое на гимнастической перекладине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6" descr="C:\Users\Саня Таня\Desktop\turnik_programma_dlya_nachinayucshih.jpg"/>
          <p:cNvPicPr/>
          <p:nvPr/>
        </p:nvPicPr>
        <p:blipFill>
          <a:blip r:embed="rId1"/>
          <a:stretch/>
        </p:blipFill>
        <p:spPr>
          <a:xfrm>
            <a:off x="1258920" y="1916280"/>
            <a:ext cx="6581880" cy="494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ягивания с нул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00000" y="1773360"/>
            <a:ext cx="7786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и необходимое условие – желание получить результат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– грамотный подход в выборе методик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е – учёт опыта и знаний преподавателей и старших товарищ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8229600" cy="178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ягивания на низкой перекладине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вый шаг по укреплению необходимых в упражнении мышечных групп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4038840" cy="323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6165360"/>
            <a:ext cx="417672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считаю целесообразным проработать развесовку (хват с максимальным силовым показателем) и декомпенсировать массу тела относительно тягового усили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3" descr="C:\Users\Саня Таня\Desktop\cor002.jpg"/>
          <p:cNvPicPr/>
          <p:nvPr/>
        </p:nvPicPr>
        <p:blipFill>
          <a:blip r:embed="rId1"/>
          <a:stretch/>
        </p:blipFill>
        <p:spPr>
          <a:xfrm>
            <a:off x="4275000" y="2708280"/>
            <a:ext cx="4667400" cy="414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3610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можно использовать турник с противовесом.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Users\Саня Таня\Desktop\img.jpg"/>
          <p:cNvPicPr/>
          <p:nvPr/>
        </p:nvPicPr>
        <p:blipFill>
          <a:blip r:embed="rId1"/>
          <a:stretch/>
        </p:blipFill>
        <p:spPr>
          <a:xfrm>
            <a:off x="5216400" y="836640"/>
            <a:ext cx="3927600" cy="4537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Users\Саня Таня\Desktop\PullupRubberBand.png"/>
          <p:cNvPicPr/>
          <p:nvPr/>
        </p:nvPicPr>
        <p:blipFill>
          <a:blip r:embed="rId2"/>
          <a:stretch/>
        </p:blipFill>
        <p:spPr>
          <a:xfrm>
            <a:off x="179280" y="2781360"/>
            <a:ext cx="4680000" cy="392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имеет смысл дробить фазы…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3" descr="C:\Users\Саня Таня\Desktop\i (1).jpg"/>
          <p:cNvPicPr/>
          <p:nvPr/>
        </p:nvPicPr>
        <p:blipFill>
          <a:blip r:embed="rId1"/>
          <a:stretch/>
        </p:blipFill>
        <p:spPr>
          <a:xfrm>
            <a:off x="5364000" y="2349360"/>
            <a:ext cx="2248200" cy="16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Users\Саня Таня\Desktop\i.jpg"/>
          <p:cNvPicPr/>
          <p:nvPr/>
        </p:nvPicPr>
        <p:blipFill>
          <a:blip r:embed="rId2"/>
          <a:stretch/>
        </p:blipFill>
        <p:spPr>
          <a:xfrm>
            <a:off x="572436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05:29:44Z</dcterms:created>
  <dc:creator>1</dc:creator>
  <dc:description/>
  <dc:language>en-US</dc:language>
  <cp:lastModifiedBy>Саня Таня</cp:lastModifiedBy>
  <dcterms:modified xsi:type="dcterms:W3CDTF">2015-08-27T12:25:58Z</dcterms:modified>
  <cp:revision>22</cp:revision>
  <dc:subject/>
  <dc:title>Презентация на тему: «Подтягивания» Гуляевой Натальи 8 «Б» класс</dc:title>
</cp:coreProperties>
</file>