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FAD-7DEB-4506-BBEB-3C5CD9E9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0F3-931F-4315-B13D-49C8D084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63C-7C7A-4E4D-8710-5FCEAEE8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D7F-3CB2-416F-B6F9-2B56DEB2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93B-1966-4608-A2E0-56E30DDE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F27-4AEE-49A1-AA85-0190860B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744-A475-4A83-A33A-5D4D64EC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019-A15E-43E8-8859-A07C1EF3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6C3-0DC7-4A4D-AD1A-93C32E7D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820-3D65-4F48-BB19-301C050A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9247-C7F7-4A56-AF02-11FB66E8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657-0D29-4FC1-875C-ECF02A57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88A6-3E96-43BC-A471-F841EBA78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алерий Яковлевич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Брюс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873 - 19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1200240" y="1981080"/>
            <a:ext cx="65912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52280" y="152280"/>
            <a:ext cx="4343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1913 год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эт переживает личную трагедию, вызванную мучительным для обоих романом с молодой поэтессой Надеждой Львовой и её самоубийством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1914 год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с началом Первой мировой войны, Брюсов отправился на фронт военным корреспондентом «Русских ведомостей».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ует отметить рост патриотических настроений в лирике Брюсова 1914—1916 годов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5562720" y="388800"/>
            <a:ext cx="3352680" cy="41022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6102360" y="45529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дежда Львов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609480" y="4648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Под Нарвами, под Аустерлицами Учились мы Бородину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Нет, мало овладеть столицами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Чтоб кончить Русскую войну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Чаша испытаний») 1915 г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76320" y="685800"/>
            <a:ext cx="5181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 Октябрьской революции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1917 г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рюсов активно участвовал в литературной и издательской жизни Москвы, работал в различных советских учреждениях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1919 по 1921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д был председателем Президиума Всероссийского союза поэтов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192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году организовал Высший литературно-художественный институт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влялся  членом Моссовета. Принимал активное участие в подготовке первого издания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Большой советской энциклопедии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9 октября 1924 г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рюсов скончался в своей московской квартире от крупозного воспаления лёгких . Поэт был похоронен на столичном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Новодевичьем кладбище 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5257800" y="414360"/>
            <a:ext cx="35305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981080" y="609480"/>
            <a:ext cx="586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Юному поэту. (1896 г.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Юноша бледный, со взором горящим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Ныне даю я тебе три завет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Первый прими: не живи настоящим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Только грядущее – область поэт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Помни второй: никому не сочувствуй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Сам же себя полюби беспредельно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Третий храни: поклоняйся искусству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Только ему безраздумно, бесцельно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Юноша бледный со взором смущенным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Если ты примешь моих три завета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Молча паду я бойцом побежденным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Зная, что в мире оставлю поэт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56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але́рий Я́ковлевич Брю́сов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поэт, прозаик, драматург, переводчик, литературовед, литературный критик и историк. Один из основоположников русского симво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1687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657600" y="9907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ерий Брюсов родился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1  декабря 1873 г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оскве, в купеческой семье. Рос живым , любознательным ребёнком, читать научился в четыре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юных лет слушал разговоры об «умных вещах», читал книги научного содержания. Знания не по годам пробудили в нем мечту «стать велики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нять начал рано. Уже в гимназии осознавал себя поэ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380520"/>
            <a:ext cx="830592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457200" y="22860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лся в гимназии известного педагог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Л.Поливан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казавшего заметное влияние на будущего поэта. Уже в тринадцать лет Брюсов решает стать писателем. Круг интересов гимназиста Брюсова - это литература, история, философия, астрономия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ив в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1892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сковский университет на историческое отделение историко-филологического факультета, он углубленно изучает историю, философию, литературу, искусство, языки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486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80632829_882608091"/>
          <p:cNvPicPr/>
          <p:nvPr/>
        </p:nvPicPr>
        <p:blipFill>
          <a:blip r:embed="rId1"/>
          <a:stretch/>
        </p:blipFill>
        <p:spPr>
          <a:xfrm>
            <a:off x="5791320" y="990720"/>
            <a:ext cx="2925720" cy="41907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152280" y="304920"/>
            <a:ext cx="533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с поэзией французских символисто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ерл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ем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ло для Брюсова «целым откровением». Юный Брюсов задумывается о назначении поэта, хочет быть вождём русской поэзи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я Пушкина, понимает, что выразить отношение к концу века может только через символизм.       Брюсов считал целью создать в России новую поэтическую школу, а задачей символизма – утончить, изощрить поэтические средства, чтобы лучше выразить сложный мир современник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05320" y="457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 1894 по 1895 г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издал (под псевдонимом Валерий Маслов) три сборника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Русские символисты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уда вошли многие из его собственных сти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895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ся на свет первый сборник исключительно брюсовских стихов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Шедевр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Тень несозданных соз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олыхается во с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ловно лопасти лат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 эмалевой сте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Творчество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139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47840" y="38088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19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выходит новая книга Брюсов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«Третья стража»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нига стала событием в литературе. «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первые в рецензиях на эту книгу ко мне отнеслись как к поэт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,- писал Брюсов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ретья стража» - книга двух планов : поэт освещает прошлое человечества через  лики разных героев («Любимцы веков») и говорит о современности («Я люблю большие дома»). В этой же книге остро встает тема Времени. Предчувствия Брюсова мрачны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ихотворении «В дни запустений» настоящее видится ему огромным зданием в шатких строительных лесах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257800" y="3960720"/>
            <a:ext cx="4272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Я люблю большие дома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узкие улицы города,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В дни, когда не настала зим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 осень повеяла холодом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«Я люблю большие дома»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4541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57200" y="380880"/>
            <a:ext cx="8077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ением реальности, соединяющим прошлое и настоящее. Стал для Брюсова образ города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борник 1903 года «Граду и миру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 неоднозначность отношения к этому образу. С одной стороны, воспевание культурных и материальных ценностей, с другой – ужас перед разрушительной силой незримых чудовищ, уродливой действительностью, борьба «города с людьми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4033800" y="31240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Так все понятно и знакомо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Ко всем изгибам глаз привык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Да, не ошибся я, я — дома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Цветы обоев, цепи книг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Я старый пепел не тревожу, —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Здесь был огонь, и вот остыл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Как змей на сброшенную кожу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Смотрю на то, чем прежде был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У себя»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477720" y="2627280"/>
            <a:ext cx="30481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52280" y="472428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едующим сборником Брюсова стал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«Венок»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исанный во время самых ожесточённых революционных событий 1905 года (вышел в декабре 1905)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4267080" y="4876920"/>
            <a:ext cx="4876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В пропасти улиц закинуты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Городом взятые в плен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Что мы мечтаем о Солнце потерянном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Области Солнца задвинут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Плитами комнатных стен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Слава толпе»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1447920" y="190440"/>
            <a:ext cx="63356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INIKOVANV</dc:creator>
  <dc:description/>
  <dc:language>en-US</dc:language>
  <cp:lastModifiedBy>ШК489</cp:lastModifiedBy>
  <dcterms:modified xsi:type="dcterms:W3CDTF">2017-09-18T15:19:1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