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AAF-5107-4653-BFAF-9291BF6A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653-2534-48D5-998F-80A4FF1A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D49-AF6D-46A2-9142-496F32F0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8C4-B50F-44F2-85BA-7E57FC5E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548-5C2F-47DC-9B14-A9DB8AD2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9D4-7FEF-4EFE-ADB5-F075FFF1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8B3-2894-4FC1-9866-D5467E06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DE6-DAEF-47A9-88FD-EF83500C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FAE-FAD3-4A7F-9A60-DA9A42E4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ED0-3A7D-478E-80F5-8A10CC47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B36-8B48-47A8-A94C-8AF574C7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B64-EC7C-4963-BA02-6CF5638D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5002-1B70-48CC-A0F1-34E9F9AA3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5452920" cy="319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43200" y="5410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ученика 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елазнова Дан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343800">
            <a:off x="2437920" y="1371600"/>
            <a:ext cx="6072480" cy="346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89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меранг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89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10080" y="0"/>
            <a:ext cx="3733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меранг хорошо известен в силу своего свойства возвращаться назад, к месту, с которого был произведён брос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50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ействительности этим свойством обладают далеко не все бумеранги - только так называемые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озвращающие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такие бумеранги представляют собой изогнутую пластину, образующую две лопасти неравной длины, нижняя поверхность которых плоская, а верхняя выпуклая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а и реализуется оно только при надлежащем умении и с непременным учётом силы и направления в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i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возвращающегося бумеран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личается от боевого большей изогнутостью, меньшей относительной толщиной и близостью профиля плеч-крыльев к профилю самолётного крыла. Размер и вес — поменьше, так что начальная скорость оказывается выше, чем у бое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50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д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лина этого вида бумеранга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25 — 75 с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м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50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ширина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3 — 5 с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м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толщина до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1,5 с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м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50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гол между плечами изменяется от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80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˚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до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140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50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масса составляет около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700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290520" algn="just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Оказалось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что траектория полета 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бумеранга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зависит от аэродинамических сил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действующих на его лопасти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Они влияют одновременно на два движения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 — 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поступательное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вращательное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 Сравнительно быстрое вращение создает </a:t>
            </a:r>
            <a:r>
              <a:rPr b="1" i="1" lang="ru-RU" sz="2200" spc="-1" strike="noStrike">
                <a:solidFill>
                  <a:srgbClr val="333399"/>
                </a:solidFill>
                <a:latin typeface="Times New Roman"/>
              </a:rPr>
              <a:t>аэродинамический момент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постоянно отклоняющий бумеранг от полета по прям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290520" algn="just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Если не обращать внимания на изгиб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по которому мы узнаем бумеранг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то окажется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что этот снаряд весьма похож на воздушный винт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Поперечное сечение каждой лопасти мало отличается от профиля лопасти вертолетного несущего винта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290520" algn="just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Если запустить бумеранг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 —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а бросают его правой рукой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то бумеранг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вращаясь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полетит вперед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На лопасти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которая движется в ту же сторону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что и сам бумеранг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возникнет большая аэродинамическая сила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чем на той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которая в тот же момент летит в противоположном направлении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Поэтому при движении этот метательный снаряд будет не только описывать окружность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 —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своего рода вираж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но и изменять ориентацию в пространстве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запущенный в вертикальном положении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бумеранг приблизительно через две трети окружности повернется и будет вращаться уже в горизонтальной плоскости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533520" y="304920"/>
            <a:ext cx="8076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гадочный бумеранг?..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um0"/>
          <p:cNvPicPr/>
          <p:nvPr/>
        </p:nvPicPr>
        <p:blipFill>
          <a:blip r:embed="rId2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962520" y="998640"/>
            <a:ext cx="5181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ие же силы действуют на бумеран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рошенный горизонтально и вращающийся в вертикальной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 несимметричности профиля пле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и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не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и у крыла самол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никает подъемная си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F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оме т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плечо бумеранга действует еще сила сопротивления возду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зультирующая этих двух сил стремится развернуть е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еличина каждой из этих сил пропорциональна квадрату скор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понят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то они не рав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рассматривать два плеч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верхней точке скорость полета бумеран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кладывается со скоростью вращ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U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в нижней вычит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ким образ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умеранг испытывает действие си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сил сопротив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емящихся развернуть его вокруг горизонтальной и вертикальной ос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 этого перемещения при запуске не происходи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тому что бумеран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чень быстро вращая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обретает устойчивость волчка или юл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4191120" y="380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много физики...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Рисунок3"/>
          <p:cNvPicPr/>
          <p:nvPr/>
        </p:nvPicPr>
        <p:blipFill>
          <a:blip r:embed="rId1"/>
          <a:stretch/>
        </p:blipFill>
        <p:spPr>
          <a:xfrm>
            <a:off x="2057400" y="152280"/>
            <a:ext cx="5622840" cy="6542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791320" y="2438280"/>
            <a:ext cx="312408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зготовление спортивного бумеранга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 — вычерчивание контура по шаблону: при этом необходимо слои «рубашки» расположить так, как показано на рисун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 — выпиливание загото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— обработка рубан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 — доводка напильниками по контршаблон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590920"/>
            <a:ext cx="373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жде всего надо вычертить ту или иную модель в натуральную величину. Для этого на листе тонкого плотного картона размером 50X60 см наносят сетку со стороной квадрата, равной 25 мм, и перерисовывают на нее контуры бумеранга с чертежа, изображенного на пред. слайде. Получится шаблон, по которому из фанеры толщиной 10 мм выпиливают нужное количество заготовок (рис. А, 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Так можно изготовить в основном  Г - образные бумеран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днако, Г - образные бумеранги значительно уступают + (крестообразным) по абсолютно всем характеристи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ни не так далеко летают. Кидать их надо под строго определённым углом с одной определённой силой, что бы он вернулся точно наза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Время нахождения в воздухе раза в полтора меньш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articles_addimg_477_ausday05d"/>
          <p:cNvPicPr/>
          <p:nvPr/>
        </p:nvPicPr>
        <p:blipFill>
          <a:blip r:embed="rId2"/>
          <a:stretch/>
        </p:blipFill>
        <p:spPr>
          <a:xfrm>
            <a:off x="685800" y="1359000"/>
            <a:ext cx="8077320" cy="5499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7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Технология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3044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04920" y="609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т ещё один вариант изготовления бумеранга. Он приведен в одном из номеров «Юного тех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7467480" y="434340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375680" y="4075200"/>
            <a:ext cx="100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04920" y="464832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иал изготовления - средние и тяжёлые сорта дерева, дуб, липа, берёза, бук и т.д. Фанеру на самом деле для этой схемы использовать затруднительно и не целесообразно. По середине у двух лопастей прорезаются пазы на разных сторонах, после чего они склеиваются клеем ПВА или столярным, в общем любым достаточно прочным клеем для дерева. Для большей прочности можно соединить маленькими шуру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2"/>
          <p:cNvPicPr/>
          <p:nvPr/>
        </p:nvPicPr>
        <p:blipFill>
          <a:blip r:embed="rId1"/>
          <a:stretch/>
        </p:blipFill>
        <p:spPr>
          <a:xfrm>
            <a:off x="1600200" y="0"/>
            <a:ext cx="6172200" cy="2549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ведённая схема спортивного бумеранга может оказаться тяжеловатой для неподготовленного человека, по этому для начала ограничтесь длиной лопасти 25 – 3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ериал для изготовления - твердые тяжелые сорта дерева. Если бумеранг слишком лёгок и быстро возвращается назад, утяжелите концы лопастей. Возможно обклейка его стеклотканью с эпоксидной смолой, после отшлифуйте и отполируйте. Это увеличит его прочность. При изготовлении следить, что бы не возникала крутка лопастей, это заметно снижает его летучесть. Профиль применить лучше всего плосковыпуклый, 8 - 12%. Выпукло - выпуклые делают бумеранги более скоростными и какими то пилотажными, но менее возвращающимися. Хорошо подходят авиамодельные плоско выпуклые профили 8 - 12%. Точность изготовления профиля не особо критична, плюс - небольшой допуск. Вполне достаточно придерживаться профиля, указанного на рисунке. Бумеранг с обратной стреловидностью делайте жёстким, что бы лопасти не изменяли свою геометрию в полёте. Иначе он делается "слишком манёвренным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konbum3"/>
          <p:cNvPicPr/>
          <p:nvPr/>
        </p:nvPicPr>
        <p:blipFill>
          <a:blip r:embed="rId2"/>
          <a:stretch/>
        </p:blipFill>
        <p:spPr>
          <a:xfrm>
            <a:off x="152280" y="152280"/>
            <a:ext cx="5139000" cy="426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konbum4"/>
          <p:cNvPicPr/>
          <p:nvPr/>
        </p:nvPicPr>
        <p:blipFill>
          <a:blip r:embed="rId3"/>
          <a:stretch/>
        </p:blipFill>
        <p:spPr>
          <a:xfrm>
            <a:off x="1600200" y="4800600"/>
            <a:ext cx="5638680" cy="183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konbum5"/>
          <p:cNvPicPr/>
          <p:nvPr/>
        </p:nvPicPr>
        <p:blipFill>
          <a:blip r:embed="rId4"/>
          <a:stretch/>
        </p:blipFill>
        <p:spPr>
          <a:xfrm>
            <a:off x="5715000" y="152280"/>
            <a:ext cx="312408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konbum6"/>
          <p:cNvPicPr/>
          <p:nvPr/>
        </p:nvPicPr>
        <p:blipFill>
          <a:blip r:embed="rId2"/>
          <a:stretch/>
        </p:blipFill>
        <p:spPr>
          <a:xfrm>
            <a:off x="2093760" y="0"/>
            <a:ext cx="503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 оригинальное оружие – самое совершенное произведение техники первобытного человека – долгое время вызывало удивление учёны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ействительно, странные, запутанные фигуры, описываемые бумерангом в воздухе, способны озадачить кажд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990720" y="160020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меранг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57200" y="2286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реди множества вещ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шедших к нам из глубокой древ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и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колес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пор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умеранг занимает особое мест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Рисунок4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Основные параметры, учитываемые при подготовке к брос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272880" algn="just">
              <a:spcBef>
                <a:spcPts val="799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угол наклона в вертикальной плоск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272880" algn="just">
              <a:spcBef>
                <a:spcPts val="799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угол направления броска относительно встречного вет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272880" algn="just">
              <a:spcBef>
                <a:spcPts val="799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угол направления броска относительно горизонта. (Для левши —зеркально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80880"/>
            <a:ext cx="7467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ускаем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Image72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5703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143000" y="6172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имка вернувшегося бумера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Рисунок2"/>
          <p:cNvPicPr/>
          <p:nvPr/>
        </p:nvPicPr>
        <p:blipFill>
          <a:blip r:embed="rId2"/>
          <a:stretch/>
        </p:blipFill>
        <p:spPr>
          <a:xfrm>
            <a:off x="4876920" y="4735440"/>
            <a:ext cx="4267080" cy="2122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меранг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использовать и в медицин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опоказаний к метанию бумеранг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л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польза для организма очевидн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эффективное снятие стресс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положительного эмоционального настро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ание гибкости позвоночни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осанк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отвращение развития остеохондроза и гиподинами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сная координация движений тел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глазомер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ение бокового поля зрен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комодация глаз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чувства траекторных движений объект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скорости реакци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образн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рительного восприятия пространств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нинг концентрации вниман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регулярных занятий с бумерангом у женщин улучшается характер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3300"/>
                </a:solidFill>
                <a:latin typeface="Times New Roman"/>
              </a:rPr>
              <a:t>Полёт бумеранга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 потрясающее зрелище. При сильном броске, в полёте он описывает большую петлю, улетая далеко вверх и вперёд и возвращается наза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776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Если с точно такой силой бросить камень, то он не пролетит и трети того, сколько летит хороший бумеран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40 секунд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в воздух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альность прямого полета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114 метров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just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щая протяженность траектории около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рети километр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овы рекордные показатели, зафиксированные международной ассоциацией метателей бумеранг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оме перечисленных рекордов, интересно упомяну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ксимальная длительность полета бумеранга –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50,8 секунд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также одновременное нахождение в воздухе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4 бумеранг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последовательно запущенных одним спортсмен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14400" y="4572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кор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ticles_addimg_477_boomerangs_aborigens"/>
          <p:cNvPicPr/>
          <p:nvPr/>
        </p:nvPicPr>
        <p:blipFill>
          <a:blip r:embed="rId2"/>
          <a:stretch/>
        </p:blipFill>
        <p:spPr>
          <a:xfrm>
            <a:off x="0" y="685800"/>
            <a:ext cx="5943600" cy="4095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5943600" y="228600"/>
            <a:ext cx="29718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удя по раскопкам, аналоги бумеранга были известны многим на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амые первые изготавливали из кости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тем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—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з дерев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чем древесина не должна была иметь сучков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 слои должны были повторять форму бумеранг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умеранг был распространен у австралийских племен, в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Юго-Восточной Азии, Южной Индии, Древнем Египте, у индейцев Мексики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5105520"/>
            <a:ext cx="47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S.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полне возможно, что в Австралии они сохранились только потому, что там не был изобретён лук - гораздо более эффективное оружие охоты и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articles_addimg_477_flight"/>
          <p:cNvPicPr/>
          <p:nvPr/>
        </p:nvPicPr>
        <p:blipFill>
          <a:blip r:embed="rId2"/>
          <a:stretch/>
        </p:blipFill>
        <p:spPr>
          <a:xfrm>
            <a:off x="4495680" y="1219320"/>
            <a:ext cx="441972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2743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Бумеранг использовался аборигенами как игрушка для детей и излюбленный спортивный снаряд для молодежи – будущих охотников. В играх и соревнованиях с бумерангом охотно участвовали и взрослые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ишь в одном случае его применяли для охоты: устраивая облавы на стаи птиц, аборигены натягивали над землей сети, затем бросали бумеранг. Крутясь над землей, он летел со страшным свистом, вспугнутые птицы взлетали и запутывались в се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80880" y="228600"/>
            <a:ext cx="388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явился бумеранг у аборигенов — коренных жителей Австралии. Вначале это была обыкновенная палка. Мужчины, отправляясь на охоту за птицами или другой мелкой дичью, брали с собой по охапке разной формы па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4952880" y="57150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S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Бумеранги использовались и в древних ритуалах как гипнотическое средство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истории бумеранга было три крупных пери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«Бронзовый век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– когда люди научились обрабатывать дерево и вырезать из него двухлопастные бумеранги для охоты. Тогда конструкция бумеранга прямо подчинялась особенностям переплетения древес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«Серебряный век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меранга наступил на рубеже XIX и ХХ столетий, когда широкое распространение получила фанера: благодаря ее структуре удалось добиться большего разнообразия летающих конструк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«Золотой век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меранга настал еще позже – когда было налажено промышленное производство и обработка различных видов пластмасс и пластика. Именно пластик -самый перспективный материал, делающий возможным миллионы вариантов инженерных находо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685800" y="380880"/>
            <a:ext cx="7696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иоды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тия бумеранга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7306_bumerang_1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4497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28600" y="4429080"/>
            <a:ext cx="79246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Различные типы бумерангов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— боевой прямолетящий бумеранг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— бумеранг «пиль-пиль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— бумеранг «кайли» (при метании против ветра оба эти бумеранга способны возвращаться к метателю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— охотничий возвращающийся бумеранг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многолопастные возвращающиеся бумеран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бы формы ни бы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меранг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разделяются на два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возвращающие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невозвращающие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внешнему виду их почти невозможно отличить друг от дру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3794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, видимо, был изобретён, как модификация метательной палицы, </a:t>
            </a:r>
            <a:r>
              <a:rPr b="1" i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невозвращающий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умеранг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Его длина около метра, он изогнут в гораздо меньшей степени, чем его возвращающиеся родственники. Его бросают почти горизонтально, придавая естественное для броска палки вращение - но вокруг вертикальной оси. При правильном броске оруж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ни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высоту д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летит почти параллельно земл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асстояние до двухсот мет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 обеспечивает повышенную вероятность поражения какой-либо цел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609480" y="228600"/>
            <a:ext cx="7848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Вернется или нет?</a:t>
            </a:r>
            <a:endParaRPr b="0" i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User</cp:lastModifiedBy>
  <dcterms:modified xsi:type="dcterms:W3CDTF">2010-02-07T15:18:20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