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6B8B-823C-48A7-BDFF-77413F5C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E6B0-2F35-4082-BF4E-C6940604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479-244E-4128-AB50-84CD22B3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A4B3-60EF-4BCD-A854-1B8E1EB2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3D7F-086F-417E-A815-3D611B9A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00F0-BFB9-41BB-A1B5-91D1691F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8BA2-D1E0-420A-9C22-29DF485F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303F-4695-44D5-9271-E4EE7A10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205E-AA0C-45D7-9B36-01D03A27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D9E8-08CE-4C1C-A959-9731734F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2C58-6C08-40D9-AFDA-8434F51A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D285-4871-4C41-A476-EFF76B8F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85B6-84CB-41D3-BF81-D901E49D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2706-AE9E-4379-A909-CF8C5674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5716-A41F-48CB-9505-F315F736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902F-9257-4D00-9BF0-074977CD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E7EB-1EA9-4163-8525-7875459F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7A84DA-1308-4172-81B8-C795495F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A117EF-8727-4689-A30E-516C6B0B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D20FB-94F7-4A7F-B4D7-6B315657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8106CE-AF81-436A-B2BA-309FEF0F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7882F1-FE84-44CD-82C6-44B75822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3B1-1824-4BCB-867A-CC85CB50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EB6E2-AD9D-405B-9CC4-61571CBD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496E7-4F3F-44F8-90A2-45110DEC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E73F64-D244-45D5-83AD-FF578814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1297B-9FD3-4AC8-B855-996F918D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9DBAA-6FC3-4E59-AE91-7B5ECDAF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F7541F-E268-4A5C-8DE9-4F1F1C7C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C0B5BD-C168-4681-9D26-D55F7946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FCA80-B34F-4B71-A76E-C27A5E60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98D08-F25B-4F43-AFD5-CA0F5BFE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A95C5-941B-4509-BCDE-7CA14470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D4D-0665-4B56-8037-E7122D93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0EE8D-700A-443B-8B0B-C761127D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A9946-6245-42B0-8FAF-2AEAFCD2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38180-7CCF-4ECE-9309-CDBA5753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AF0AE-20EB-40A0-A7DE-5C741E6F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0F38F-A2BE-46C8-8594-77641D09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F8F25-3261-4502-8C6B-029DB738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7725D-A2EF-4236-8387-8537FD62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2DE15-B095-4799-9482-0D84CE9B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6AF9D-31FB-424B-B9E3-36B3E110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D66730-924F-4C26-96D0-E10B337A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1495-31E7-469B-B49E-1138258C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3C080E-2E7C-4665-A262-3DBAFA9E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BCB758-2C35-46D0-AE54-3A8D24F0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C8FA4B-724B-4BC2-A82F-AB72ED9D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F761F1-8C62-4C18-A31D-B9526725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4C9178-3106-4B0B-9954-853AFEC4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15ECAA-3ADD-499A-942A-9BC9A7CA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380758-73F9-4847-B047-861A25E4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A12DFB-8C24-421B-B844-8F6B6D08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AC1F6A-F4CC-4349-BE5D-F47F5A70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19DD9A-0444-4E70-8985-525FC278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728-3445-45AD-A450-D330FD36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21A7FE-3AC6-4B21-A51C-38BDB739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993C73-8230-4D0B-B5B9-6DF417E5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91281-2513-44A6-9EAF-8EE9E127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EAAB83-41A9-4AAA-938D-239F30A6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F63DD9-39D7-46F5-8128-F9084CC5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A49F09-FD16-4509-897C-9B83B852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ACA951-0B67-4F22-994D-E10EFA3C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797ECE-38B3-4123-9B2A-8DEC628B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8F5BDF-1691-4E90-B7F4-47ADD9EE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94832E-A3EF-4FE5-84B8-54492342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D491-2D87-4720-A3E9-39F6DFD1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8C965A-F819-488F-A09A-17844BB8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3CC582-6D78-42D0-8C18-E9A18F7D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08E709-0B3E-4B3A-AADC-C64BEDAD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52AF3A-19BD-4005-B8F5-4D540AC2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C23016-2570-407A-9D49-E4B0634D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FB6481-CAA1-4DD6-8E97-FEAA2794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F53105-BD88-4C76-AB1D-194DE70E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549686-CDF4-4ADE-BA47-23CA132E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00644A-9660-4E3C-8FCB-7858AEFD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B91B76-EEA1-40F3-BD60-ECB467AE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CAE5-1040-4018-837F-2C6DDD1F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225F44-94D0-466E-A6DE-BD1B37BF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0C1A7D-EB65-4B48-AACE-E3B769F5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F2D4A6-09D4-4829-A6B6-C6537619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AC29FA-ABFE-429E-91EB-299D2C15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8E5CE0-C965-47EA-AE3F-04663F0B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AAFE-2E62-42E7-90B8-8254CF1E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C80F-0688-4547-9B84-1F17A782053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7E05-A627-4FFA-A0F1-329E6D8CB7A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9724-8629-4CAC-AAC5-A45E893268B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20A5-DDD5-480D-8954-D7AB7CC25AF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CA43-53F4-4C39-81C9-99939CD821B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7F45-0208-451C-8DD8-02B0838674D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6116-6A88-448F-8B77-27056B21FC4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85480" y="475920"/>
            <a:ext cx="8458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entury Schoolbook"/>
              </a:rPr>
              <a:t>ЗАГАДКИ О ДОРОЖНЫХ ЗНАКАХ</a:t>
            </a:r>
            <a:br>
              <a:rPr sz="27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Рисунок 3" descr="fb4a4d1896d15d241d80aa70d85a7825.jpg"/>
          <p:cNvPicPr/>
          <p:nvPr/>
        </p:nvPicPr>
        <p:blipFill>
          <a:blip r:embed="rId1"/>
          <a:stretch/>
        </p:blipFill>
        <p:spPr>
          <a:xfrm>
            <a:off x="2340000" y="1268280"/>
            <a:ext cx="619452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588000" y="170028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13"/>
          <p:cNvSpPr/>
          <p:nvPr/>
        </p:nvSpPr>
        <p:spPr>
          <a:xfrm>
            <a:off x="179280" y="2276640"/>
            <a:ext cx="619308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Тормози скорей, шофер!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Можно врезаться в забор!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Кто нам путь загородил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И дорогу перекрыл?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Скругленная прямоугольная выноска 14"/>
          <p:cNvSpPr/>
          <p:nvPr/>
        </p:nvSpPr>
        <p:spPr>
          <a:xfrm>
            <a:off x="324000" y="476280"/>
            <a:ext cx="705636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«Железнодорожный переезд со шлагбаумо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Рисунок 6" descr="0274.jpg"/>
          <p:cNvPicPr/>
          <p:nvPr/>
        </p:nvPicPr>
        <p:blipFill>
          <a:blip r:embed="rId2"/>
          <a:stretch/>
        </p:blipFill>
        <p:spPr>
          <a:xfrm>
            <a:off x="5724360" y="4076640"/>
            <a:ext cx="285768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13"/>
          <p:cNvSpPr/>
          <p:nvPr/>
        </p:nvSpPr>
        <p:spPr>
          <a:xfrm>
            <a:off x="179280" y="2276640"/>
            <a:ext cx="698508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Привлекает всё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Знак со знаком восклицания.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Может пропускает он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Тех, кто с азбукой знаком?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кругленная прямоугольная выноска 14"/>
          <p:cNvSpPr/>
          <p:nvPr/>
        </p:nvSpPr>
        <p:spPr>
          <a:xfrm>
            <a:off x="179280" y="476280"/>
            <a:ext cx="7056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entury Schoolbook"/>
              </a:rPr>
              <a:t>«Прочие опасности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588000" y="1700280"/>
            <a:ext cx="2376720" cy="237636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5" descr="69_4.gif"/>
          <p:cNvPicPr/>
          <p:nvPr/>
        </p:nvPicPr>
        <p:blipFill>
          <a:blip r:embed="rId2"/>
          <a:stretch/>
        </p:blipFill>
        <p:spPr>
          <a:xfrm>
            <a:off x="5732640" y="4208400"/>
            <a:ext cx="301608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Рисунок 5" descr="700e42efd314ac899004d02e7529136d.jpg"/>
          <p:cNvPicPr/>
          <p:nvPr/>
        </p:nvPicPr>
        <p:blipFill>
          <a:blip r:embed="rId1"/>
          <a:stretch/>
        </p:blipFill>
        <p:spPr>
          <a:xfrm>
            <a:off x="4067280" y="3645000"/>
            <a:ext cx="3593880" cy="32130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35" descr="20120316074122!111.jpeg"/>
          <p:cNvPicPr/>
          <p:nvPr/>
        </p:nvPicPr>
        <p:blipFill>
          <a:blip r:embed="rId2"/>
          <a:stretch/>
        </p:blipFill>
        <p:spPr>
          <a:xfrm>
            <a:off x="6443640" y="1773360"/>
            <a:ext cx="2376360" cy="2519280"/>
          </a:xfrm>
          <a:prstGeom prst="rect">
            <a:avLst/>
          </a:prstGeom>
          <a:ln w="0">
            <a:noFill/>
          </a:ln>
        </p:spPr>
      </p:pic>
      <p:sp>
        <p:nvSpPr>
          <p:cNvPr id="393" name="Прямоугольник 1"/>
          <p:cNvSpPr/>
          <p:nvPr/>
        </p:nvSpPr>
        <p:spPr>
          <a:xfrm>
            <a:off x="250920" y="2133720"/>
            <a:ext cx="633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едупреждает этот знак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у дороги здесь зигзаг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 впереди машину ждёт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пасны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Скругленная прямоугольная выноска 3"/>
          <p:cNvSpPr/>
          <p:nvPr/>
        </p:nvSpPr>
        <p:spPr>
          <a:xfrm>
            <a:off x="179280" y="476280"/>
            <a:ext cx="7056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Опасный поворот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588000" y="170028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396" name="Прямоугольник 13"/>
          <p:cNvSpPr/>
          <p:nvPr/>
        </p:nvSpPr>
        <p:spPr>
          <a:xfrm>
            <a:off x="179280" y="2276640"/>
            <a:ext cx="619308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Если видишь этот знак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Знай, что он не просто так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Чтобы не было проблем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Уступи дорогу всем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Скругленная прямоугольная выноска 14"/>
          <p:cNvSpPr/>
          <p:nvPr/>
        </p:nvSpPr>
        <p:spPr>
          <a:xfrm>
            <a:off x="179280" y="476280"/>
            <a:ext cx="7056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entury Schoolbook"/>
              </a:rPr>
              <a:t>«Уступи дорогу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Рисунок 7" descr="traffic-sign-6626_640.png"/>
          <p:cNvPicPr/>
          <p:nvPr/>
        </p:nvPicPr>
        <p:blipFill>
          <a:blip r:embed="rId2"/>
          <a:stretch/>
        </p:blipFill>
        <p:spPr>
          <a:xfrm>
            <a:off x="5508720" y="3954600"/>
            <a:ext cx="290340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24000" y="1989000"/>
            <a:ext cx="6480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Форма странная у знака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Больше нет таких, ребята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Не квадрат он и не круг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А машины встали вдруг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516720" y="1773360"/>
            <a:ext cx="2200320" cy="2128680"/>
          </a:xfrm>
          <a:prstGeom prst="rect">
            <a:avLst/>
          </a:prstGeom>
          <a:ln w="0">
            <a:noFill/>
          </a:ln>
        </p:spPr>
      </p:pic>
      <p:sp>
        <p:nvSpPr>
          <p:cNvPr id="401" name="Скругленная прямоугольная выноска 5"/>
          <p:cNvSpPr/>
          <p:nvPr/>
        </p:nvSpPr>
        <p:spPr>
          <a:xfrm>
            <a:off x="826920" y="476280"/>
            <a:ext cx="5400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entury Schoolbook"/>
              </a:rPr>
              <a:t>«Движение без остановки запрещен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Рисунок 6" descr="2.5.gif"/>
          <p:cNvPicPr/>
          <p:nvPr/>
        </p:nvPicPr>
        <p:blipFill>
          <a:blip r:embed="rId2"/>
          <a:stretch/>
        </p:blipFill>
        <p:spPr>
          <a:xfrm>
            <a:off x="5580000" y="3789360"/>
            <a:ext cx="28479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1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10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588000" y="1484280"/>
            <a:ext cx="2376720" cy="252108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1"/>
          <p:cNvSpPr/>
          <p:nvPr/>
        </p:nvSpPr>
        <p:spPr>
          <a:xfrm>
            <a:off x="0" y="2276640"/>
            <a:ext cx="50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емолвились машины: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тудить пора бы шины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тановимся, где сквер!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о вмешалась буква «Эр»: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олько я могу решить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де стоянку разреш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Скругленная прямоугольная выноска 2"/>
          <p:cNvSpPr/>
          <p:nvPr/>
        </p:nvSpPr>
        <p:spPr>
          <a:xfrm>
            <a:off x="179280" y="476280"/>
            <a:ext cx="7056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Место для стоянки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Рисунок 5" descr="i.jpg"/>
          <p:cNvPicPr/>
          <p:nvPr/>
        </p:nvPicPr>
        <p:blipFill>
          <a:blip r:embed="rId2"/>
          <a:stretch/>
        </p:blipFill>
        <p:spPr>
          <a:xfrm>
            <a:off x="5219640" y="3978360"/>
            <a:ext cx="288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588000" y="170028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13"/>
          <p:cNvSpPr/>
          <p:nvPr/>
        </p:nvSpPr>
        <p:spPr>
          <a:xfrm>
            <a:off x="179280" y="2276640"/>
            <a:ext cx="619308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Чудо-конь— велосипед,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Можно ехать или нет?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Странный этот синий знак,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Не понять его ника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Скругленная прямоугольная выноска 14"/>
          <p:cNvSpPr/>
          <p:nvPr/>
        </p:nvSpPr>
        <p:spPr>
          <a:xfrm>
            <a:off x="179280" y="476280"/>
            <a:ext cx="7056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«Велосипедная дорож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Рисунок 5" descr="600px-Zeichen_237.svg.png"/>
          <p:cNvPicPr/>
          <p:nvPr/>
        </p:nvPicPr>
        <p:blipFill>
          <a:blip r:embed="rId2"/>
          <a:stretch/>
        </p:blipFill>
        <p:spPr>
          <a:xfrm>
            <a:off x="5724360" y="3784680"/>
            <a:ext cx="30736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767640" y="1413000"/>
            <a:ext cx="2376360" cy="252072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1"/>
          <p:cNvSpPr/>
          <p:nvPr/>
        </p:nvSpPr>
        <p:spPr>
          <a:xfrm>
            <a:off x="0" y="2421000"/>
            <a:ext cx="644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 этим знаком, как ни странно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се ждут чего-то постоянно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то-то сидя, кто-то стоя…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то за место здесь такое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Скругленная прямоугольная выноска 2"/>
          <p:cNvSpPr/>
          <p:nvPr/>
        </p:nvSpPr>
        <p:spPr>
          <a:xfrm>
            <a:off x="179280" y="476280"/>
            <a:ext cx="7056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Место остановки автобуса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4" descr="avt.jpg"/>
          <p:cNvPicPr/>
          <p:nvPr/>
        </p:nvPicPr>
        <p:blipFill>
          <a:blip r:embed="rId2"/>
          <a:stretch/>
        </p:blipFill>
        <p:spPr>
          <a:xfrm>
            <a:off x="6804000" y="3933720"/>
            <a:ext cx="21938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767640" y="1413000"/>
            <a:ext cx="2376360" cy="2520720"/>
          </a:xfrm>
          <a:prstGeom prst="rect">
            <a:avLst/>
          </a:prstGeom>
          <a:ln w="0">
            <a:noFill/>
          </a:ln>
        </p:spPr>
      </p:pic>
      <p:sp>
        <p:nvSpPr>
          <p:cNvPr id="416" name="Прямоугольник 1"/>
          <p:cNvSpPr/>
          <p:nvPr/>
        </p:nvSpPr>
        <p:spPr>
          <a:xfrm>
            <a:off x="250920" y="2205000"/>
            <a:ext cx="698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сли нужно вам лечиться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нак подскажет, где больница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о серьезных докторов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ам вам скажут: "Будь здоров!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Рисунок 2" descr="1243666210_skoraya.png"/>
          <p:cNvPicPr/>
          <p:nvPr/>
        </p:nvPicPr>
        <p:blipFill>
          <a:blip r:embed="rId2"/>
          <a:stretch/>
        </p:blipFill>
        <p:spPr>
          <a:xfrm>
            <a:off x="7196040" y="3981600"/>
            <a:ext cx="1947960" cy="2876400"/>
          </a:xfrm>
          <a:prstGeom prst="rect">
            <a:avLst/>
          </a:prstGeom>
          <a:ln w="0">
            <a:noFill/>
          </a:ln>
        </p:spPr>
      </p:pic>
      <p:sp>
        <p:nvSpPr>
          <p:cNvPr id="418" name="Скругленная прямоугольная выноска 3"/>
          <p:cNvSpPr/>
          <p:nvPr/>
        </p:nvSpPr>
        <p:spPr>
          <a:xfrm>
            <a:off x="179280" y="476280"/>
            <a:ext cx="7056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Пункт медицинской помощи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Рисунок 3" descr="54179480-fuyuitcu1fygcggb.gif"/>
          <p:cNvPicPr/>
          <p:nvPr/>
        </p:nvPicPr>
        <p:blipFill>
          <a:blip r:embed="rId1"/>
          <a:stretch/>
        </p:blipFill>
        <p:spPr>
          <a:xfrm>
            <a:off x="6443640" y="4076640"/>
            <a:ext cx="1839960" cy="278136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оугольник 4"/>
          <p:cNvSpPr/>
          <p:nvPr/>
        </p:nvSpPr>
        <p:spPr>
          <a:xfrm>
            <a:off x="324000" y="2828880"/>
            <a:ext cx="653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 доедешь без бензина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о кафе и магазина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т знак вам скажет звонко: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"Рядышком бензоколонка!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Рисунок 35" descr="20120316074122!111.jpeg"/>
          <p:cNvPicPr/>
          <p:nvPr/>
        </p:nvPicPr>
        <p:blipFill>
          <a:blip r:embed="rId2"/>
          <a:stretch/>
        </p:blipFill>
        <p:spPr>
          <a:xfrm>
            <a:off x="6767640" y="1413000"/>
            <a:ext cx="2376360" cy="2520720"/>
          </a:xfrm>
          <a:prstGeom prst="rect">
            <a:avLst/>
          </a:prstGeom>
          <a:ln w="0">
            <a:noFill/>
          </a:ln>
        </p:spPr>
      </p:pic>
      <p:sp>
        <p:nvSpPr>
          <p:cNvPr id="422" name="Скругленная прямоугольная выноска 6"/>
          <p:cNvSpPr/>
          <p:nvPr/>
        </p:nvSpPr>
        <p:spPr>
          <a:xfrm>
            <a:off x="179280" y="476280"/>
            <a:ext cx="7056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Автозаправочная станция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6840" y="404280"/>
            <a:ext cx="8147160" cy="60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 каждым годом на улицах городов становится все больше машин, поэтому каждый родитель должен научить своего ребенка правильно вести себя на дороге, объяснив, что от соблюдения простых правил зависят жизнь, здоровье и безопасно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нимать, что именно говорят нам дорожные знаки, важно не только для водителей, но и для пешеходов. Именно дорожные знаки подсказывают нам, где водитель обязан пропустить пешехода, а где дорогу переходить нельзя ни в коем случае. Запомнить дорожные знаки помогут загад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4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372360" y="414972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1"/>
          <p:cNvSpPr/>
          <p:nvPr/>
        </p:nvSpPr>
        <p:spPr>
          <a:xfrm>
            <a:off x="0" y="2133720"/>
            <a:ext cx="69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ль в грязи капот и шины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до срочно мыть машину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у, раз надо, значит, надо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от вам знак, что мойка ря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Рисунок 2" descr="7.5.gif"/>
          <p:cNvPicPr/>
          <p:nvPr/>
        </p:nvPicPr>
        <p:blipFill>
          <a:blip r:embed="rId1"/>
          <a:stretch/>
        </p:blipFill>
        <p:spPr>
          <a:xfrm>
            <a:off x="6840360" y="3419640"/>
            <a:ext cx="2303640" cy="343836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35" descr="20120316074122!111.jpeg"/>
          <p:cNvPicPr/>
          <p:nvPr/>
        </p:nvPicPr>
        <p:blipFill>
          <a:blip r:embed="rId2"/>
          <a:stretch/>
        </p:blipFill>
        <p:spPr>
          <a:xfrm>
            <a:off x="6767640" y="1125360"/>
            <a:ext cx="2376360" cy="2519640"/>
          </a:xfrm>
          <a:prstGeom prst="rect">
            <a:avLst/>
          </a:prstGeom>
          <a:ln w="0">
            <a:noFill/>
          </a:ln>
        </p:spPr>
      </p:pic>
      <p:sp>
        <p:nvSpPr>
          <p:cNvPr id="426" name="Скругленная прямоугольная выноска 4"/>
          <p:cNvSpPr/>
          <p:nvPr/>
        </p:nvSpPr>
        <p:spPr>
          <a:xfrm>
            <a:off x="324000" y="189000"/>
            <a:ext cx="7056360" cy="143964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Автомойка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1"/>
          <p:cNvSpPr/>
          <p:nvPr/>
        </p:nvSpPr>
        <p:spPr>
          <a:xfrm>
            <a:off x="468360" y="2852640"/>
            <a:ext cx="684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сли нужно дозвониться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оть домой, хоть заграницу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нак поможет, скажет он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де искать вам телефон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Рисунок 2" descr="7.6.gif"/>
          <p:cNvPicPr/>
          <p:nvPr/>
        </p:nvPicPr>
        <p:blipFill>
          <a:blip r:embed="rId1"/>
          <a:stretch/>
        </p:blipFill>
        <p:spPr>
          <a:xfrm>
            <a:off x="6588000" y="3573360"/>
            <a:ext cx="2016360" cy="300852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35" descr="20120316074122!111.jpeg"/>
          <p:cNvPicPr/>
          <p:nvPr/>
        </p:nvPicPr>
        <p:blipFill>
          <a:blip r:embed="rId2"/>
          <a:stretch/>
        </p:blipFill>
        <p:spPr>
          <a:xfrm>
            <a:off x="6767640" y="1125360"/>
            <a:ext cx="2376360" cy="2519640"/>
          </a:xfrm>
          <a:prstGeom prst="rect">
            <a:avLst/>
          </a:prstGeom>
          <a:ln w="0">
            <a:noFill/>
          </a:ln>
        </p:spPr>
      </p:pic>
      <p:sp>
        <p:nvSpPr>
          <p:cNvPr id="430" name="Скругленная прямоугольная выноска 4"/>
          <p:cNvSpPr/>
          <p:nvPr/>
        </p:nvSpPr>
        <p:spPr>
          <a:xfrm>
            <a:off x="179280" y="189000"/>
            <a:ext cx="7056720" cy="143964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Телефон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767640" y="1413000"/>
            <a:ext cx="2376360" cy="252072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2" descr="7.7.gif"/>
          <p:cNvPicPr/>
          <p:nvPr/>
        </p:nvPicPr>
        <p:blipFill>
          <a:blip r:embed="rId2"/>
          <a:stretch/>
        </p:blipFill>
        <p:spPr>
          <a:xfrm>
            <a:off x="4643280" y="3456000"/>
            <a:ext cx="2305080" cy="340200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 3"/>
          <p:cNvSpPr/>
          <p:nvPr/>
        </p:nvSpPr>
        <p:spPr>
          <a:xfrm>
            <a:off x="0" y="2421000"/>
            <a:ext cx="644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ли вам нужна еда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о пожалуйте сюда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й, шофер, внимание!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коро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Скругленная прямоугольная выноска 5"/>
          <p:cNvSpPr/>
          <p:nvPr/>
        </p:nvSpPr>
        <p:spPr>
          <a:xfrm>
            <a:off x="179280" y="476280"/>
            <a:ext cx="7056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Пункт питания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516720" y="4336920"/>
            <a:ext cx="2376360" cy="252108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2060"/>
                </a:solidFill>
                <a:latin typeface="Century Schoolbook"/>
              </a:rPr>
              <a:t>БЕЗОПАСНОЙ ДОРОГИ!</a:t>
            </a: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817200" y="3369960"/>
            <a:ext cx="72406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Детям знать положено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знаки все дорожные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Ты дружок доверься им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Будешь цел и невредим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8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1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4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7" dur="5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588000" y="170028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13"/>
          <p:cNvSpPr/>
          <p:nvPr/>
        </p:nvSpPr>
        <p:spPr>
          <a:xfrm>
            <a:off x="539640" y="2060640"/>
            <a:ext cx="554364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Тихо ехать нас обяжет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Поворот вблизи покаж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И напомнит, что и как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Вам в пути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кругленная прямоугольная выноска 14"/>
          <p:cNvSpPr/>
          <p:nvPr/>
        </p:nvSpPr>
        <p:spPr>
          <a:xfrm>
            <a:off x="0" y="476280"/>
            <a:ext cx="705636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«Дорожный знак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Рисунок 6" descr="image-m2id1268.jpg"/>
          <p:cNvPicPr/>
          <p:nvPr/>
        </p:nvPicPr>
        <p:blipFill>
          <a:blip r:embed="rId1"/>
          <a:stretch/>
        </p:blipFill>
        <p:spPr>
          <a:xfrm>
            <a:off x="5256360" y="4078440"/>
            <a:ext cx="3887640" cy="277956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35" descr="20120316074122!111.jpeg"/>
          <p:cNvPicPr/>
          <p:nvPr/>
        </p:nvPicPr>
        <p:blipFill>
          <a:blip r:embed="rId2"/>
          <a:stretch/>
        </p:blipFill>
        <p:spPr>
          <a:xfrm>
            <a:off x="6588000" y="170028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13"/>
          <p:cNvSpPr/>
          <p:nvPr/>
        </p:nvSpPr>
        <p:spPr>
          <a:xfrm>
            <a:off x="0" y="2349360"/>
            <a:ext cx="6012000" cy="25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Знак любителей обгона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Объявляет вне закона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В этом месте, сразу ясно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Обгонять других опас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кругленная прямоугольная выноска 14"/>
          <p:cNvSpPr/>
          <p:nvPr/>
        </p:nvSpPr>
        <p:spPr>
          <a:xfrm>
            <a:off x="179280" y="476280"/>
            <a:ext cx="7056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«Обгонять запрещен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588000" y="170028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363" name="Прямоугольник 13"/>
          <p:cNvSpPr/>
          <p:nvPr/>
        </p:nvSpPr>
        <p:spPr>
          <a:xfrm>
            <a:off x="179280" y="2276640"/>
            <a:ext cx="619308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Видно строить будут дом- Кирпичи висят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Но у нашего д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Стройплощадка не вид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кругленная прямоугольная выноска 14"/>
          <p:cNvSpPr/>
          <p:nvPr/>
        </p:nvSpPr>
        <p:spPr>
          <a:xfrm>
            <a:off x="-2124000" y="1844640"/>
            <a:ext cx="705636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entury Schoolbook"/>
              </a:rPr>
              <a:t>«Въезд запрещен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Рисунок 5" descr="kirpich.jpg"/>
          <p:cNvPicPr/>
          <p:nvPr/>
        </p:nvPicPr>
        <p:blipFill>
          <a:blip r:embed="rId2"/>
          <a:stretch/>
        </p:blipFill>
        <p:spPr>
          <a:xfrm>
            <a:off x="5867280" y="4292640"/>
            <a:ext cx="216540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588000" y="170028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1"/>
          <p:cNvSpPr/>
          <p:nvPr/>
        </p:nvSpPr>
        <p:spPr>
          <a:xfrm>
            <a:off x="250920" y="2349360"/>
            <a:ext cx="604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дождь и в ясную погоду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десь не ходят пешеходы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ворит им знак одно: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Тут ходить запрещено!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кругленная прямоугольная выноска 3"/>
          <p:cNvSpPr/>
          <p:nvPr/>
        </p:nvSpPr>
        <p:spPr>
          <a:xfrm>
            <a:off x="179280" y="476280"/>
            <a:ext cx="7056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«движение пешеходов запрещено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Рисунок 7" descr="83277921.jpg"/>
          <p:cNvPicPr/>
          <p:nvPr/>
        </p:nvPicPr>
        <p:blipFill>
          <a:blip r:embed="rId2"/>
          <a:stretch/>
        </p:blipFill>
        <p:spPr>
          <a:xfrm>
            <a:off x="5651640" y="4221000"/>
            <a:ext cx="235584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588000" y="170028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13"/>
          <p:cNvSpPr/>
          <p:nvPr/>
        </p:nvSpPr>
        <p:spPr>
          <a:xfrm>
            <a:off x="179280" y="2276640"/>
            <a:ext cx="655344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Белый круг с каемкой красн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Значит, ехать не опас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Может, и висит он зр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Что вы скажете, друз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кругленная прямоугольная выноска 14"/>
          <p:cNvSpPr/>
          <p:nvPr/>
        </p:nvSpPr>
        <p:spPr>
          <a:xfrm>
            <a:off x="179280" y="476280"/>
            <a:ext cx="7056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entury Schoolbook"/>
              </a:rPr>
              <a:t>«Движение запрещено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Рисунок 5"/>
          <p:cNvSpPr/>
          <p:nvPr/>
        </p:nvSpPr>
        <p:spPr>
          <a:xfrm>
            <a:off x="5796000" y="4137120"/>
            <a:ext cx="2720880" cy="27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588000" y="170028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375" name="Прямоугольник 13"/>
          <p:cNvSpPr/>
          <p:nvPr/>
        </p:nvSpPr>
        <p:spPr>
          <a:xfrm>
            <a:off x="179280" y="2276640"/>
            <a:ext cx="619308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Скоро будет огород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Знак об этом знать д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Если есть с собой лопа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Вас там ждут всегда, ребя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Скругленная прямоугольная выноска 14"/>
          <p:cNvSpPr/>
          <p:nvPr/>
        </p:nvSpPr>
        <p:spPr>
          <a:xfrm>
            <a:off x="179280" y="476280"/>
            <a:ext cx="7056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entury Schoolbook"/>
              </a:rPr>
              <a:t>«Дорожные работ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Рисунок 7" descr="1349093375.jpg"/>
          <p:cNvPicPr/>
          <p:nvPr/>
        </p:nvPicPr>
        <p:blipFill>
          <a:blip r:embed="rId2"/>
          <a:stretch/>
        </p:blipFill>
        <p:spPr>
          <a:xfrm>
            <a:off x="6372360" y="4365720"/>
            <a:ext cx="26175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Рисунок 35" descr="20120316074122!111.jpeg"/>
          <p:cNvPicPr/>
          <p:nvPr/>
        </p:nvPicPr>
        <p:blipFill>
          <a:blip r:embed="rId1"/>
          <a:stretch/>
        </p:blipFill>
        <p:spPr>
          <a:xfrm>
            <a:off x="6156360" y="1341360"/>
            <a:ext cx="2457360" cy="237492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оугольник 13"/>
          <p:cNvSpPr/>
          <p:nvPr/>
        </p:nvSpPr>
        <p:spPr>
          <a:xfrm>
            <a:off x="179280" y="2276640"/>
            <a:ext cx="540072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НЕ ОВРАГ ЗДЕСЬ И НЕ Л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ЗДЕСЬ ДОРОГА НАПРОРЕ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У ДОРОГИ ЗНАК СТО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НО О ЧЕМ ОН ГОВОРИ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Скругленная прямоугольная выноска 14"/>
          <p:cNvSpPr/>
          <p:nvPr/>
        </p:nvSpPr>
        <p:spPr>
          <a:xfrm>
            <a:off x="826920" y="476280"/>
            <a:ext cx="5400720" cy="1440000"/>
          </a:xfrm>
          <a:prstGeom prst="wedgeRoundRectCallout">
            <a:avLst>
              <a:gd name="adj1" fmla="val 53402"/>
              <a:gd name="adj2" fmla="val 73273"/>
              <a:gd name="adj3" fmla="val 16667"/>
            </a:avLst>
          </a:pr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entury Schoolbook"/>
              </a:rPr>
              <a:t>«Тоннель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Рисунок 17" descr="1_31.png"/>
          <p:cNvPicPr/>
          <p:nvPr/>
        </p:nvPicPr>
        <p:blipFill>
          <a:blip r:embed="rId2"/>
          <a:stretch/>
        </p:blipFill>
        <p:spPr>
          <a:xfrm>
            <a:off x="5292720" y="4221000"/>
            <a:ext cx="2790720" cy="228600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35" descr="20120316074122!111.jpeg"/>
          <p:cNvPicPr/>
          <p:nvPr/>
        </p:nvPicPr>
        <p:blipFill>
          <a:blip r:embed="rId3"/>
          <a:stretch/>
        </p:blipFill>
        <p:spPr>
          <a:xfrm>
            <a:off x="6156360" y="1341360"/>
            <a:ext cx="2457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6:00:19Z</dcterms:created>
  <dc:creator>Nikolay</dc:creator>
  <dc:description/>
  <dc:language>en-US</dc:language>
  <cp:lastModifiedBy>Ольга</cp:lastModifiedBy>
  <dcterms:modified xsi:type="dcterms:W3CDTF">2017-09-18T18:07:26Z</dcterms:modified>
  <cp:revision>74</cp:revision>
  <dc:subject/>
  <dc:title>Тест по теме: Пожары и взрывы</dc:title>
</cp:coreProperties>
</file>