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2A5-9619-47D3-B80C-F22B2127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132-2F6E-4FCF-B335-A4441638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482-ED50-475F-BC33-295BCE7D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264-DB7B-483B-8151-87609FF8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FFC3-4627-4588-BB56-3866B5F9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B76-2553-4CD3-8FEC-7E084F6F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F734-390B-44D1-ADD3-1421EB6D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3EA7-7410-443C-99DE-B37E10E1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FB4-7721-46B8-90DC-568733CD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C18D-36C9-4492-BF21-E7B7EC6A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7F26-A675-42FF-B09E-C495386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18C-17E0-499B-A8BB-D488996C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AAE2-C14A-4E83-90C1-04C256B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1219-5C72-455A-89E7-DA6A6C66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F859-4FCC-4C4B-9B09-B7233463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8A5A-3DFB-4DA7-B6BB-A27D40BA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6E09-DA78-49D7-9EF6-300B2860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2DAAF-774B-47B9-8545-D89B45C4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64231-6B9D-433B-AB32-4B3BE2D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01444-938B-4DFD-9F8F-F000A12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F4EA3-1A64-4409-9D74-A6C02413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7CE89-7F2B-47E7-B90A-8620F34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0BE-AD88-4D36-9A9E-30D9B02E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9810D-4EA7-4222-BEC9-682A9895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02F29-4286-42CC-8E68-1B169EFB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09612-3B61-4451-9EDE-A36EDE0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FFAEF-7306-40B7-8527-39A0E844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A3341-DDAB-4A4D-AFB1-9763FDE7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D544C-B2D1-41CB-B79C-743A5DC9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F27FF-A06C-4451-A203-FD61A90B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83B6-0F6F-4489-862F-E392B015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3DAD-D603-47CA-8460-318D7B3F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CB53-3227-4046-947C-E69AA7F4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EEA-FB88-42A6-AC21-56DB8BF2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442D-981D-40B7-BD43-F90C5EC0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5FE9-7503-423F-9877-FA5090BA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8234-662F-4F54-91C6-6542AD5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15F5-45E9-4442-B3ED-1584B40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0597-022D-40FA-912C-6FDD647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0159-A84D-4FB4-BB18-124E511A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6C22-EA30-46A2-A6C0-B10F519F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6737-D45E-498F-B286-8EE2D3F2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9CDF2-1C6B-4754-AE19-1B4DACED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21967-2988-44D9-8BF7-44D2A23A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614-F8A3-4643-BD7B-72321FF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0BBE4-59A1-4F0A-814C-ED2A06FD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EFA05-3501-4CBB-A9D2-D00FCEA7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DEE6C-5429-4C69-933D-53079CB0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F6AB6-5B9C-4277-A56B-38BE3A0F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ABC3C-A1ED-4208-9D04-DB866EB7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1B3B3-8DF3-48E6-8279-F1E37EF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C7457-4E17-438C-896D-68C362C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52134-D741-4B3F-8E9B-903A390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26B88-3F4A-4FBE-9307-EEF94D05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9EA8B-003B-449D-BBEE-2D755271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992-F847-447B-8133-9CA70AE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1A778-4335-470F-BF92-CC0569D0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4D90F-A1B3-4F8B-A258-5950181E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B54AB-33F0-4F6C-832E-9028063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801E8-0E61-45CF-A928-8760C15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EACDD-64DD-4B31-B7AF-47F5846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6DE3D-C8C0-45C7-93A8-2EF5D1CF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B07A9-28DA-4D94-A268-EF3216E7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9CCF4-E664-4093-8627-D0F4550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58842-9FAD-42DA-AE80-FBAC328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16766-0A16-45DC-95EC-88E6284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40E-BC80-4346-8FE2-EF56BDA9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49CBE-C36E-4059-AF8F-69F95F2D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3EC50-1508-45E6-9766-6B5CDA76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73FD4-DBC1-4DDF-848D-89819114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38979B-449E-4A3C-9F9A-1B7ED370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808AE-D42D-4FD1-BE08-9AE98476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5EF12-F687-46D8-88CC-74445B09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78B45-F5C6-4C86-A1EC-A8820D57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865BA-6F71-4BC7-A6F1-7ACBDF9B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294D3-DF17-41BC-9FD9-9905A10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25211-0223-4CE8-93AF-5159A74C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AA1-D372-4DCD-9FA5-2959F638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6AEC8-4224-4309-92F9-A9B96A7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B4CE9-2D48-44A4-913A-33580E8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92A12-A8BE-4770-8A85-FEDD2729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1302E-63F0-45CD-BA7B-96A9A986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83C70-163F-424A-B3B0-2B163EA6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906-E336-44FC-B7BC-B238C446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56E-1EA0-4347-999D-1C543F6D2D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4BA0-BFB9-4937-8B83-90AAE8ADAB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7258-3B18-4535-A7EF-94228F95FD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12C7-D3E3-42CA-B6DB-8E14B745F9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7021-E2FC-4D2E-9C45-A800A41A00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0C53-6B78-4750-871E-1C80306268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E5AE-556A-4C91-9EA1-3B1E58411A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480" y="47592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entury Schoolbook"/>
              </a:rPr>
              <a:t>ЗАГАДКИ О ДОРОЖНЫХ ЗНАКАХ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3" descr="fb4a4d1896d15d241d80aa70d85a7825.jpg"/>
          <p:cNvPicPr/>
          <p:nvPr/>
        </p:nvPicPr>
        <p:blipFill>
          <a:blip r:embed="rId1"/>
          <a:stretch/>
        </p:blipFill>
        <p:spPr>
          <a:xfrm>
            <a:off x="2340000" y="1268280"/>
            <a:ext cx="61945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Тормози скорей, шофер!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Можно врезаться в забор!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Кто нам путь загородил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И дорогу перекрыл?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ая прямоугольная выноска 14"/>
          <p:cNvSpPr/>
          <p:nvPr/>
        </p:nvSpPr>
        <p:spPr>
          <a:xfrm>
            <a:off x="324000" y="476280"/>
            <a:ext cx="705636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Железнодорожный переезд со шлагбаум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6" descr="0274.jpg"/>
          <p:cNvPicPr/>
          <p:nvPr/>
        </p:nvPicPr>
        <p:blipFill>
          <a:blip r:embed="rId2"/>
          <a:stretch/>
        </p:blipFill>
        <p:spPr>
          <a:xfrm>
            <a:off x="5724360" y="4076640"/>
            <a:ext cx="28576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3"/>
          <p:cNvSpPr/>
          <p:nvPr/>
        </p:nvSpPr>
        <p:spPr>
          <a:xfrm>
            <a:off x="179280" y="2276640"/>
            <a:ext cx="6985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ивлекает всё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Знак со знаком восклицания.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Может пропускает он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Тех, кто с азбукой знаком?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Schoolbook"/>
              </a:rPr>
              <a:t>«Прочие опасности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5" descr="69_4.gif"/>
          <p:cNvPicPr/>
          <p:nvPr/>
        </p:nvPicPr>
        <p:blipFill>
          <a:blip r:embed="rId2"/>
          <a:stretch/>
        </p:blipFill>
        <p:spPr>
          <a:xfrm>
            <a:off x="5732640" y="4208400"/>
            <a:ext cx="30160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5" descr="700e42efd314ac899004d02e7529136d.jpg"/>
          <p:cNvPicPr/>
          <p:nvPr/>
        </p:nvPicPr>
        <p:blipFill>
          <a:blip r:embed="rId1"/>
          <a:stretch/>
        </p:blipFill>
        <p:spPr>
          <a:xfrm>
            <a:off x="4067280" y="3645000"/>
            <a:ext cx="3593880" cy="32130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443640" y="1773360"/>
            <a:ext cx="2376360" cy="251928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1"/>
          <p:cNvSpPr/>
          <p:nvPr/>
        </p:nvSpPr>
        <p:spPr>
          <a:xfrm>
            <a:off x="250920" y="2133720"/>
            <a:ext cx="633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упреждает этот знак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у дороги здесь зигзаг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впереди машину ждёт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ас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ая прямоугольная выноска 3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Опасный поворот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Если видишь этот знак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Знай, что он не просто так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Чтобы не было проблем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ступи дорогу всем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«Уступи дорог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7" descr="traffic-sign-6626_640.png"/>
          <p:cNvPicPr/>
          <p:nvPr/>
        </p:nvPicPr>
        <p:blipFill>
          <a:blip r:embed="rId2"/>
          <a:stretch/>
        </p:blipFill>
        <p:spPr>
          <a:xfrm>
            <a:off x="5508720" y="3954600"/>
            <a:ext cx="29034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24000" y="1989000"/>
            <a:ext cx="6480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Форма странная у знака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Больше нет таких, ребята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е квадрат он и не круг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А машины встали вдруг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16720" y="1773360"/>
            <a:ext cx="2200320" cy="212868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ая прямоугольная выноска 5"/>
          <p:cNvSpPr/>
          <p:nvPr/>
        </p:nvSpPr>
        <p:spPr>
          <a:xfrm>
            <a:off x="826920" y="476280"/>
            <a:ext cx="5400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«Движение без остановки запреще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6" descr="2.5.gif"/>
          <p:cNvPicPr/>
          <p:nvPr/>
        </p:nvPicPr>
        <p:blipFill>
          <a:blip r:embed="rId2"/>
          <a:stretch/>
        </p:blipFill>
        <p:spPr>
          <a:xfrm>
            <a:off x="5580000" y="3789360"/>
            <a:ext cx="2847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484280"/>
            <a:ext cx="2376720" cy="25210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"/>
          <p:cNvSpPr/>
          <p:nvPr/>
        </p:nvSpPr>
        <p:spPr>
          <a:xfrm>
            <a:off x="0" y="227664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молвились машины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тудить пора бы шины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тановимся, где сквер!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 вмешалась буква «Эр»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лько я могу решить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де стоянку разреш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ая прямоугольная выноска 2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Место для стоян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5" descr="i.jpg"/>
          <p:cNvPicPr/>
          <p:nvPr/>
        </p:nvPicPr>
        <p:blipFill>
          <a:blip r:embed="rId2"/>
          <a:stretch/>
        </p:blipFill>
        <p:spPr>
          <a:xfrm>
            <a:off x="5219640" y="3978360"/>
            <a:ext cx="288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Чудо-конь— велосипед,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Можно ехать или нет?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транный этот синий знак,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е понять его ник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«Велосипедная дорож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5" descr="600px-Zeichen_237.svg.png"/>
          <p:cNvPicPr/>
          <p:nvPr/>
        </p:nvPicPr>
        <p:blipFill>
          <a:blip r:embed="rId2"/>
          <a:stretch/>
        </p:blipFill>
        <p:spPr>
          <a:xfrm>
            <a:off x="5724360" y="3784680"/>
            <a:ext cx="30736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767640" y="141300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1"/>
          <p:cNvSpPr/>
          <p:nvPr/>
        </p:nvSpPr>
        <p:spPr>
          <a:xfrm>
            <a:off x="0" y="2421000"/>
            <a:ext cx="64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 этим знаком, как ни странно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 ждут чего-то постоянно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-то сидя, кто-то стоя…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за место здесь тако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ая прямоугольная выноска 2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Место остановки автобус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4" descr="avt.jpg"/>
          <p:cNvPicPr/>
          <p:nvPr/>
        </p:nvPicPr>
        <p:blipFill>
          <a:blip r:embed="rId2"/>
          <a:stretch/>
        </p:blipFill>
        <p:spPr>
          <a:xfrm>
            <a:off x="6804000" y="3933720"/>
            <a:ext cx="2193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767640" y="141300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"/>
          <p:cNvSpPr/>
          <p:nvPr/>
        </p:nvSpPr>
        <p:spPr>
          <a:xfrm>
            <a:off x="250920" y="220500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нужно вам лечиться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к подскажет, где больниц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о серьезных докторов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м вам скажут: "Будь здоров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2" descr="1243666210_skoraya.png"/>
          <p:cNvPicPr/>
          <p:nvPr/>
        </p:nvPicPr>
        <p:blipFill>
          <a:blip r:embed="rId2"/>
          <a:stretch/>
        </p:blipFill>
        <p:spPr>
          <a:xfrm>
            <a:off x="7196040" y="3981600"/>
            <a:ext cx="1947960" cy="2876400"/>
          </a:xfrm>
          <a:prstGeom prst="rect">
            <a:avLst/>
          </a:prstGeom>
          <a:ln w="0">
            <a:noFill/>
          </a:ln>
        </p:spPr>
      </p:pic>
      <p:sp>
        <p:nvSpPr>
          <p:cNvPr id="418" name="Скругленная прямоугольная выноска 3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Пункт медицинской помощ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54179480-fuyuitcu1fygcggb.gif"/>
          <p:cNvPicPr/>
          <p:nvPr/>
        </p:nvPicPr>
        <p:blipFill>
          <a:blip r:embed="rId1"/>
          <a:stretch/>
        </p:blipFill>
        <p:spPr>
          <a:xfrm>
            <a:off x="6443640" y="4076640"/>
            <a:ext cx="1839960" cy="27813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4"/>
          <p:cNvSpPr/>
          <p:nvPr/>
        </p:nvSpPr>
        <p:spPr>
          <a:xfrm>
            <a:off x="324000" y="2828880"/>
            <a:ext cx="653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доедешь без бензин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 кафе и магазина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т знак вам скажет звонк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Рядышком бензоколонка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767640" y="141300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422" name="Скругленная прямоугольная выноска 6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Автозаправочная станци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404280"/>
            <a:ext cx="814716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каждым годом на улицах городов становится все больше машин, поэтому каждый родитель должен научить своего ребенка правильно вести себя на дороге, объяснив, что от соблюдения простых правил зависят жизнь, здоровье и безопас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нимать, что именно говорят нам дорожные знаки, важно не только для водителей, но и для пешеходов. Именно дорожные знаки подсказывают нам, где водитель обязан пропустить пешехода, а где дорогу переходить нельзя ни в коем случае. Запомнить дорожные знаки помогут загад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372360" y="41497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0" y="2133720"/>
            <a:ext cx="69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ь в грязи капот и шины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до срочно мыть машину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у, раз надо, значит, надо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т вам знак, что мойка ря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2" descr="7.5.gif"/>
          <p:cNvPicPr/>
          <p:nvPr/>
        </p:nvPicPr>
        <p:blipFill>
          <a:blip r:embed="rId1"/>
          <a:stretch/>
        </p:blipFill>
        <p:spPr>
          <a:xfrm>
            <a:off x="6840360" y="3419640"/>
            <a:ext cx="2303640" cy="343836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767640" y="112536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26" name="Скругленная прямоугольная выноска 4"/>
          <p:cNvSpPr/>
          <p:nvPr/>
        </p:nvSpPr>
        <p:spPr>
          <a:xfrm>
            <a:off x="324000" y="189000"/>
            <a:ext cx="7056360" cy="143964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Автомой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468360" y="2852640"/>
            <a:ext cx="68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нужно дозвонитьс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оть домой, хоть заграниц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к поможет, скажет он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де искать вам телефон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2" descr="7.6.gif"/>
          <p:cNvPicPr/>
          <p:nvPr/>
        </p:nvPicPr>
        <p:blipFill>
          <a:blip r:embed="rId1"/>
          <a:stretch/>
        </p:blipFill>
        <p:spPr>
          <a:xfrm>
            <a:off x="6588000" y="3573360"/>
            <a:ext cx="2016360" cy="30085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767640" y="112536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30" name="Скругленная прямоугольная выноска 4"/>
          <p:cNvSpPr/>
          <p:nvPr/>
        </p:nvSpPr>
        <p:spPr>
          <a:xfrm>
            <a:off x="179280" y="189000"/>
            <a:ext cx="7056720" cy="143964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елефон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767640" y="1413000"/>
            <a:ext cx="2376360" cy="252072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2" descr="7.7.gif"/>
          <p:cNvPicPr/>
          <p:nvPr/>
        </p:nvPicPr>
        <p:blipFill>
          <a:blip r:embed="rId2"/>
          <a:stretch/>
        </p:blipFill>
        <p:spPr>
          <a:xfrm>
            <a:off x="4643280" y="3456000"/>
            <a:ext cx="2305080" cy="34020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3"/>
          <p:cNvSpPr/>
          <p:nvPr/>
        </p:nvSpPr>
        <p:spPr>
          <a:xfrm>
            <a:off x="0" y="242100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и вам нужна еда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 пожалуйте сюд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й, шофер, внимание!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ор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ая прямоугольная выноска 5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Пункт питани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16720" y="4336920"/>
            <a:ext cx="2376360" cy="25210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2060"/>
                </a:solidFill>
                <a:latin typeface="Century Schoolbook"/>
              </a:rPr>
              <a:t>БЕЗОПАСНОЙ ДОРОГИ!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17200" y="3369960"/>
            <a:ext cx="72406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Детям знать положено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знаки все дорожные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Ты дружок доверься и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Будешь цел и невредим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1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4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7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3"/>
          <p:cNvSpPr/>
          <p:nvPr/>
        </p:nvSpPr>
        <p:spPr>
          <a:xfrm>
            <a:off x="539640" y="2060640"/>
            <a:ext cx="55436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ихо ехать нас обяжет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оворот вблизи покаж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И напомнит, что и ка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ам в пути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ая прямоугольная выноска 14"/>
          <p:cNvSpPr/>
          <p:nvPr/>
        </p:nvSpPr>
        <p:spPr>
          <a:xfrm>
            <a:off x="0" y="476280"/>
            <a:ext cx="705636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Дорожный зна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6" descr="image-m2id1268.jpg"/>
          <p:cNvPicPr/>
          <p:nvPr/>
        </p:nvPicPr>
        <p:blipFill>
          <a:blip r:embed="rId1"/>
          <a:stretch/>
        </p:blipFill>
        <p:spPr>
          <a:xfrm>
            <a:off x="5256360" y="4078440"/>
            <a:ext cx="3887640" cy="27795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13"/>
          <p:cNvSpPr/>
          <p:nvPr/>
        </p:nvSpPr>
        <p:spPr>
          <a:xfrm>
            <a:off x="0" y="2349360"/>
            <a:ext cx="6012000" cy="25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Знак любителей обгон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бъявляет вне закон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В этом месте, сразу яс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бгонять других опа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Обгонять запрещен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Видно строить будут дом- Кирпичи висят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о у нашего д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тройплощадка не ви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ая прямоугольная выноска 14"/>
          <p:cNvSpPr/>
          <p:nvPr/>
        </p:nvSpPr>
        <p:spPr>
          <a:xfrm>
            <a:off x="-2124000" y="1844640"/>
            <a:ext cx="705636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"/>
              </a:rPr>
              <a:t>«Въезд запреще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5" descr="kirpich.jpg"/>
          <p:cNvPicPr/>
          <p:nvPr/>
        </p:nvPicPr>
        <p:blipFill>
          <a:blip r:embed="rId2"/>
          <a:stretch/>
        </p:blipFill>
        <p:spPr>
          <a:xfrm>
            <a:off x="5867280" y="4292640"/>
            <a:ext cx="21654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"/>
          <p:cNvSpPr/>
          <p:nvPr/>
        </p:nvSpPr>
        <p:spPr>
          <a:xfrm>
            <a:off x="250920" y="2349360"/>
            <a:ext cx="60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дождь и в ясную погод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десь не ходят пешеходы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ворит им знак одно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Тут ходить запрещено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ая прямоугольная выноска 3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движение пешеходов запрещено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7" descr="83277921.jpg"/>
          <p:cNvPicPr/>
          <p:nvPr/>
        </p:nvPicPr>
        <p:blipFill>
          <a:blip r:embed="rId2"/>
          <a:stretch/>
        </p:blipFill>
        <p:spPr>
          <a:xfrm>
            <a:off x="5651640" y="4221000"/>
            <a:ext cx="235584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3"/>
          <p:cNvSpPr/>
          <p:nvPr/>
        </p:nvSpPr>
        <p:spPr>
          <a:xfrm>
            <a:off x="179280" y="2276640"/>
            <a:ext cx="65534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Белый круг с каемкой крас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Значит, ехать не опа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Может, и висит он зр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Что вы скажете, друз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"/>
              </a:rPr>
              <a:t>«Движение запрещен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Рисунок 5"/>
          <p:cNvSpPr/>
          <p:nvPr/>
        </p:nvSpPr>
        <p:spPr>
          <a:xfrm>
            <a:off x="5796000" y="4137120"/>
            <a:ext cx="27208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Скоро будет ого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Знак об этом знать 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сли есть с собой лоп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Вас там ждут всегда,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"/>
              </a:rPr>
              <a:t>«Дорожные работ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7" descr="1349093375.jpg"/>
          <p:cNvPicPr/>
          <p:nvPr/>
        </p:nvPicPr>
        <p:blipFill>
          <a:blip r:embed="rId2"/>
          <a:stretch/>
        </p:blipFill>
        <p:spPr>
          <a:xfrm>
            <a:off x="6372360" y="4365720"/>
            <a:ext cx="26175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156360" y="1341360"/>
            <a:ext cx="2457360" cy="23749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13"/>
          <p:cNvSpPr/>
          <p:nvPr/>
        </p:nvSpPr>
        <p:spPr>
          <a:xfrm>
            <a:off x="179280" y="2276640"/>
            <a:ext cx="54007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 ОВРАГ ЗДЕСЬ И НЕ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ДЕСЬ ДОРОГА НАПРОР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У ДОРОГИ ЗНАК СТО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О О ЧЕМ ОН ГОВОР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ая прямоугольная выноска 14"/>
          <p:cNvSpPr/>
          <p:nvPr/>
        </p:nvSpPr>
        <p:spPr>
          <a:xfrm>
            <a:off x="826920" y="476280"/>
            <a:ext cx="5400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"/>
              </a:rPr>
              <a:t>«Тоннел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17" descr="1_31.png"/>
          <p:cNvPicPr/>
          <p:nvPr/>
        </p:nvPicPr>
        <p:blipFill>
          <a:blip r:embed="rId2"/>
          <a:stretch/>
        </p:blipFill>
        <p:spPr>
          <a:xfrm>
            <a:off x="5292720" y="4221000"/>
            <a:ext cx="2790720" cy="22860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5" descr="20120316074122!111.jpeg"/>
          <p:cNvPicPr/>
          <p:nvPr/>
        </p:nvPicPr>
        <p:blipFill>
          <a:blip r:embed="rId3"/>
          <a:stretch/>
        </p:blipFill>
        <p:spPr>
          <a:xfrm>
            <a:off x="6156360" y="1341360"/>
            <a:ext cx="2457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6:00:19Z</dcterms:created>
  <dc:creator>Nikolay</dc:creator>
  <dc:description/>
  <dc:language>en-US</dc:language>
  <cp:lastModifiedBy>Ольга</cp:lastModifiedBy>
  <dcterms:modified xsi:type="dcterms:W3CDTF">2017-09-18T18:07:26Z</dcterms:modified>
  <cp:revision>74</cp:revision>
  <dc:subject/>
  <dc:title>Тест по теме: Пожары и взрывы</dc:title>
</cp:coreProperties>
</file>