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637-2B34-4864-A8AC-2869E2D5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93D-983E-4519-BCFA-E6A715D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849-F4A1-4878-8AE1-D88F6C6F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83F-7D56-4F48-B552-18CCF787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702-03ED-4F9B-9A27-FF3697E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4E1-D4C6-4FF1-916C-ED602BC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1CE-0B6F-4231-9BE3-A2E8183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06F-EEC4-495B-9744-A1239BF0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785-E255-4C52-A75A-6AC746A5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8A9-32E2-430E-8AB5-20F04FA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578-0953-47DB-AF39-35A948C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970-F3B3-4022-9F51-469C19AA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E680-F3B7-4223-B648-B4C195180B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764640"/>
            <a:ext cx="518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граф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сред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визуализации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технология подачи информации в виде визуальных обр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граф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185920" y="2637000"/>
            <a:ext cx="48769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87240" y="333360"/>
            <a:ext cx="7705800" cy="77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ная цель инфо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процесса восприятия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лучшему запоминанию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ение сложной информации простыми обра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ача данных в кратком и необыч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ы создания инфо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уа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кони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образие тем инфограф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79280" y="2119320"/>
            <a:ext cx="4362480" cy="305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275360" cy="3027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292720" y="31212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187280" y="162864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г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3960" y="6202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Д с применением технологии инфографик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ли-бом, тили-бом, загорелся кошкин д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97080" y="2421000"/>
            <a:ext cx="5824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едагога со сх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656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детей со сх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форум\форум\фото нод\144.jpg"/>
          <p:cNvPicPr/>
          <p:nvPr/>
        </p:nvPicPr>
        <p:blipFill>
          <a:blip r:embed="rId1"/>
          <a:stretch/>
        </p:blipFill>
        <p:spPr>
          <a:xfrm>
            <a:off x="73080" y="841320"/>
            <a:ext cx="4078080" cy="509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форум\форум\фото нод\163.jpg"/>
          <p:cNvPicPr/>
          <p:nvPr/>
        </p:nvPicPr>
        <p:blipFill>
          <a:blip r:embed="rId2"/>
          <a:stretch/>
        </p:blipFill>
        <p:spPr>
          <a:xfrm>
            <a:off x="3713040" y="1127160"/>
            <a:ext cx="4235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результа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сделать НОД более интерес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ужает детей в предмет из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детскую мотивацию к 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ет познавательн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ет успешному усвоению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я</cp:lastModifiedBy>
  <dcterms:modified xsi:type="dcterms:W3CDTF">2017-09-18T07:21:17Z</dcterms:modified>
  <cp:revision>763</cp:revision>
  <dc:subject/>
  <dc:title>Diapositiva 1</dc:title>
</cp:coreProperties>
</file>