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24D-2F24-4D4B-B2D1-4D7E3284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F8E-834F-4347-B080-D768C8DB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C7E-18AC-4F11-AA2F-5C0C5C7B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11B-4665-470B-93D8-E7243064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DF6-2A68-4340-94D9-21A6CD92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11A-BADC-4C6F-8E06-1B59CA4D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4C0-C897-4E18-AFC3-518F05BB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623-2614-4140-BE92-1E6F5557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ECD-5AC5-40F1-8DCB-ABB5C89D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EC2-2D8B-4DA6-8ADC-F735CE85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ACC-3458-43EC-AAB0-D589E3EC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42D-22A7-4C9B-96B7-72B86EAC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717F-AE24-4243-B8DB-CBDA36D798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764640"/>
            <a:ext cx="5184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Инфограф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сред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визуализации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технология подачи информации в виде визуальных обр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граф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2185920" y="2637000"/>
            <a:ext cx="487692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687240" y="333360"/>
            <a:ext cx="7705800" cy="77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ная цель инфограф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енствование процесса восприятия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ует лучшему запоминанию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ение сложной информации простыми образ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ача данных в кратком и необыч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ы создания инфограф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уа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конич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дова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нообразие тем инфограф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179280" y="2119320"/>
            <a:ext cx="4362480" cy="305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4275360" cy="3027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5292720" y="31212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187280" y="162864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Яго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3960" y="62028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Д с применением технологии инфографик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или-бом, тили-бом, загорелся кошкин до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97080" y="2421000"/>
            <a:ext cx="58244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едагога со схе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6562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детей со схе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:\форум\форум\фото нод\144.jpg"/>
          <p:cNvPicPr/>
          <p:nvPr/>
        </p:nvPicPr>
        <p:blipFill>
          <a:blip r:embed="rId1"/>
          <a:stretch/>
        </p:blipFill>
        <p:spPr>
          <a:xfrm>
            <a:off x="73080" y="841320"/>
            <a:ext cx="4078080" cy="509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форум\форум\фото нод\163.jpg"/>
          <p:cNvPicPr/>
          <p:nvPr/>
        </p:nvPicPr>
        <p:blipFill>
          <a:blip r:embed="rId2"/>
          <a:stretch/>
        </p:blipFill>
        <p:spPr>
          <a:xfrm>
            <a:off x="3713040" y="1127160"/>
            <a:ext cx="42354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результа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ет сделать НОД более интерес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ружает детей в предмет из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т детскую мотивацию к 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ирует познавательную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ет успешному усвоению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ня</cp:lastModifiedBy>
  <dcterms:modified xsi:type="dcterms:W3CDTF">2017-09-18T07:21:17Z</dcterms:modified>
  <cp:revision>763</cp:revision>
  <dc:subject/>
  <dc:title>Diapositiva 1</dc:title>
</cp:coreProperties>
</file>