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3C9-362F-4964-A762-55E211BC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B5C-2FEC-4FDE-9935-DC1867A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3BE-20AF-4827-AD09-4A458C6B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1C4-5289-437B-BC22-59F9485B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04A-6790-4D05-BF07-85665D00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3A2-33BD-478C-B132-5ADA07B7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314-CBF0-46D9-9517-218D4FA6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A49-A539-4A99-B2C2-FE07A96C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E0E-0C66-43DA-81AC-203A58FC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386-B3CF-42F6-9494-BF50959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44D-8303-484B-9665-F596BF4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3C7-936A-43BC-9E37-13E249E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C85-DE93-46D8-9773-ECFBBDF05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рекция познавательных функций учащихся с ОВ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уроках математики в играх и упражнения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RADNG"/>
          <p:cNvPicPr/>
          <p:nvPr/>
        </p:nvPicPr>
        <p:blipFill>
          <a:blip r:embed="rId1"/>
          <a:stretch/>
        </p:blipFill>
        <p:spPr>
          <a:xfrm>
            <a:off x="6643800" y="4643280"/>
            <a:ext cx="1763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звитие пространственных представлений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ери из предложенных фигур квадрат и положи его правой рукой спереди( перед собой), слева, поднять вверх, сзади ( за соб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е действия по инструкции: «Нарисуй под кружком квадрат, в квадрате треугольник, над кружком большой круж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ить фигуры из палочек, кубиков, из моделей геометрически фигур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рассматривается как психофизиологический процесс, характеризующий направленность и сосредоточенность сознания  на каком-либо объ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99125"/>
          <p:cNvPicPr/>
          <p:nvPr/>
        </p:nvPicPr>
        <p:blipFill>
          <a:blip r:embed="rId1"/>
          <a:stretch/>
        </p:blipFill>
        <p:spPr>
          <a:xfrm>
            <a:off x="7072200" y="4286160"/>
            <a:ext cx="12589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нимание-форма развития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развития распределения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тренировки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на развитие устойчивого вним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для развития объема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произвольного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Упражнение на развитие объёма, распределения внимания «Фигурный ряд»"/>
          <p:cNvPicPr/>
          <p:nvPr/>
        </p:nvPicPr>
        <p:blipFill>
          <a:blip r:embed="rId1"/>
          <a:stretch/>
        </p:blipFill>
        <p:spPr>
          <a:xfrm>
            <a:off x="1428840" y="3429000"/>
            <a:ext cx="301932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336609_html_27748360"/>
          <p:cNvPicPr/>
          <p:nvPr/>
        </p:nvPicPr>
        <p:blipFill>
          <a:blip r:embed="rId2"/>
          <a:stretch/>
        </p:blipFill>
        <p:spPr>
          <a:xfrm>
            <a:off x="4786200" y="3714840"/>
            <a:ext cx="31622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рассматривается как способность к получению, хранению и воспроизведению жизн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oy5"/>
          <p:cNvPicPr/>
          <p:nvPr/>
        </p:nvPicPr>
        <p:blipFill>
          <a:blip r:embed="rId1">
            <a:grayscl/>
          </a:blip>
          <a:stretch/>
        </p:blipFill>
        <p:spPr>
          <a:xfrm>
            <a:off x="5834160" y="3929040"/>
            <a:ext cx="23810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азвитие зрительной пам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Развитие слухов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28  54   97   64   83  75   91   47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06" descr="http://iemcko.narod.ru/images/43061.jpg"/>
          <p:cNvPicPr/>
          <p:nvPr/>
        </p:nvPicPr>
        <p:blipFill>
          <a:blip r:embed="rId1"/>
          <a:stretch/>
        </p:blipFill>
        <p:spPr>
          <a:xfrm>
            <a:off x="2428920" y="2357280"/>
            <a:ext cx="43401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156b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 (2)"/>
          <p:cNvPicPr/>
          <p:nvPr/>
        </p:nvPicPr>
        <p:blipFill>
          <a:blip r:embed="rId1"/>
          <a:stretch/>
        </p:blipFill>
        <p:spPr>
          <a:xfrm>
            <a:off x="755640" y="2421000"/>
            <a:ext cx="2232000" cy="33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 (1)"/>
          <p:cNvPicPr/>
          <p:nvPr/>
        </p:nvPicPr>
        <p:blipFill>
          <a:blip r:embed="rId2"/>
          <a:stretch/>
        </p:blipFill>
        <p:spPr>
          <a:xfrm>
            <a:off x="5651640" y="2421000"/>
            <a:ext cx="2827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ш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  рассматривается как  процесс познавательной деятельности личности, характеризующийся обобщенным и опосредованным отражением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"/>
          <p:cNvPicPr/>
          <p:nvPr/>
        </p:nvPicPr>
        <p:blipFill>
          <a:blip r:embed="rId1"/>
          <a:stretch/>
        </p:blipFill>
        <p:spPr>
          <a:xfrm>
            <a:off x="6372360" y="4653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Классифик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,    84,   75,   22,   13,   11,   44, 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,    84,   51,   61,   82,   71,   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    61,   57,   34,   81,   64, 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,    84,   30,   61,   35,   89,   32,  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Исключение лиш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1/3; 4/6; 16/13; 5/6; -8/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елимое; частное; плюс; деление; дел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ямоугольник; треугольник; ромб; квадрат; параллел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3366ff"/>
                </a:solidFill>
                <a:latin typeface="Times New Roman"/>
              </a:rPr>
              <a:t>Умение выделять существенные признаки математических понятий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геометрия (фигура, точка, свойства, уравнение, теорем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треугольник (вершина, катет, сторона, центр, перпендикуляр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ериметр (разность, сторона, сумма, фигура, прямоугольни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дробь (делимое, числитель, частное, знаменатель, произведе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Восприя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сновной познавательный процесс чувственного отражения действительности, её предметов и явлений при их непосредственном воздействии на органы чувств. Восприятие является основой мышления и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age012"/>
          <p:cNvPicPr/>
          <p:nvPr/>
        </p:nvPicPr>
        <p:blipFill>
          <a:blip r:embed="rId1"/>
          <a:stretch/>
        </p:blipFill>
        <p:spPr>
          <a:xfrm>
            <a:off x="7072200" y="4979880"/>
            <a:ext cx="17510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Times New Roman"/>
              </a:rPr>
              <a:t>Развитие логического мыш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95640" y="2397240"/>
            <a:ext cx="4248000" cy="117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700360" y="3924360"/>
            <a:ext cx="1792440" cy="16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1376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85359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логом  успеха педагогов  в работе с детьми с ОВЗ может быть только знание потенциальных возможностей каждого ребенка и индивидуальный подход к воспитанию и обучению эт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E03254_"/>
          <p:cNvPicPr/>
          <p:nvPr/>
        </p:nvPicPr>
        <p:blipFill>
          <a:blip r:embed="rId1"/>
          <a:stretch/>
        </p:blipFill>
        <p:spPr>
          <a:xfrm>
            <a:off x="2987640" y="3429000"/>
            <a:ext cx="4917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Упражнения для тренировки и развития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336609_html_7abec308"/>
          <p:cNvPicPr/>
          <p:nvPr/>
        </p:nvPicPr>
        <p:blipFill>
          <a:blip r:embed="rId1"/>
          <a:stretch/>
        </p:blipFill>
        <p:spPr>
          <a:xfrm>
            <a:off x="4714920" y="3071880"/>
            <a:ext cx="3713040" cy="253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336609_html_75a7b842"/>
          <p:cNvPicPr/>
          <p:nvPr/>
        </p:nvPicPr>
        <p:blipFill>
          <a:blip r:embed="rId2"/>
          <a:stretch/>
        </p:blipFill>
        <p:spPr>
          <a:xfrm>
            <a:off x="1143000" y="2908440"/>
            <a:ext cx="3286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Восприятие величины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336609_html_m2ca40925"/>
          <p:cNvPicPr/>
          <p:nvPr/>
        </p:nvPicPr>
        <p:blipFill>
          <a:blip r:embed="rId1"/>
          <a:stretch/>
        </p:blipFill>
        <p:spPr>
          <a:xfrm>
            <a:off x="1709640" y="3286080"/>
            <a:ext cx="6303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Развитие объема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336609_html_m1cd3fb31"/>
          <p:cNvPicPr/>
          <p:nvPr/>
        </p:nvPicPr>
        <p:blipFill>
          <a:blip r:embed="rId1"/>
          <a:stretch/>
        </p:blipFill>
        <p:spPr>
          <a:xfrm>
            <a:off x="2124000" y="2349360"/>
            <a:ext cx="5205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збирательность восприятия наглядно выявляется в феномене выделения фигуры из 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cognitivist.ru/lizard/footage/yh3_03.png"/>
          <p:cNvPicPr/>
          <p:nvPr/>
        </p:nvPicPr>
        <p:blipFill>
          <a:blip r:embed="rId1"/>
          <a:stretch/>
        </p:blipFill>
        <p:spPr>
          <a:xfrm>
            <a:off x="787320" y="3000240"/>
            <a:ext cx="71424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Упражнения по развитию целостности визуального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emcko.narod.ru/images/43018.jpg"/>
          <p:cNvPicPr/>
          <p:nvPr/>
        </p:nvPicPr>
        <p:blipFill>
          <a:blip r:embed="rId1"/>
          <a:stretch/>
        </p:blipFill>
        <p:spPr>
          <a:xfrm>
            <a:off x="642960" y="2286000"/>
            <a:ext cx="41432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Разрезная картинка 2"/>
          <p:cNvPicPr/>
          <p:nvPr/>
        </p:nvPicPr>
        <p:blipFill>
          <a:blip r:embed="rId2"/>
          <a:stretch/>
        </p:blipFill>
        <p:spPr>
          <a:xfrm>
            <a:off x="5500800" y="2357280"/>
            <a:ext cx="2724120" cy="1862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Разрезная картинка 1"/>
          <p:cNvPicPr/>
          <p:nvPr/>
        </p:nvPicPr>
        <p:blipFill>
          <a:blip r:embed="rId3"/>
          <a:stretch/>
        </p:blipFill>
        <p:spPr>
          <a:xfrm>
            <a:off x="5545080" y="4357800"/>
            <a:ext cx="2738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звитие дифференцированности зрительных восприят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7" descr="http://iemcko.narod.ru/images/43017.jpg"/>
          <p:cNvPicPr/>
          <p:nvPr/>
        </p:nvPicPr>
        <p:blipFill>
          <a:blip r:embed="rId1"/>
          <a:stretch/>
        </p:blipFill>
        <p:spPr>
          <a:xfrm>
            <a:off x="2643120" y="3143160"/>
            <a:ext cx="37483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Times New Roman"/>
              </a:rPr>
              <a:t>Развитие восприятия временн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зать бумагу ножницами на полоск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м шир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исовать геометрические фиг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3:27:57Z</dcterms:created>
  <dc:creator>school</dc:creator>
  <dc:description/>
  <dc:language>en-US</dc:language>
  <cp:lastModifiedBy>User</cp:lastModifiedBy>
  <dcterms:modified xsi:type="dcterms:W3CDTF">2013-04-17T13:18:13Z</dcterms:modified>
  <cp:revision>6</cp:revision>
  <dc:subject/>
  <dc:title>Коррекция познавательных функций учащихся с ОВЗ  на уроках математики в играх и упражнениях. </dc:title>
</cp:coreProperties>
</file>