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4AC-A411-430B-A20C-B8CE9473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F4E-A61F-412E-8008-82BAA1F3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1C1-9C82-4C72-9502-DCB21073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146-AC95-49AB-836D-39AC8941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2632-2C52-428D-A348-3750994E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D619-12A5-4DA5-BF00-6163F6DF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4A25-1BD6-48EA-A1F9-B5F7385C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53E8-1F71-4B3C-86F4-6E6E2EF9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9A11-5ACC-4FBA-8033-710A6EEE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AE48-5C7A-45D7-A041-85A4F493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841B-13BD-4421-87F3-7E07CF90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15E-9B0D-491A-95A6-F2A69FF8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810F-FB4A-4DDC-AF08-37EF2311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2780-2BED-46EB-94CA-2AEAEB62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95F6-36F7-4A83-90B1-189BA92A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EE2B-1C13-4A58-8146-261E5A19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E554-D9DF-4F1B-86D5-B0392992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5C23-088E-4ECB-AB56-03C4BF2C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AA3-0C16-4CF0-BBBF-1B5BB121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58F1-280B-40A4-99EC-1D08635F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251-2446-41CA-9C75-6CF98A9E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81A-9166-40E2-B92F-1C471001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C32-02F2-46E6-B60A-764AAD6D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0C3B-B34A-4BDA-96CF-83DB8538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B2B6-7706-4B7C-A810-FBF51DB81AA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0002-1318-4CF4-BB35-9C80010A91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атематика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28520" y="756720"/>
            <a:ext cx="6630480" cy="2443320"/>
            <a:chOff x="1028520" y="756720"/>
            <a:chExt cx="6630480" cy="2443320"/>
          </a:xfrm>
        </p:grpSpPr>
        <p:sp>
          <p:nvSpPr>
            <p:cNvPr id="155" name=""/>
            <p:cNvSpPr/>
            <p:nvPr/>
          </p:nvSpPr>
          <p:spPr>
            <a:xfrm>
              <a:off x="1028520" y="2259360"/>
              <a:ext cx="66294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28520" y="1695240"/>
              <a:ext cx="10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657920" y="1695240"/>
              <a:ext cx="10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28520" y="3011760"/>
              <a:ext cx="6629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29280" y="1506960"/>
              <a:ext cx="1080" cy="94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429360" y="1695240"/>
              <a:ext cx="6847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43400" y="1695240"/>
              <a:ext cx="6858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360" y="756720"/>
              <a:ext cx="683640" cy="55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 км/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29280" y="756720"/>
              <a:ext cx="683280" cy="5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0 км/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6560" y="2635920"/>
              <a:ext cx="683280" cy="56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40 к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143000" y="4008240"/>
            <a:ext cx="6630480" cy="2315880"/>
            <a:chOff x="1143000" y="4008240"/>
            <a:chExt cx="6630480" cy="2315880"/>
          </a:xfrm>
        </p:grpSpPr>
        <p:sp>
          <p:nvSpPr>
            <p:cNvPr id="166" name=""/>
            <p:cNvSpPr/>
            <p:nvPr/>
          </p:nvSpPr>
          <p:spPr>
            <a:xfrm>
              <a:off x="1143000" y="5358240"/>
              <a:ext cx="66297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43000" y="4778640"/>
              <a:ext cx="1080" cy="11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7772400" y="4778640"/>
              <a:ext cx="1080" cy="11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3000" y="6130800"/>
              <a:ext cx="6629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43760" y="4585320"/>
              <a:ext cx="1080" cy="96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6972480" y="4778640"/>
              <a:ext cx="6847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56760" y="4778640"/>
              <a:ext cx="6858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56760" y="4008240"/>
              <a:ext cx="683280" cy="57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 км/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72480" y="4008240"/>
              <a:ext cx="683280" cy="57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0 км/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00680" y="5744880"/>
              <a:ext cx="683280" cy="57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40 к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43760" y="4585320"/>
              <a:ext cx="227520" cy="38628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Счет и вычисления – основа порядка в голове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Что узнали? Чему научились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6960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з, два, три, четыре пять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се умеем мы считать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з! Подняться подтянуться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ва! Согнуться, разогнуться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ри! В ладоши три хлопка, Головою три кивк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 четыре – руки шире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ять – руками помахать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Рефлекси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 Чем мы занимались сегодня на уроке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 Что для вас было трудным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533520" y="7772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8T11:21:00Z</dcterms:created>
  <dc:creator>ЯЯЯЯЯЯЯЯЯЯЯЯЯЯЯЯЯЯЯ</dc:creator>
  <dc:description/>
  <dc:language>en-US</dc:language>
  <cp:lastModifiedBy>User</cp:lastModifiedBy>
  <dcterms:modified xsi:type="dcterms:W3CDTF">2017-03-18T12:10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