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18F0-DB1E-48F2-851A-20EEDCEC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2A8C-E35F-4E82-B7BA-2934B8C5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01A7-C243-4C4C-9D6A-09D73DC5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7A59-FBE2-43E9-8BE5-39DE63BB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7B47-542D-4734-A000-FADE4996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6897-39B2-4600-AA97-1DC49F8C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DA43-FD68-425A-9947-0C5BA4AE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567A-BA6B-4013-9E41-1463648F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9850-CE9C-437C-8BC9-5F8C3D24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04F4-D5E8-442D-9371-DC06E8D0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35B2-5281-4E29-A274-472A7686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94CB-A9A7-430B-9439-0AD32B05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C02E-9922-48EB-B24C-2E48DB56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0AD8-8EED-4943-B4D1-FE5E9A8E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DC23-A19D-48D9-9C84-3A2AA700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C2BA-4459-43D0-A862-96D1814D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0EF0-479A-4F8D-BC43-7A37C991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59FB-F358-4B4C-8817-943A7C93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0985-21D2-4760-9B9D-EE2EBB3D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6D63-3BAC-42EF-B76D-E7FE4050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3537-011E-479E-865A-F9A814B7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7B92-0DAD-4286-A36A-AD4035D1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C430-C04F-45F7-8885-65D3F0CF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8B8A-37E1-4AF4-9FDF-766D6260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D139-0E46-46D4-BAF6-AE1A465645A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7F5A-D31B-448B-83E3-5CD06B1E908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Математика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28520" y="756720"/>
            <a:ext cx="6630480" cy="2443320"/>
            <a:chOff x="1028520" y="756720"/>
            <a:chExt cx="6630480" cy="2443320"/>
          </a:xfrm>
        </p:grpSpPr>
        <p:sp>
          <p:nvSpPr>
            <p:cNvPr id="155" name=""/>
            <p:cNvSpPr/>
            <p:nvPr/>
          </p:nvSpPr>
          <p:spPr>
            <a:xfrm>
              <a:off x="1028520" y="2259360"/>
              <a:ext cx="662940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28520" y="1695240"/>
              <a:ext cx="1080" cy="11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7657920" y="1695240"/>
              <a:ext cx="1080" cy="11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28520" y="3011760"/>
              <a:ext cx="6629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29280" y="1506960"/>
              <a:ext cx="1080" cy="94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429360" y="1695240"/>
              <a:ext cx="6847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43400" y="1695240"/>
              <a:ext cx="68580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360" y="756720"/>
              <a:ext cx="683640" cy="55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0 км/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29280" y="756720"/>
              <a:ext cx="683280" cy="5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0 км/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86560" y="2635920"/>
              <a:ext cx="683280" cy="56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40 к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143000" y="4008240"/>
            <a:ext cx="6630480" cy="2315880"/>
            <a:chOff x="1143000" y="4008240"/>
            <a:chExt cx="6630480" cy="2315880"/>
          </a:xfrm>
        </p:grpSpPr>
        <p:sp>
          <p:nvSpPr>
            <p:cNvPr id="166" name=""/>
            <p:cNvSpPr/>
            <p:nvPr/>
          </p:nvSpPr>
          <p:spPr>
            <a:xfrm>
              <a:off x="1143000" y="5358240"/>
              <a:ext cx="662976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43000" y="4778640"/>
              <a:ext cx="1080" cy="11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7772400" y="4778640"/>
              <a:ext cx="1080" cy="11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43000" y="6130800"/>
              <a:ext cx="6629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43760" y="4585320"/>
              <a:ext cx="1080" cy="96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6972480" y="4778640"/>
              <a:ext cx="6847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56760" y="4778640"/>
              <a:ext cx="68580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56760" y="4008240"/>
              <a:ext cx="683280" cy="57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0 км/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72480" y="4008240"/>
              <a:ext cx="683280" cy="57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0 км/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00680" y="5744880"/>
              <a:ext cx="683280" cy="57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40 к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43760" y="4585320"/>
              <a:ext cx="227520" cy="386280"/>
            </a:xfrm>
            <a:prstGeom prst="flowChartPunchedTap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Счет и вычисления – основа порядка в голове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Что узнали? Чему научились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6960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аз, два, три, четыре пять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се умеем мы считать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аз! Подняться подтянуться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ва! Согнуться, разогнуться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ри! В ладоши три хлопка, Головою три кивка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а четыре – руки шире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ять – руками помахать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Рефлексия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 Чем мы занимались сегодня на уроке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 Что для вас было трудным?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-533520" y="7772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8T11:21:00Z</dcterms:created>
  <dc:creator>ЯЯЯЯЯЯЯЯЯЯЯЯЯЯЯЯЯЯЯ</dc:creator>
  <dc:description/>
  <dc:language>en-US</dc:language>
  <cp:lastModifiedBy>User</cp:lastModifiedBy>
  <dcterms:modified xsi:type="dcterms:W3CDTF">2017-03-18T12:10:5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