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7ABA-CE13-4CCC-A606-5D821F9705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05CB-A0B7-4E69-96D8-FCC17955F1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0A6-94CB-4A22-BA68-467AE9A535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B9B-9366-4C38-AA38-291659FA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697-51CC-4DF3-8FD0-54938B9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586-7626-4B2E-8896-F0985858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C85-E8F8-4F27-956B-1729EA2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B4BB8-2EE9-44B3-9A69-02F7E6FA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6731B-3FAD-4490-8C66-172778DD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4A1EF-2158-42C4-964A-A7244128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E598-2A09-477F-ABAB-D42A9820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1A777-67F7-4539-9604-04CFEDA5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7E4DF-6CB9-443E-84A5-EA1FCB2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A486-1DB0-4063-AB99-CD3EE783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E72-EA08-4E34-A05A-C687BEEC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8C273-A2B4-4EEA-8B44-D889DC7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1024-5346-47FB-9054-9316AFD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FC0C5-DF8E-4A11-956E-D0A876CD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D3CE-F7F4-4EC3-AADF-F239154A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5D691-D846-40FE-9A32-05A6DC1D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5A3-9EC2-4918-BA78-D09B7FAB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1A7-2C22-45DA-8CB6-A44BAC3B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6C5-80AE-4AAB-A2EB-31DCBC23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A1-786B-43C8-A9D9-579E3DD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5E1-71EF-40FC-9934-DDF571C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F87-0F13-41F2-A4B2-0411679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3A2-65B4-42C9-8902-DD1EACC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D171-96E0-45F8-B4F4-267B51B23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04B-2B25-49E6-B0EA-A7A99B0233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656/47656156_i211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656/47656156_i211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1280" y="404640"/>
            <a:ext cx="511344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141"/>
                </a:solidFill>
                <a:latin typeface="Monotype Corsiva"/>
              </a:rPr>
              <a:t>Матлахова  Наталья  Геннадиевна</a:t>
            </a:r>
            <a:endParaRPr b="0" lang="en-US" sz="32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55964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Методы и приемы развития связной речи дошкольник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февраль 2015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5" descr="47656156_i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47656156_i211"/>
          <p:cNvPicPr/>
          <p:nvPr/>
        </p:nvPicPr>
        <p:blipFill>
          <a:blip r:embed="rId1"/>
          <a:stretch/>
        </p:blipFill>
        <p:spPr>
          <a:xfrm>
            <a:off x="1547640" y="23760"/>
            <a:ext cx="54723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618640" y="396360"/>
            <a:ext cx="5644440" cy="116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ОСНОВНЫЕ МЕТОДЫ РАЗВИТИЯ</a:t>
            </a:r>
            <a:br>
              <a:rPr sz="2800"/>
            </a:b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51760" y="1941120"/>
            <a:ext cx="3045240" cy="46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Наглядные</a:t>
            </a: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5580000" y="1916280"/>
            <a:ext cx="2890800" cy="515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Словесные</a:t>
            </a: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9" descr="47656156_i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"/>
          <p:cNvSpPr/>
          <p:nvPr/>
        </p:nvSpPr>
        <p:spPr>
          <a:xfrm>
            <a:off x="684360" y="2637000"/>
            <a:ext cx="3528720" cy="3816360"/>
          </a:xfrm>
          <a:custGeom>
            <a:avLst/>
            <a:gdLst>
              <a:gd name="textAreaLeft" fmla="*/ 172080 w 3528720"/>
              <a:gd name="textAreaRight" fmla="*/ 3356640 w 352872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1">
                <a:moveTo>
                  <a:pt x="3600" y="0"/>
                </a:moveTo>
                <a:arcTo wR="3600" hR="3600" stAng="16200000" swAng="-5400000"/>
                <a:lnTo>
                  <a:pt x="0" y="19761"/>
                </a:lnTo>
                <a:arcTo wR="3600" hR="3600" stAng="10800000" swAng="-5400000"/>
                <a:lnTo>
                  <a:pt x="18000" y="23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</a:t>
            </a:r>
            <a:r>
              <a:rPr b="1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наблюдения во время прогулок, экскурс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рассматривание конкретного объекта и наблюдение за ним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знакомство с объектом опосредованным путем, т.е. посредством фотографий, картин, картинок, кинофильмов</a:t>
            </a:r>
            <a:r>
              <a:rPr b="0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5364000" y="2708280"/>
            <a:ext cx="3311640" cy="22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</a:t>
            </a:r>
            <a:r>
              <a:rPr b="1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заучивание наизусть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пересказ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составление различных видов рассказов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беседы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8160" y="327240"/>
            <a:ext cx="6248880" cy="124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ПРИЕМЫ РАЗВИТИЯ</a:t>
            </a:r>
            <a:br>
              <a:rPr sz="2800"/>
            </a:b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0" name="Picture 5" descr="47656156_i211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1200" y="4192560"/>
            <a:ext cx="2504880" cy="2144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84000"/>
          </a:bodyPr>
          <a:p>
            <a:pPr marL="288000" indent="-288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Словес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- речевой образ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пов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11280" y="1844640"/>
            <a:ext cx="4319640" cy="216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Наглядные</a:t>
            </a:r>
            <a:r>
              <a:rPr b="1" lang="ru-RU" sz="28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</a:t>
            </a:r>
            <a:r>
              <a:rPr b="0" lang="ru-RU" sz="2200" spc="-1" strike="noStrike">
                <a:solidFill>
                  <a:srgbClr val="881f02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организация наблюд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 демонстрация иллюстраций, картин, предмета, макета и т.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 просмотр видеофильмов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5796000" y="1773360"/>
            <a:ext cx="3097080" cy="396072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960720"/>
              <a:gd name="textAreaBottom" fmla="*/ 3809520 h 3960720"/>
            </a:gdLst>
            <a:ahLst/>
            <a:rect l="textAreaLeft" t="textAreaTop" r="textAreaRight" b="textAreaBottom"/>
            <a:pathLst>
              <a:path w="21600" h="27623">
                <a:moveTo>
                  <a:pt x="3600" y="0"/>
                </a:moveTo>
                <a:arcTo wR="3600" hR="3600" stAng="16200000" swAng="-5400000"/>
                <a:lnTo>
                  <a:pt x="0" y="24023"/>
                </a:lnTo>
                <a:arcTo wR="3600" hR="3600" stAng="10800000" swAng="-5400000"/>
                <a:lnTo>
                  <a:pt x="18000" y="27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Игр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дидактические игры-упражн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театрализованные иг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сюжетно-ролевые иг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и др. виды игр с речевым содержание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276720" y="4292640"/>
            <a:ext cx="2303280" cy="230508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305080"/>
              <a:gd name="textAreaBottom" fmla="*/ 2192760 h 2305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Косв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1f02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подска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со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испр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реп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5280" y="291960"/>
            <a:ext cx="649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РИЕМ «ИЗОСКАЗКА»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Активизирует  связную речь детей, формирует  творческие способности воспита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Способствует взаимодействию сразу трех видов памяти: тактильной, слуховой и зритель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Повышает  интерес детей к рассказыванию сказки, слепленной или нарисованной своими ру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Развивает мелкую мотор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47656156_i211"/>
          <p:cNvPicPr/>
          <p:nvPr/>
        </p:nvPicPr>
        <p:blipFill>
          <a:blip r:embed="rId1"/>
          <a:stretch/>
        </p:blipFill>
        <p:spPr>
          <a:xfrm>
            <a:off x="611280" y="40464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700000" y="291960"/>
            <a:ext cx="598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81f02"/>
                </a:solidFill>
                <a:latin typeface="Tahoma"/>
              </a:rPr>
              <a:t>Нетрадиционные методы и приемы развития 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10" name="Picture 4" descr="47656156_i211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8"/>
          <p:cNvSpPr/>
          <p:nvPr/>
        </p:nvSpPr>
        <p:spPr>
          <a:xfrm>
            <a:off x="539640" y="1916280"/>
            <a:ext cx="8064720" cy="410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НЕМОНИКА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(НАГЛЯДНОЕ МОДЕЛИРОВАНИЕ)</a:t>
            </a:r>
            <a:br>
              <a:rPr sz="28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пересказ;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составление рассказов по картине и серии картин ;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описательный рассказ;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творческий расска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520" y="260280"/>
            <a:ext cx="8034120" cy="13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Мнемотехника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технология развития памяти, совокупность правил и приемов, облегчающих запоминание, история которой насчитывает более 2500 лет.</a:t>
            </a:r>
            <a:endParaRPr b="0" lang="en-US" sz="2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727200" y="3573360"/>
            <a:ext cx="58039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Искусство запоминания названо словом «mnemonikon» по имени древнегреческой богини памяти, Мнемозины – матери девяти муз. Первые сохранившиеся работы по мнемотехнике датируются примерно 86-82 гг. до н.э., и принадлежат перу Цицерона и </a:t>
            </a:r>
            <a:r>
              <a:rPr b="1" i="1" lang="ru-RU" sz="1800" spc="-1" strike="noStrike">
                <a:solidFill>
                  <a:srgbClr val="00b050"/>
                </a:solidFill>
                <a:latin typeface="Book Antiqua"/>
              </a:rPr>
              <a:t>Квинтиллиона</a:t>
            </a:r>
            <a:r>
              <a:rPr b="1" i="1" lang="ru-RU" sz="1400" spc="-1" strike="noStrike">
                <a:solidFill>
                  <a:srgbClr val="00b050"/>
                </a:solidFill>
                <a:latin typeface="Book Antiqua"/>
              </a:rPr>
              <a:t>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razvivaysa.com/wp-content/uploads/2012/01/%D0%BC%D0%BD%D0%B5%D0%BC%D0%BE%D1%82%D0%B5%D1%85%D0%BD%D0%B8%D0%BA%D0%B0.png"/>
          <p:cNvPicPr/>
          <p:nvPr/>
        </p:nvPicPr>
        <p:blipFill>
          <a:blip r:embed="rId1"/>
          <a:stretch/>
        </p:blipFill>
        <p:spPr>
          <a:xfrm>
            <a:off x="4370400" y="1467000"/>
            <a:ext cx="4392720" cy="187308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Прямоугольник 2"/>
          <p:cNvSpPr/>
          <p:nvPr/>
        </p:nvSpPr>
        <p:spPr>
          <a:xfrm>
            <a:off x="790560" y="1741320"/>
            <a:ext cx="359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Понятие «Мнемотехника»  происходит от греческого «mnemonikon» – искусство запомин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660240" y="3068640"/>
            <a:ext cx="41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Считается, что это слово придумал Пифагор Самос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(6 век до н.э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http://socrates.berkeley.edu/~kihlstrm/images/mnemosyne.jpg"/>
          <p:cNvPicPr/>
          <p:nvPr/>
        </p:nvPicPr>
        <p:blipFill>
          <a:blip r:embed="rId2"/>
          <a:stretch/>
        </p:blipFill>
        <p:spPr>
          <a:xfrm>
            <a:off x="6732720" y="3486240"/>
            <a:ext cx="1726920" cy="29430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758520" y="4841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95280" y="411120"/>
            <a:ext cx="8513640" cy="6067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-566640"/>
            <a:ext cx="80643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69099"/>
                </a:solidFill>
                <a:latin typeface="Bookman Old Style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769099"/>
                </a:solidFill>
                <a:latin typeface="Bookman Old Style"/>
              </a:rPr>
              <a:t>Структура мнемотехники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1" descr="47656156_i211"/>
          <p:cNvPicPr/>
          <p:nvPr/>
        </p:nvPicPr>
        <p:blipFill>
          <a:blip r:embed="rId1"/>
          <a:stretch/>
        </p:blipFill>
        <p:spPr>
          <a:xfrm rot="19898400">
            <a:off x="611280" y="429264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380880" y="2700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175600" cy="292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2916360" y="3794040"/>
            <a:ext cx="36082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2" descr="47656156_i211"/>
          <p:cNvPicPr/>
          <p:nvPr/>
        </p:nvPicPr>
        <p:blipFill>
          <a:blip r:embed="rId1"/>
          <a:stretch/>
        </p:blipFill>
        <p:spPr>
          <a:xfrm rot="19898400">
            <a:off x="899640" y="450828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34960" y="115920"/>
            <a:ext cx="8072640" cy="27496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646200" y="2949480"/>
            <a:ext cx="7921440" cy="1191240"/>
          </a:xfrm>
          <a:prstGeom prst="rect">
            <a:avLst/>
          </a:prstGeom>
          <a:gradFill rotWithShape="0">
            <a:gsLst>
              <a:gs pos="0">
                <a:srgbClr val="cfe0aa"/>
              </a:gs>
              <a:gs pos="100000">
                <a:srgbClr val="f2f7e8"/>
              </a:gs>
            </a:gsLst>
            <a:lin ang="16200000"/>
          </a:gradFill>
          <a:ln w="9360">
            <a:solidFill>
              <a:srgbClr val="6e84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Bookman Old Style"/>
              </a:rPr>
              <a:t>Для изготовления таблиц не требуются художественные способности, любой педагог в состоянии нарисовать подобные символические изображения предметов и объектов к выбранному расска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646200" y="4379760"/>
            <a:ext cx="80470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2:28:15Z</dcterms:created>
  <dc:creator>я</dc:creator>
  <dc:description/>
  <dc:language>en-US</dc:language>
  <cp:lastModifiedBy>LG</cp:lastModifiedBy>
  <dcterms:modified xsi:type="dcterms:W3CDTF">2015-02-11T08:10:54Z</dcterms:modified>
  <cp:revision>46</cp:revision>
  <dc:subject/>
  <dc:title>Слайд 1</dc:title>
</cp:coreProperties>
</file>