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3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03B-B80E-4C97-9FA3-401A241B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8E97-9B78-4DD7-B1D3-D29792E2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F8E-F8BB-49CD-AC88-0EDB2649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2F65-0636-4303-B00D-0A9342AC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2E6-88D3-4564-9DF3-57C78AFC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4893-9D0C-49C6-8372-4DA043CE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045C-FD46-410A-B40F-80E5C160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27B-56C2-4EC9-995C-612D0574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098-5926-414E-9239-D729085F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E171-F439-4B3D-9B8E-790B4999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65D-66EA-477F-8330-11BB91CC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E377-33E6-42B6-B4EB-31D76FB7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829C-AFF3-4F5B-8F87-3031A7F2E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s://ru.wikipedia.org/wiki/&#1050;&#1072;&#1088;&#1090;&#1080;&#1085;&#1072;" TargetMode="External"/><Relationship Id="rId4" Type="http://schemas.openxmlformats.org/officeDocument/2006/relationships/hyperlink" Target="https://ru.wikipedia.org/wiki/&#1055;&#1080;&#1082;&#1072;&#1089;&#1089;&#1086;,_&#1055;&#1072;&#1073;&#1083;&#1086;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60;&#1083;&#1102;&#1086;&#1088;&#1080;&#1090;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_RewinderDemiSh"/>
              </a:rPr>
              <a:t>Многогранники и их основные св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71280" y="3500280"/>
            <a:ext cx="7715160" cy="2625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0920" y="1916280"/>
            <a:ext cx="85690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51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ногогранники в архитек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66680" y="80028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868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рдаки судьбы. 2006. Япония, Мита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68360" y="1413000"/>
            <a:ext cx="3981240" cy="4681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572000" y="1413000"/>
            <a:ext cx="410364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ногогранники в искус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Девочка на шаре» — 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картин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абло Пикассо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написанная в 1905 г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Picasso01.jpg"/>
          <p:cNvPicPr/>
          <p:nvPr/>
        </p:nvPicPr>
        <p:blipFill>
          <a:blip r:embed="rId5"/>
          <a:stretch/>
        </p:blipFill>
        <p:spPr>
          <a:xfrm>
            <a:off x="468360" y="1197000"/>
            <a:ext cx="403236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ногогранники в искус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64832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гранник, у которого две грани – равные многоугольники с соответственно параллельными сторонами (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снован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измы),а все остальные грани (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боков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пересекаются по параллельным прям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4324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868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7056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гранник – тело, ограниченное плоскими многоуголь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55520" y="1557360"/>
            <a:ext cx="4345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лементы многогран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5280" y="1341000"/>
            <a:ext cx="4038480" cy="4824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0" y="1341000"/>
            <a:ext cx="3967200" cy="4824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68360" y="1484280"/>
            <a:ext cx="401940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716360" y="1484280"/>
            <a:ext cx="34671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ни, имеющие общее ребро, называются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меж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ороны многоугольника называются 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межным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если они прилегают к одной верш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979640" y="1268280"/>
            <a:ext cx="5497560" cy="2952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95280" y="3860640"/>
            <a:ext cx="3384720" cy="2376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156360" y="3213000"/>
            <a:ext cx="23810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76360" y="259920"/>
            <a:ext cx="36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езок, соединяющий две вершины многогранника, не принадлежащие одной грани, называется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диагональю многогран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4752720" cy="3638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3995640" y="3498840"/>
            <a:ext cx="514836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323280" cy="70344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0" y="620640"/>
            <a:ext cx="4740120" cy="6093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4716360" y="620640"/>
            <a:ext cx="4608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ногогранники в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исталлы – тела, имеющие многогранную фор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таэдр 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флюорит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643280" y="1341360"/>
            <a:ext cx="41054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ногогранники в прир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аренная соль состоит из красталлов в форме куб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аренная соль состоит из кристаллов в форме куб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0323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2T18:20:20Z</dcterms:created>
  <dc:creator>Paradise</dc:creator>
  <dc:description/>
  <dc:language>en-US</dc:language>
  <cp:lastModifiedBy>Paradise</cp:lastModifiedBy>
  <dcterms:modified xsi:type="dcterms:W3CDTF">2016-03-22T22:30:29Z</dcterms:modified>
  <cp:revision>5</cp:revision>
  <dc:subject/>
  <dc:title> Многогранники и их основные свойства</dc:title>
</cp:coreProperties>
</file>